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pperplate"/>
              </a:rPr>
              <a:t>Click to move the slide</a:t>
            </a:r>
            <a:endParaRPr b="1" lang="en-US" sz="36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91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4"/>
          </p:nvPr>
        </p:nvSpPr>
        <p:spPr>
          <a:xfrm>
            <a:off x="3779640" y="-360"/>
            <a:ext cx="2889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0" y="932940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779640" y="9329400"/>
            <a:ext cx="2889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9347-BC20-4CBF-A68E-67F051AD9FE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91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rupo Mañana 10-11-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rupo Tarde 10-11-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9E0-D3F5-49CF-9054-D6E98761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9520" y="3885840"/>
            <a:ext cx="8250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989-34BF-4FC8-AF3D-DFF44DC1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52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700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8F1-5AAB-44B3-A753-869CD149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9160" y="121896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8800" y="121896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9520" y="388584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9160" y="388584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8800" y="388584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A34-1A17-4A7A-8439-F4ED7D8A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66640" y="-360"/>
            <a:ext cx="70819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952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5D4-AC85-4880-9E41-0421DEAB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700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520" y="3885840"/>
            <a:ext cx="8250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9520" y="3885840"/>
            <a:ext cx="8250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52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700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59160" y="121896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48800" y="121896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9520" y="388584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59160" y="388584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48800" y="388584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7D0-0747-44CF-A6C6-0346B3EE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CBDC-98A2-47AE-832C-FFC735AA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CBA-35D1-45C3-9B19-4537F112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66640" y="-360"/>
            <a:ext cx="70819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2D7-09DA-498D-9431-FB3B093A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952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427-32E1-4C61-886E-8D9F6F73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700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408-4646-46DB-B63C-05CB9363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9520" y="3885840"/>
            <a:ext cx="8250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3729-7EFC-4538-9AFD-1D84CC35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93600"/>
            <a:ext cx="554040" cy="586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965160"/>
            <a:ext cx="9144000" cy="63720"/>
          </a:xfrm>
          <a:prstGeom prst="rect">
            <a:avLst/>
          </a:prstGeom>
          <a:gradFill rotWithShape="0">
            <a:gsLst>
              <a:gs pos="0">
                <a:srgbClr val="a22e00"/>
              </a:gs>
              <a:gs pos="100000">
                <a:srgbClr val="d397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191120" y="0"/>
            <a:ext cx="49528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af999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f999b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486400" y="6477120"/>
            <a:ext cx="26668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af999b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f999b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3280" y="6477120"/>
            <a:ext cx="99072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af999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4CDB-BFD4-496E-AD65-978B5370DA63}" type="slidenum">
              <a:rPr b="1" lang="es-ES" sz="1200" spc="-1" strike="noStrike">
                <a:solidFill>
                  <a:srgbClr val="af999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546120" cy="519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68686"/>
            </a:outerShdw>
          </a:effectLst>
        </p:spPr>
      </p:pic>
      <p:sp>
        <p:nvSpPr>
          <p:cNvPr id="8" name=""/>
          <p:cNvSpPr/>
          <p:nvPr/>
        </p:nvSpPr>
        <p:spPr>
          <a:xfrm>
            <a:off x="622440" y="6477120"/>
            <a:ext cx="48006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af999b"/>
                </a:solidFill>
                <a:latin typeface="Century Gothic"/>
              </a:rPr>
              <a:t>Departamento de Lenguajes y Ciencias de la Comput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af999b"/>
                </a:solidFill>
                <a:latin typeface="Century Gothic"/>
              </a:rPr>
              <a:t>Universidad de Mála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0" y="6332400"/>
            <a:ext cx="55404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703600"/>
            <a:ext cx="1063800" cy="415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9903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pperplate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124080"/>
            <a:ext cx="4724280" cy="15264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50000">
                <a:srgbClr val="a50021"/>
              </a:gs>
              <a:gs pos="100000">
                <a:srgbClr val="4c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3600" cy="946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68686"/>
            </a:outerShdw>
          </a:effectLst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5937120"/>
            <a:ext cx="1023840" cy="920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a5002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9903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3300"/>
                </a:solidFill>
                <a:latin typeface="Century Gothic"/>
              </a:rPr>
              <a:t>Tema 3. UML. Modelado Estructural</a:t>
            </a:r>
            <a:endParaRPr b="1" lang="en-US" sz="36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Departamento de Lenguajes y Ciencias de la 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Universidad de Mál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lases e Instancia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371600" y="2514600"/>
            <a:ext cx="2180880" cy="2157120"/>
            <a:chOff x="1371600" y="2514600"/>
            <a:chExt cx="2180880" cy="2157120"/>
          </a:xfrm>
        </p:grpSpPr>
        <p:sp>
          <p:nvSpPr>
            <p:cNvPr id="258" name=""/>
            <p:cNvSpPr/>
            <p:nvPr/>
          </p:nvSpPr>
          <p:spPr>
            <a:xfrm>
              <a:off x="1380600" y="2525760"/>
              <a:ext cx="2131560" cy="214596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18880" y="2514600"/>
              <a:ext cx="848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71600" y="3057840"/>
              <a:ext cx="214956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54400" y="3132000"/>
              <a:ext cx="1038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nom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dir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55840" y="3837600"/>
              <a:ext cx="948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compr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02920" y="3781080"/>
              <a:ext cx="214956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396040" y="2976480"/>
            <a:ext cx="2149200" cy="1376280"/>
            <a:chOff x="5396040" y="2976480"/>
            <a:chExt cx="2149200" cy="1376280"/>
          </a:xfrm>
        </p:grpSpPr>
        <p:sp>
          <p:nvSpPr>
            <p:cNvPr id="265" name=""/>
            <p:cNvSpPr/>
            <p:nvPr/>
          </p:nvSpPr>
          <p:spPr>
            <a:xfrm>
              <a:off x="5405400" y="2987640"/>
              <a:ext cx="2131920" cy="13651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14720" y="2976480"/>
              <a:ext cx="1305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868686"/>
                  </a:solidFill>
                  <a:uFillTx/>
                  <a:latin typeface="Times New Roman"/>
                </a:rPr>
                <a:t>José:Cli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96040" y="3519360"/>
              <a:ext cx="214920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80640" y="3594240"/>
              <a:ext cx="1145160" cy="3668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José Pére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397480" y="2362320"/>
            <a:ext cx="2131920" cy="519120"/>
            <a:chOff x="5397480" y="2362320"/>
            <a:chExt cx="2131920" cy="519120"/>
          </a:xfrm>
        </p:grpSpPr>
        <p:sp>
          <p:nvSpPr>
            <p:cNvPr id="270" name=""/>
            <p:cNvSpPr/>
            <p:nvPr/>
          </p:nvSpPr>
          <p:spPr>
            <a:xfrm>
              <a:off x="5397480" y="2362320"/>
              <a:ext cx="2131920" cy="5191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03720" y="2362320"/>
              <a:ext cx="911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868686"/>
                  </a:solidFill>
                  <a:uFillTx/>
                  <a:latin typeface="Times New Roman"/>
                </a:rPr>
                <a:t>:Cli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415120" y="4505400"/>
            <a:ext cx="2131920" cy="369720"/>
            <a:chOff x="5415120" y="4505400"/>
            <a:chExt cx="2131920" cy="369720"/>
          </a:xfrm>
        </p:grpSpPr>
        <p:sp>
          <p:nvSpPr>
            <p:cNvPr id="273" name=""/>
            <p:cNvSpPr/>
            <p:nvPr/>
          </p:nvSpPr>
          <p:spPr>
            <a:xfrm>
              <a:off x="5415120" y="4516560"/>
              <a:ext cx="2131920" cy="3585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27840" y="4505400"/>
              <a:ext cx="898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868686"/>
                  </a:solidFill>
                  <a:uFillTx/>
                  <a:latin typeface="Times New Roman"/>
                </a:rPr>
                <a:t>Clau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BB9-DE6A-4834-AA49-3DEDC9AD6D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9960" y="7920"/>
            <a:ext cx="637380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Atributos y Opera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510240" y="2367000"/>
            <a:ext cx="1546200" cy="1519200"/>
            <a:chOff x="6510240" y="2367000"/>
            <a:chExt cx="1546200" cy="1519200"/>
          </a:xfrm>
        </p:grpSpPr>
        <p:sp>
          <p:nvSpPr>
            <p:cNvPr id="277" name=""/>
            <p:cNvSpPr/>
            <p:nvPr/>
          </p:nvSpPr>
          <p:spPr>
            <a:xfrm>
              <a:off x="6516720" y="2374920"/>
              <a:ext cx="1511280" cy="151128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23880" y="2367000"/>
              <a:ext cx="694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Cl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10240" y="274968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69640" y="2801880"/>
              <a:ext cx="986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atribu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69280" y="3298680"/>
              <a:ext cx="1279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oper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32560" y="325908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36480" y="1979640"/>
            <a:ext cx="5256360" cy="1191240"/>
          </a:xfr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250b0"/>
                </a:solidFill>
                <a:latin typeface="Times New Roman"/>
              </a:rPr>
              <a:t>Cada atributo es único en la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250b0"/>
                </a:solidFill>
                <a:latin typeface="Times New Roman"/>
              </a:rPr>
              <a:t>Sólo datos “simples” y </a:t>
            </a:r>
            <a:r>
              <a:rPr b="1" lang="es-ES_tradnl" sz="2400" spc="-1" strike="noStrike">
                <a:solidFill>
                  <a:srgbClr val="cc3300"/>
                </a:solidFill>
                <a:latin typeface="Times New Roman"/>
              </a:rPr>
              <a:t>NO</a:t>
            </a:r>
            <a:r>
              <a:rPr b="0" lang="es-ES_tradnl" sz="2400" spc="-1" strike="noStrike">
                <a:solidFill>
                  <a:srgbClr val="cc3300"/>
                </a:solidFill>
                <a:latin typeface="Times New Roman"/>
              </a:rPr>
              <a:t> otros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250b0"/>
                </a:solidFill>
                <a:latin typeface="Times New Roman"/>
              </a:rPr>
              <a:t>Opcionalmente, tipo, valor por defect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4200" y="4354560"/>
            <a:ext cx="8115120" cy="155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03" y="1565"/>
                </a:moveTo>
                <a:lnTo>
                  <a:pt x="22424" y="1565"/>
                </a:lnTo>
                <a:lnTo>
                  <a:pt x="22424" y="-4085"/>
                </a:lnTo>
                <a:lnTo>
                  <a:pt x="20078" y="-11164"/>
                </a:lnTo>
              </a:path>
              <a:path w="21600" h="21600">
                <a:moveTo>
                  <a:pt x="21803" y="0"/>
                </a:moveTo>
                <a:lnTo>
                  <a:pt x="21803" y="21600"/>
                </a:lnTo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250b0"/>
                </a:solidFill>
                <a:latin typeface="Times New Roman"/>
              </a:rPr>
              <a:t>Funciones o proced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250b0"/>
                </a:solidFill>
                <a:latin typeface="Times New Roman"/>
              </a:rPr>
              <a:t>Cada operación tiene un objeto destino implíc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250b0"/>
                </a:solidFill>
                <a:latin typeface="Times New Roman"/>
              </a:rPr>
              <a:t>Se puede aplicar la misma operación a clas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250b0"/>
                </a:solidFill>
                <a:latin typeface="Times New Roman"/>
              </a:rPr>
              <a:t>Opcionalmente, lista de argumentos y tipo devuelto (no omiti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B3E2-9983-4855-A047-9F86B18A2F6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1450800" y="1582560"/>
            <a:ext cx="2744280" cy="1770120"/>
            <a:chOff x="1450800" y="1582560"/>
            <a:chExt cx="2744280" cy="1770120"/>
          </a:xfrm>
        </p:grpSpPr>
        <p:sp>
          <p:nvSpPr>
            <p:cNvPr id="286" name=""/>
            <p:cNvSpPr/>
            <p:nvPr/>
          </p:nvSpPr>
          <p:spPr>
            <a:xfrm>
              <a:off x="1465560" y="1582560"/>
              <a:ext cx="2714040" cy="17701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71320" y="1582560"/>
              <a:ext cx="71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Pu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450800" y="1949040"/>
              <a:ext cx="2719080" cy="468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96160" y="1954080"/>
              <a:ext cx="842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x: flo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y: flo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94000" y="2655720"/>
              <a:ext cx="27010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trasladar(dx:float, dy:floa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distancia(pto: Punto) : flo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77080" y="2631960"/>
              <a:ext cx="2702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422520" y="2655720"/>
            <a:ext cx="3471480" cy="1979640"/>
            <a:chOff x="3422520" y="2655720"/>
            <a:chExt cx="3471480" cy="1979640"/>
          </a:xfrm>
        </p:grpSpPr>
        <p:sp>
          <p:nvSpPr>
            <p:cNvPr id="293" name=""/>
            <p:cNvSpPr/>
            <p:nvPr/>
          </p:nvSpPr>
          <p:spPr>
            <a:xfrm flipH="1">
              <a:off x="4242600" y="2655720"/>
              <a:ext cx="2043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242960" y="3296880"/>
              <a:ext cx="2651040" cy="1338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3422520" y="3331800"/>
              <a:ext cx="1440" cy="12240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6311880" y="1932120"/>
            <a:ext cx="1405080" cy="1365120"/>
          </a:xfrm>
          <a:prstGeom prst="rect">
            <a:avLst/>
          </a:prstGeom>
          <a:solidFill>
            <a:srgbClr val="ffcc66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21120" y="1920960"/>
            <a:ext cx="78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868686"/>
                </a:solidFill>
                <a:uFillTx/>
                <a:latin typeface="Times New Roman"/>
              </a:rPr>
              <a:t>: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05400" y="2463840"/>
            <a:ext cx="1416240" cy="0"/>
          </a:xfrm>
          <a:prstGeom prst="line">
            <a:avLst/>
          </a:prstGeom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61920" y="2538360"/>
            <a:ext cx="543240" cy="641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x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y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835680" y="4259160"/>
            <a:ext cx="1462320" cy="1376280"/>
            <a:chOff x="6835680" y="4259160"/>
            <a:chExt cx="1462320" cy="1376280"/>
          </a:xfrm>
        </p:grpSpPr>
        <p:sp>
          <p:nvSpPr>
            <p:cNvPr id="301" name=""/>
            <p:cNvSpPr/>
            <p:nvPr/>
          </p:nvSpPr>
          <p:spPr>
            <a:xfrm>
              <a:off x="6841800" y="4270320"/>
              <a:ext cx="1450440" cy="13651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173000" y="4259160"/>
              <a:ext cx="7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868686"/>
                  </a:solidFill>
                  <a:uFillTx/>
                  <a:latin typeface="Times New Roman"/>
                </a:rPr>
                <a:t>:Pu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5680" y="4802040"/>
              <a:ext cx="146232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92560" y="4876920"/>
              <a:ext cx="829800" cy="64116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x=3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y=2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514600" y="4556160"/>
            <a:ext cx="1741320" cy="1279080"/>
            <a:chOff x="2514600" y="4556160"/>
            <a:chExt cx="1741320" cy="1279080"/>
          </a:xfrm>
        </p:grpSpPr>
        <p:sp>
          <p:nvSpPr>
            <p:cNvPr id="306" name=""/>
            <p:cNvSpPr/>
            <p:nvPr/>
          </p:nvSpPr>
          <p:spPr>
            <a:xfrm>
              <a:off x="2522160" y="4566240"/>
              <a:ext cx="1727280" cy="12690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91960" y="4556160"/>
              <a:ext cx="7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868686"/>
                  </a:solidFill>
                  <a:uFillTx/>
                  <a:latin typeface="Times New Roman"/>
                </a:rPr>
                <a:t>:Pu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14600" y="5060520"/>
              <a:ext cx="174132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82640" y="5130360"/>
              <a:ext cx="543240" cy="64116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x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y=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F85-3B51-4719-936B-75C3E2EEF8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1922400" y="1612800"/>
            <a:ext cx="2495520" cy="3041640"/>
            <a:chOff x="1922400" y="1612800"/>
            <a:chExt cx="2495520" cy="3041640"/>
          </a:xfrm>
        </p:grpSpPr>
        <p:sp>
          <p:nvSpPr>
            <p:cNvPr id="311" name=""/>
            <p:cNvSpPr/>
            <p:nvPr/>
          </p:nvSpPr>
          <p:spPr>
            <a:xfrm>
              <a:off x="1926720" y="1645920"/>
              <a:ext cx="2490840" cy="30085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39440" y="1612800"/>
              <a:ext cx="1111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EEPR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1922400" y="2017080"/>
              <a:ext cx="2495520" cy="324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65960" y="2072880"/>
              <a:ext cx="134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63080" y="2522160"/>
              <a:ext cx="245124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EEP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EEPSt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enviarDir(dir:Tpara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EnviarByte(dato:Tva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Control(accion:integ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EEP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EEPNo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1926720" y="2404440"/>
              <a:ext cx="2484000" cy="1260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H="1">
            <a:off x="4417560" y="3514680"/>
            <a:ext cx="11574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575320" y="3017880"/>
            <a:ext cx="1314360" cy="993600"/>
            <a:chOff x="5575320" y="3017880"/>
            <a:chExt cx="1314360" cy="993600"/>
          </a:xfrm>
        </p:grpSpPr>
        <p:sp>
          <p:nvSpPr>
            <p:cNvPr id="319" name=""/>
            <p:cNvSpPr/>
            <p:nvPr/>
          </p:nvSpPr>
          <p:spPr>
            <a:xfrm>
              <a:off x="5575320" y="3017880"/>
              <a:ext cx="1314360" cy="9936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36520" y="3017880"/>
              <a:ext cx="1175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868686"/>
                  </a:solidFill>
                  <a:uFillTx/>
                  <a:latin typeface="Times New Roman"/>
                </a:rPr>
                <a:t>:EEPR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501-F8A5-47E6-A66B-5922989E70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1249200" y="1665360"/>
            <a:ext cx="3590640" cy="3630600"/>
            <a:chOff x="1249200" y="1665360"/>
            <a:chExt cx="3590640" cy="3630600"/>
          </a:xfrm>
        </p:grpSpPr>
        <p:sp>
          <p:nvSpPr>
            <p:cNvPr id="322" name=""/>
            <p:cNvSpPr/>
            <p:nvPr/>
          </p:nvSpPr>
          <p:spPr>
            <a:xfrm>
              <a:off x="1255680" y="1698840"/>
              <a:ext cx="3583800" cy="35971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97240" y="1665360"/>
              <a:ext cx="1074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Protoco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9200" y="2070000"/>
              <a:ext cx="3590640" cy="324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3280" y="2125800"/>
              <a:ext cx="182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27680" y="2732400"/>
              <a:ext cx="3499920" cy="256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EntradaCombo(m: TMensajeMovi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LIGBM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LL_ENT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SILEN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FIN_LIG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INTBM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FIN_LLENT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CODSEG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FININTB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1255680" y="2719440"/>
              <a:ext cx="3575160" cy="1296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328760" y="2078280"/>
              <a:ext cx="2533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mensaje: TMensajeMo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movil_origen: TIdMo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557680" y="1474920"/>
            <a:ext cx="3244680" cy="5003640"/>
            <a:chOff x="5557680" y="1474920"/>
            <a:chExt cx="3244680" cy="5003640"/>
          </a:xfrm>
        </p:grpSpPr>
        <p:sp>
          <p:nvSpPr>
            <p:cNvPr id="330" name=""/>
            <p:cNvSpPr/>
            <p:nvPr/>
          </p:nvSpPr>
          <p:spPr>
            <a:xfrm>
              <a:off x="5564160" y="1474920"/>
              <a:ext cx="3238200" cy="500364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51000" y="1508040"/>
              <a:ext cx="858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Comb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557680" y="1887480"/>
              <a:ext cx="3244680" cy="288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13120" y="2135160"/>
              <a:ext cx="16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28960" y="2541600"/>
              <a:ext cx="316908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MandarRegRx(c: Tcan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MandarRegTx(c: Tcan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MandarReg0(c: Tcan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MandarRegMode(c: Tcan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MandarRegGain(c: Tcan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MandarRegRefP(c: Tcan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LeerPortadora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LeerCabecera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EscribirCabecera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EscribirDato(m: TMensajeBas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LeerDato(m: TMensajeMovi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SubirSquelch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BajarSquelch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RestituirSquelch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64160" y="2541600"/>
              <a:ext cx="32302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29320" y="1890720"/>
              <a:ext cx="243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estado: TEstadoComb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movil_origen: TIdMo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99D-4F73-47BC-9760-3159747BB4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39960" y="2255760"/>
            <a:ext cx="849240" cy="387360"/>
          </a:xfrm>
          <a:prstGeom prst="line">
            <a:avLst/>
          </a:prstGeom>
          <a:ln w="936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82720" y="2003400"/>
            <a:ext cx="4918320" cy="4465800"/>
          </a:xfrm>
          <a:prstGeom prst="rect">
            <a:avLst/>
          </a:prstGeom>
          <a:solidFill>
            <a:srgbClr val="ffcc99"/>
          </a:solidFill>
          <a:ln w="936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23840" y="203976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41320" y="2230560"/>
            <a:ext cx="87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SimonS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684520" y="2435400"/>
            <a:ext cx="4910040" cy="1440"/>
          </a:xfrm>
          <a:prstGeom prst="line">
            <a:avLst/>
          </a:prstGeom>
          <a:ln w="936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12680" y="2449440"/>
            <a:ext cx="186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button1 : java::awt::Butt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13040" y="2611440"/>
            <a:ext cx="195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button10 : java::awt::Butt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13040" y="2773440"/>
            <a:ext cx="195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button11 : java::awt::Butt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12680" y="2935440"/>
            <a:ext cx="186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button2 : java::awt::Butt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2680" y="3097080"/>
            <a:ext cx="186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button3 : java::awt::Butt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12680" y="3259080"/>
            <a:ext cx="186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button4 : java::awt::Butt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2680" y="3421080"/>
            <a:ext cx="186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button5 : java::awt::Butt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2680" y="3583080"/>
            <a:ext cx="186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button6 : java::awt::Butt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2680" y="3745080"/>
            <a:ext cx="186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button7 : java::awt::Butt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2680" y="3906720"/>
            <a:ext cx="186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button8 : java::awt::Butt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12680" y="4068720"/>
            <a:ext cx="186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button9 : java::awt::Butt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32120" y="4229280"/>
            <a:ext cx="16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label1 : java::awt::Lab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32120" y="4390920"/>
            <a:ext cx="16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label2 : java::awt::Lab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32120" y="4552920"/>
            <a:ext cx="16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label3 : java::awt::Lab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32120" y="4714920"/>
            <a:ext cx="169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label5 : java::awt::Lab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45440" y="4876920"/>
            <a:ext cx="69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nivel : i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22760" y="5038560"/>
            <a:ext cx="184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numeros : java::util::Sta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49040" y="520056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prueba : i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38960" y="5362560"/>
            <a:ext cx="168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seguir : boolean  =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47600" y="5524560"/>
            <a:ext cx="67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total : i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84520" y="5762520"/>
            <a:ext cx="4914720" cy="1800"/>
          </a:xfrm>
          <a:prstGeom prst="line">
            <a:avLst/>
          </a:prstGeom>
          <a:ln w="936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70280" y="5772240"/>
            <a:ext cx="3876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Clicar( evt : java::awt::event::MouseEvent, boton : int ) : v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52640" y="5934240"/>
            <a:ext cx="46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ComprobarPila( pila : java::util::Stack, posicion : int, dato : int ) : bool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42200" y="6095880"/>
            <a:ext cx="92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+jbInit() : v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28880" y="6256440"/>
            <a:ext cx="61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+simo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11120" y="1430280"/>
            <a:ext cx="819360" cy="628560"/>
          </a:xfrm>
          <a:prstGeom prst="rect">
            <a:avLst/>
          </a:prstGeom>
          <a:solidFill>
            <a:srgbClr val="ffcc99"/>
          </a:solidFill>
          <a:ln w="936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63840" y="146844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10040" y="1658880"/>
            <a:ext cx="84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java.appl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311120" y="1868400"/>
            <a:ext cx="809640" cy="1800"/>
          </a:xfrm>
          <a:prstGeom prst="line">
            <a:avLst/>
          </a:prstGeom>
          <a:ln w="936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11120" y="1973160"/>
            <a:ext cx="809640" cy="1800"/>
          </a:xfrm>
          <a:prstGeom prst="line">
            <a:avLst/>
          </a:prstGeom>
          <a:ln w="936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50960" y="2036880"/>
            <a:ext cx="308160" cy="220680"/>
          </a:xfrm>
          <a:custGeom>
            <a:avLst/>
            <a:gdLst/>
            <a:ahLst/>
            <a:rect l="l" t="t" r="r" b="b"/>
            <a:pathLst>
              <a:path w="306" h="378">
                <a:moveTo>
                  <a:pt x="133" y="0"/>
                </a:moveTo>
                <a:lnTo>
                  <a:pt x="0" y="378"/>
                </a:lnTo>
                <a:lnTo>
                  <a:pt x="306" y="378"/>
                </a:lnTo>
                <a:lnTo>
                  <a:pt x="133" y="0"/>
                </a:lnTo>
              </a:path>
            </a:pathLst>
          </a:custGeom>
          <a:noFill/>
          <a:ln w="936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456-02E4-448A-A034-6F9DB4981F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66640" y="182160"/>
            <a:ext cx="708192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nlaces y Asocia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55360" y="1390320"/>
            <a:ext cx="789300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Enlace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conexión entre dos o más instanci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Asocia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abstracción de un grupo de enl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dos los enlaces de una misma asociació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584b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ectan objetos de las mismas cl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584b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enen una semántica comú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ociaciones inherentemente bidirecciona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ueden ser: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binari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ternaria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 de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orden super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A53-5DAF-434D-AB48-06FE0842CC1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1444680" y="1994040"/>
            <a:ext cx="5937120" cy="1527120"/>
            <a:chOff x="1444680" y="1994040"/>
            <a:chExt cx="5937120" cy="1527120"/>
          </a:xfrm>
        </p:grpSpPr>
        <p:grpSp>
          <p:nvGrpSpPr>
            <p:cNvPr id="376" name=""/>
            <p:cNvGrpSpPr/>
            <p:nvPr/>
          </p:nvGrpSpPr>
          <p:grpSpPr>
            <a:xfrm>
              <a:off x="1444680" y="1994040"/>
              <a:ext cx="1546200" cy="1519200"/>
              <a:chOff x="1444680" y="1994040"/>
              <a:chExt cx="1546200" cy="1519200"/>
            </a:xfrm>
          </p:grpSpPr>
          <p:sp>
            <p:nvSpPr>
              <p:cNvPr id="377" name=""/>
              <p:cNvSpPr/>
              <p:nvPr/>
            </p:nvSpPr>
            <p:spPr>
              <a:xfrm>
                <a:off x="1451160" y="2001960"/>
                <a:ext cx="1511280" cy="151128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858320" y="1994040"/>
                <a:ext cx="694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Cla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44680" y="237672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504080" y="2428920"/>
                <a:ext cx="986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atribu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503720" y="2925720"/>
                <a:ext cx="1279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operac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67000" y="288612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5835600" y="2001960"/>
              <a:ext cx="1546200" cy="1519200"/>
              <a:chOff x="5835600" y="2001960"/>
              <a:chExt cx="1546200" cy="1519200"/>
            </a:xfrm>
          </p:grpSpPr>
          <p:sp>
            <p:nvSpPr>
              <p:cNvPr id="384" name=""/>
              <p:cNvSpPr/>
              <p:nvPr/>
            </p:nvSpPr>
            <p:spPr>
              <a:xfrm>
                <a:off x="5842080" y="2009880"/>
                <a:ext cx="1511280" cy="151128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249240" y="2001960"/>
                <a:ext cx="694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Cla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835600" y="238464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95000" y="2436840"/>
                <a:ext cx="986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atribu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94640" y="2933640"/>
                <a:ext cx="1279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operac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57920" y="289404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2962440" y="2795760"/>
              <a:ext cx="2895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09520" y="236232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asoci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66640" y="182160"/>
            <a:ext cx="708192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Asocia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819520" y="2514600"/>
            <a:ext cx="3162240" cy="496800"/>
            <a:chOff x="2819520" y="2514600"/>
            <a:chExt cx="3162240" cy="496800"/>
          </a:xfrm>
        </p:grpSpPr>
        <p:sp>
          <p:nvSpPr>
            <p:cNvPr id="394" name=""/>
            <p:cNvSpPr/>
            <p:nvPr/>
          </p:nvSpPr>
          <p:spPr>
            <a:xfrm>
              <a:off x="2819520" y="2514600"/>
              <a:ext cx="723960" cy="4968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57800" y="2514600"/>
              <a:ext cx="723960" cy="4968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340640" y="3643200"/>
            <a:ext cx="5601600" cy="3594240"/>
            <a:chOff x="1340640" y="3643200"/>
            <a:chExt cx="5601600" cy="3594240"/>
          </a:xfrm>
        </p:grpSpPr>
        <p:grpSp>
          <p:nvGrpSpPr>
            <p:cNvPr id="397" name=""/>
            <p:cNvGrpSpPr/>
            <p:nvPr/>
          </p:nvGrpSpPr>
          <p:grpSpPr>
            <a:xfrm>
              <a:off x="1340640" y="3643200"/>
              <a:ext cx="5601600" cy="3594240"/>
              <a:chOff x="1340640" y="3643200"/>
              <a:chExt cx="5601600" cy="3594240"/>
            </a:xfrm>
          </p:grpSpPr>
          <p:sp>
            <p:nvSpPr>
              <p:cNvPr id="398" name=""/>
              <p:cNvSpPr/>
              <p:nvPr/>
            </p:nvSpPr>
            <p:spPr>
              <a:xfrm>
                <a:off x="4143240" y="3789360"/>
                <a:ext cx="2799000" cy="344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-6328" y="846"/>
                    </a:moveTo>
                    <a:lnTo>
                      <a:pt x="-614" y="1100"/>
                    </a:lnTo>
                  </a:path>
                  <a:path w="21600" h="21600">
                    <a:moveTo>
                      <a:pt x="-614" y="0"/>
                    </a:moveTo>
                    <a:lnTo>
                      <a:pt x="-614" y="21600"/>
                    </a:lnTo>
                  </a:path>
                </a:pathLst>
              </a:cu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*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	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	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Much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n 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	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	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Exactamente 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m,n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	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	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m o 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m..n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	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	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Entre m y 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n..*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	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	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Más de 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0..1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	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	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0 o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1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	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	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Exactamente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	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	</a:t>
                </a:r>
                <a:r>
                  <a:rPr b="0" lang="es-ES_tradnl" sz="2000" spc="-1" strike="noStrike">
                    <a:solidFill>
                      <a:srgbClr val="868686"/>
                    </a:solidFill>
                    <a:latin typeface="Times New Roman"/>
                  </a:rPr>
                  <a:t>Direccionalid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340640" y="3643200"/>
                <a:ext cx="184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ultiplicid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4184640" y="6060600"/>
              <a:ext cx="381960" cy="226080"/>
              <a:chOff x="4184640" y="6060600"/>
              <a:chExt cx="381960" cy="226080"/>
            </a:xfrm>
          </p:grpSpPr>
          <p:sp>
            <p:nvSpPr>
              <p:cNvPr id="401" name=""/>
              <p:cNvSpPr/>
              <p:nvPr/>
            </p:nvSpPr>
            <p:spPr>
              <a:xfrm rot="5400000">
                <a:off x="4380120" y="6100200"/>
                <a:ext cx="225720" cy="147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6200000">
                <a:off x="4145400" y="6099840"/>
                <a:ext cx="225720" cy="147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3" name=""/>
          <p:cNvSpPr/>
          <p:nvPr/>
        </p:nvSpPr>
        <p:spPr>
          <a:xfrm rot="5400000">
            <a:off x="5025240" y="2467800"/>
            <a:ext cx="225360" cy="147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CF13-DA11-4A49-AFAF-06A3C3FAE16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990720" y="1366920"/>
            <a:ext cx="7671960" cy="1825560"/>
            <a:chOff x="990720" y="1366920"/>
            <a:chExt cx="7671960" cy="1825560"/>
          </a:xfrm>
        </p:grpSpPr>
        <p:sp>
          <p:nvSpPr>
            <p:cNvPr id="405" name=""/>
            <p:cNvSpPr/>
            <p:nvPr/>
          </p:nvSpPr>
          <p:spPr>
            <a:xfrm>
              <a:off x="3695760" y="1827360"/>
              <a:ext cx="22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990720" y="1366920"/>
              <a:ext cx="2744280" cy="1770120"/>
              <a:chOff x="990720" y="1366920"/>
              <a:chExt cx="2744280" cy="1770120"/>
            </a:xfrm>
          </p:grpSpPr>
          <p:sp>
            <p:nvSpPr>
              <p:cNvPr id="407" name=""/>
              <p:cNvSpPr/>
              <p:nvPr/>
            </p:nvSpPr>
            <p:spPr>
              <a:xfrm>
                <a:off x="1005480" y="1366920"/>
                <a:ext cx="2713680" cy="177012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911240" y="1366920"/>
                <a:ext cx="7185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Pun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990720" y="1733400"/>
                <a:ext cx="2718720" cy="468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036080" y="1738440"/>
                <a:ext cx="8420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x: flo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y: flo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033920" y="2440080"/>
                <a:ext cx="270108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trasladar(dx:float, dy:floa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distancia(pto: Punto) : flo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017000" y="2416320"/>
                <a:ext cx="270252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5918040" y="1366920"/>
              <a:ext cx="2744640" cy="1825560"/>
              <a:chOff x="5918040" y="1366920"/>
              <a:chExt cx="2744640" cy="1825560"/>
            </a:xfrm>
          </p:grpSpPr>
          <p:sp>
            <p:nvSpPr>
              <p:cNvPr id="414" name=""/>
              <p:cNvSpPr/>
              <p:nvPr/>
            </p:nvSpPr>
            <p:spPr>
              <a:xfrm>
                <a:off x="5933880" y="1366920"/>
                <a:ext cx="2713320" cy="182556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843960" y="1366920"/>
                <a:ext cx="707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Líne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5918040" y="1733040"/>
                <a:ext cx="2718000" cy="468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961600" y="2220840"/>
                <a:ext cx="2701080" cy="9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trasladar(dx:float, dy:floa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distancia(pto: Punto) : flo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rotar(ang: floa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45040" y="2214360"/>
                <a:ext cx="270216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4270320" y="1430280"/>
              <a:ext cx="115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intersec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90360" y="1415880"/>
              <a:ext cx="45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695760" y="1687680"/>
            <a:ext cx="3603960" cy="1068840"/>
            <a:chOff x="3695760" y="1687680"/>
            <a:chExt cx="3603960" cy="1068840"/>
          </a:xfrm>
        </p:grpSpPr>
        <p:sp>
          <p:nvSpPr>
            <p:cNvPr id="422" name=""/>
            <p:cNvSpPr/>
            <p:nvPr/>
          </p:nvSpPr>
          <p:spPr>
            <a:xfrm>
              <a:off x="3695760" y="2754360"/>
              <a:ext cx="22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837960" y="2357640"/>
              <a:ext cx="197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punto_refer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52960" y="1687680"/>
              <a:ext cx="134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ángulo: flo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 rot="5400000">
            <a:off x="5311080" y="1553400"/>
            <a:ext cx="225360" cy="147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rot="16200000">
            <a:off x="3728160" y="2478960"/>
            <a:ext cx="225360" cy="147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254240" y="3581280"/>
            <a:ext cx="5410080" cy="2735280"/>
            <a:chOff x="1254240" y="3581280"/>
            <a:chExt cx="5410080" cy="2735280"/>
          </a:xfrm>
        </p:grpSpPr>
        <p:grpSp>
          <p:nvGrpSpPr>
            <p:cNvPr id="428" name=""/>
            <p:cNvGrpSpPr/>
            <p:nvPr/>
          </p:nvGrpSpPr>
          <p:grpSpPr>
            <a:xfrm>
              <a:off x="1254240" y="3581280"/>
              <a:ext cx="1314360" cy="563760"/>
              <a:chOff x="1254240" y="3581280"/>
              <a:chExt cx="1314360" cy="563760"/>
            </a:xfrm>
          </p:grpSpPr>
          <p:sp>
            <p:nvSpPr>
              <p:cNvPr id="429" name=""/>
              <p:cNvSpPr/>
              <p:nvPr/>
            </p:nvSpPr>
            <p:spPr>
              <a:xfrm>
                <a:off x="1254240" y="3581280"/>
                <a:ext cx="1314360" cy="5637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391760" y="3581280"/>
                <a:ext cx="10231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 u="sng">
                    <a:solidFill>
                      <a:srgbClr val="868686"/>
                    </a:solidFill>
                    <a:uFillTx/>
                    <a:latin typeface="Times New Roman"/>
                  </a:rPr>
                  <a:t>P1:Pun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254240" y="4297320"/>
              <a:ext cx="1314360" cy="563760"/>
              <a:chOff x="1254240" y="4297320"/>
              <a:chExt cx="1314360" cy="563760"/>
            </a:xfrm>
          </p:grpSpPr>
          <p:sp>
            <p:nvSpPr>
              <p:cNvPr id="432" name=""/>
              <p:cNvSpPr/>
              <p:nvPr/>
            </p:nvSpPr>
            <p:spPr>
              <a:xfrm>
                <a:off x="1254240" y="4297320"/>
                <a:ext cx="1314360" cy="5637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391760" y="4297320"/>
                <a:ext cx="10231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 u="sng">
                    <a:solidFill>
                      <a:srgbClr val="868686"/>
                    </a:solidFill>
                    <a:uFillTx/>
                    <a:latin typeface="Times New Roman"/>
                  </a:rPr>
                  <a:t>P2:Pun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1254240" y="5105520"/>
              <a:ext cx="1314360" cy="563400"/>
              <a:chOff x="1254240" y="5105520"/>
              <a:chExt cx="1314360" cy="563400"/>
            </a:xfrm>
          </p:grpSpPr>
          <p:sp>
            <p:nvSpPr>
              <p:cNvPr id="435" name=""/>
              <p:cNvSpPr/>
              <p:nvPr/>
            </p:nvSpPr>
            <p:spPr>
              <a:xfrm>
                <a:off x="1254240" y="5105520"/>
                <a:ext cx="1314360" cy="56340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391760" y="5105520"/>
                <a:ext cx="10231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 u="sng">
                    <a:solidFill>
                      <a:srgbClr val="868686"/>
                    </a:solidFill>
                    <a:uFillTx/>
                    <a:latin typeface="Times New Roman"/>
                  </a:rPr>
                  <a:t>P3:Pun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5349960" y="5753160"/>
              <a:ext cx="1314360" cy="563400"/>
              <a:chOff x="5349960" y="5753160"/>
              <a:chExt cx="1314360" cy="563400"/>
            </a:xfrm>
          </p:grpSpPr>
          <p:sp>
            <p:nvSpPr>
              <p:cNvPr id="438" name=""/>
              <p:cNvSpPr/>
              <p:nvPr/>
            </p:nvSpPr>
            <p:spPr>
              <a:xfrm>
                <a:off x="5349960" y="5753160"/>
                <a:ext cx="1314360" cy="56340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85680" y="5753160"/>
                <a:ext cx="1026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 u="sng">
                    <a:solidFill>
                      <a:srgbClr val="868686"/>
                    </a:solidFill>
                    <a:uFillTx/>
                    <a:latin typeface="Times New Roman"/>
                  </a:rPr>
                  <a:t>L4:Líne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5349960" y="5013360"/>
              <a:ext cx="1314360" cy="563400"/>
              <a:chOff x="5349960" y="5013360"/>
              <a:chExt cx="1314360" cy="563400"/>
            </a:xfrm>
          </p:grpSpPr>
          <p:sp>
            <p:nvSpPr>
              <p:cNvPr id="441" name=""/>
              <p:cNvSpPr/>
              <p:nvPr/>
            </p:nvSpPr>
            <p:spPr>
              <a:xfrm>
                <a:off x="5349960" y="5013360"/>
                <a:ext cx="1314360" cy="56340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85680" y="5013360"/>
                <a:ext cx="1026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 u="sng">
                    <a:solidFill>
                      <a:srgbClr val="868686"/>
                    </a:solidFill>
                    <a:uFillTx/>
                    <a:latin typeface="Times New Roman"/>
                  </a:rPr>
                  <a:t>L3:Líne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5349960" y="4297320"/>
              <a:ext cx="1314360" cy="563760"/>
              <a:chOff x="5349960" y="4297320"/>
              <a:chExt cx="1314360" cy="563760"/>
            </a:xfrm>
          </p:grpSpPr>
          <p:sp>
            <p:nvSpPr>
              <p:cNvPr id="444" name=""/>
              <p:cNvSpPr/>
              <p:nvPr/>
            </p:nvSpPr>
            <p:spPr>
              <a:xfrm>
                <a:off x="5349960" y="4297320"/>
                <a:ext cx="1314360" cy="5637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485680" y="4297320"/>
                <a:ext cx="1026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 u="sng">
                    <a:solidFill>
                      <a:srgbClr val="868686"/>
                    </a:solidFill>
                    <a:uFillTx/>
                    <a:latin typeface="Times New Roman"/>
                  </a:rPr>
                  <a:t>L2:Líne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5349960" y="3581280"/>
              <a:ext cx="1314360" cy="563760"/>
              <a:chOff x="5349960" y="3581280"/>
              <a:chExt cx="1314360" cy="563760"/>
            </a:xfrm>
          </p:grpSpPr>
          <p:sp>
            <p:nvSpPr>
              <p:cNvPr id="447" name=""/>
              <p:cNvSpPr/>
              <p:nvPr/>
            </p:nvSpPr>
            <p:spPr>
              <a:xfrm>
                <a:off x="5349960" y="3581280"/>
                <a:ext cx="1314360" cy="5637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485680" y="3581280"/>
                <a:ext cx="1026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 u="sng">
                    <a:solidFill>
                      <a:srgbClr val="868686"/>
                    </a:solidFill>
                    <a:uFillTx/>
                    <a:latin typeface="Times New Roman"/>
                  </a:rPr>
                  <a:t>L1:Líne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2568600" y="3948120"/>
            <a:ext cx="2781360" cy="2171520"/>
            <a:chOff x="2568600" y="3948120"/>
            <a:chExt cx="2781360" cy="2171520"/>
          </a:xfrm>
        </p:grpSpPr>
        <p:sp>
          <p:nvSpPr>
            <p:cNvPr id="450" name=""/>
            <p:cNvSpPr/>
            <p:nvPr/>
          </p:nvSpPr>
          <p:spPr>
            <a:xfrm>
              <a:off x="2568600" y="3948120"/>
              <a:ext cx="2781360" cy="1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68600" y="4664160"/>
              <a:ext cx="2781360" cy="1455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68600" y="5380200"/>
              <a:ext cx="2781360" cy="739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68600" y="4664160"/>
              <a:ext cx="2781360" cy="1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68600" y="5380200"/>
              <a:ext cx="2781360" cy="1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68600" y="3948120"/>
              <a:ext cx="2781360" cy="14320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726240" y="3198960"/>
            <a:ext cx="2203560" cy="3528720"/>
            <a:chOff x="6726240" y="3198960"/>
            <a:chExt cx="2203560" cy="3528720"/>
          </a:xfrm>
        </p:grpSpPr>
        <p:sp>
          <p:nvSpPr>
            <p:cNvPr id="457" name=""/>
            <p:cNvSpPr/>
            <p:nvPr/>
          </p:nvSpPr>
          <p:spPr>
            <a:xfrm>
              <a:off x="6726240" y="362736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33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924320" y="3198960"/>
              <a:ext cx="893880" cy="3287520"/>
            </a:xfrm>
            <a:prstGeom prst="line">
              <a:avLst/>
            </a:prstGeom>
            <a:ln cap="sq" w="38160">
              <a:solidFill>
                <a:srgbClr val="525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86440" y="3297240"/>
              <a:ext cx="1428840" cy="3430440"/>
            </a:xfrm>
            <a:prstGeom prst="line">
              <a:avLst/>
            </a:prstGeom>
            <a:ln cap="sq" w="38160">
              <a:solidFill>
                <a:srgbClr val="525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7923240" y="3627360"/>
              <a:ext cx="1006560" cy="701640"/>
            </a:xfrm>
            <a:prstGeom prst="line">
              <a:avLst/>
            </a:prstGeom>
            <a:ln cap="sq" w="38160">
              <a:solidFill>
                <a:srgbClr val="525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845040" y="3443400"/>
              <a:ext cx="1006200" cy="701640"/>
            </a:xfrm>
            <a:prstGeom prst="line">
              <a:avLst/>
            </a:prstGeom>
            <a:ln cap="sq" w="38160">
              <a:solidFill>
                <a:srgbClr val="525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48440" y="3862440"/>
              <a:ext cx="212760" cy="139680"/>
            </a:xfrm>
            <a:prstGeom prst="donut">
              <a:avLst>
                <a:gd name="adj" fmla="val 25000"/>
              </a:avLst>
            </a:prstGeom>
            <a:solidFill>
              <a:srgbClr val="99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551800" y="3740040"/>
              <a:ext cx="212760" cy="139680"/>
            </a:xfrm>
            <a:prstGeom prst="donut">
              <a:avLst>
                <a:gd name="adj" fmla="val 25000"/>
              </a:avLst>
            </a:prstGeom>
            <a:solidFill>
              <a:srgbClr val="99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29720" y="5985000"/>
              <a:ext cx="212400" cy="139680"/>
            </a:xfrm>
            <a:prstGeom prst="donut">
              <a:avLst>
                <a:gd name="adj" fmla="val 25000"/>
              </a:avLst>
            </a:prstGeom>
            <a:solidFill>
              <a:srgbClr val="9900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215200" y="349560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3300"/>
                  </a:solidFill>
                  <a:latin typeface="Times New Roman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91440" y="327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5250b0"/>
                  </a:solidFill>
                  <a:latin typeface="Times New Roman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73720" y="587700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3300"/>
                  </a:solidFill>
                  <a:latin typeface="Times New Roman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1400" y="394164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5250b0"/>
                  </a:solidFill>
                  <a:latin typeface="Times New Roman"/>
                </a:rPr>
                <a:t>L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138800" y="467532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5250b0"/>
                  </a:solidFill>
                  <a:latin typeface="Times New Roman"/>
                </a:rPr>
                <a:t>L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67760" y="489888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5250b0"/>
                  </a:solidFill>
                  <a:latin typeface="Times New Roman"/>
                </a:rPr>
                <a:t>L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809-ED0B-47DC-B5AF-0B4B613784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1219320" y="1725480"/>
            <a:ext cx="6995520" cy="4067280"/>
            <a:chOff x="1219320" y="1725480"/>
            <a:chExt cx="6995520" cy="4067280"/>
          </a:xfrm>
        </p:grpSpPr>
        <p:sp>
          <p:nvSpPr>
            <p:cNvPr id="472" name=""/>
            <p:cNvSpPr/>
            <p:nvPr/>
          </p:nvSpPr>
          <p:spPr>
            <a:xfrm>
              <a:off x="3143160" y="3448080"/>
              <a:ext cx="2343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5486400" y="1725480"/>
              <a:ext cx="2728440" cy="2741400"/>
              <a:chOff x="5486400" y="1725480"/>
              <a:chExt cx="2728440" cy="2741400"/>
            </a:xfrm>
          </p:grpSpPr>
          <p:sp>
            <p:nvSpPr>
              <p:cNvPr id="474" name=""/>
              <p:cNvSpPr/>
              <p:nvPr/>
            </p:nvSpPr>
            <p:spPr>
              <a:xfrm>
                <a:off x="5502240" y="1725480"/>
                <a:ext cx="2712600" cy="273024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01640" y="1725480"/>
                <a:ext cx="1328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GestorLED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5486400" y="2091600"/>
                <a:ext cx="2717640" cy="468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532120" y="2454120"/>
                <a:ext cx="1965240" cy="20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inicializar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llamadaEntran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tomaDeLínea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colgar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pilaBaja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modoContestador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513040" y="2495160"/>
                <a:ext cx="270180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3767760" y="3035160"/>
              <a:ext cx="5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le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07960" y="4059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1219320" y="4468680"/>
              <a:ext cx="3426840" cy="1324080"/>
              <a:chOff x="1219320" y="4468680"/>
              <a:chExt cx="3426840" cy="1324080"/>
            </a:xfrm>
          </p:grpSpPr>
          <p:sp>
            <p:nvSpPr>
              <p:cNvPr id="482" name=""/>
              <p:cNvSpPr/>
              <p:nvPr/>
            </p:nvSpPr>
            <p:spPr>
              <a:xfrm>
                <a:off x="1225440" y="4501800"/>
                <a:ext cx="3414240" cy="129060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513880" y="4468680"/>
                <a:ext cx="6300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L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1219320" y="4872960"/>
                <a:ext cx="3420720" cy="324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277640" y="4929120"/>
                <a:ext cx="1451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ident: LED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274760" y="5425920"/>
                <a:ext cx="3368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parpadea(te:Duration, ta:Duration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1241280" y="5373360"/>
                <a:ext cx="3404880" cy="1296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3143160" y="3432240"/>
              <a:ext cx="0" cy="10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149-5C4E-4A42-BA01-F62FF39496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ontenid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delado estructur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delado del comportamien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delado arquitectón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05E-6713-4195-9F70-F768C5CFB3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2098800" y="1452600"/>
            <a:ext cx="5221080" cy="1293480"/>
            <a:chOff x="2098800" y="1452600"/>
            <a:chExt cx="5221080" cy="1293480"/>
          </a:xfrm>
        </p:grpSpPr>
        <p:grpSp>
          <p:nvGrpSpPr>
            <p:cNvPr id="490" name=""/>
            <p:cNvGrpSpPr/>
            <p:nvPr/>
          </p:nvGrpSpPr>
          <p:grpSpPr>
            <a:xfrm>
              <a:off x="2098800" y="1452600"/>
              <a:ext cx="1511280" cy="382680"/>
              <a:chOff x="2098800" y="1452600"/>
              <a:chExt cx="1511280" cy="382680"/>
            </a:xfrm>
          </p:grpSpPr>
          <p:sp>
            <p:nvSpPr>
              <p:cNvPr id="491" name=""/>
              <p:cNvSpPr/>
              <p:nvPr/>
            </p:nvSpPr>
            <p:spPr>
              <a:xfrm>
                <a:off x="2098800" y="1460520"/>
                <a:ext cx="1511280" cy="37476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370960" y="1452600"/>
                <a:ext cx="9990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Proyec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3622680" y="1659240"/>
              <a:ext cx="844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43480" y="1460520"/>
              <a:ext cx="533520" cy="37620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77000" y="1657440"/>
              <a:ext cx="844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707000" y="1860840"/>
              <a:ext cx="0" cy="49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5808600" y="1454400"/>
              <a:ext cx="1511280" cy="381960"/>
              <a:chOff x="5808600" y="1454400"/>
              <a:chExt cx="1511280" cy="381960"/>
            </a:xfrm>
          </p:grpSpPr>
          <p:sp>
            <p:nvSpPr>
              <p:cNvPr id="498" name=""/>
              <p:cNvSpPr/>
              <p:nvPr/>
            </p:nvSpPr>
            <p:spPr>
              <a:xfrm>
                <a:off x="5808600" y="1461960"/>
                <a:ext cx="1511280" cy="37440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060960" y="1454400"/>
                <a:ext cx="10386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Lenguaj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3952800" y="2364120"/>
              <a:ext cx="1511280" cy="381960"/>
              <a:chOff x="3952800" y="2364120"/>
              <a:chExt cx="1511280" cy="381960"/>
            </a:xfrm>
          </p:grpSpPr>
          <p:sp>
            <p:nvSpPr>
              <p:cNvPr id="501" name=""/>
              <p:cNvSpPr/>
              <p:nvPr/>
            </p:nvSpPr>
            <p:spPr>
              <a:xfrm>
                <a:off x="3952800" y="2371680"/>
                <a:ext cx="1511280" cy="37440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269960" y="2364120"/>
                <a:ext cx="9090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Perso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3" name=""/>
          <p:cNvGrpSpPr/>
          <p:nvPr/>
        </p:nvGrpSpPr>
        <p:grpSpPr>
          <a:xfrm>
            <a:off x="1266840" y="3225960"/>
            <a:ext cx="7417440" cy="2652480"/>
            <a:chOff x="1266840" y="3225960"/>
            <a:chExt cx="7417440" cy="2652480"/>
          </a:xfrm>
        </p:grpSpPr>
        <p:grpSp>
          <p:nvGrpSpPr>
            <p:cNvPr id="504" name=""/>
            <p:cNvGrpSpPr/>
            <p:nvPr/>
          </p:nvGrpSpPr>
          <p:grpSpPr>
            <a:xfrm>
              <a:off x="5240160" y="3308400"/>
              <a:ext cx="1144800" cy="2465280"/>
              <a:chOff x="5240160" y="3308400"/>
              <a:chExt cx="1144800" cy="2465280"/>
            </a:xfrm>
          </p:grpSpPr>
          <p:sp>
            <p:nvSpPr>
              <p:cNvPr id="505" name=""/>
              <p:cNvSpPr/>
              <p:nvPr/>
            </p:nvSpPr>
            <p:spPr>
              <a:xfrm>
                <a:off x="5256000" y="3506760"/>
                <a:ext cx="4251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666040" y="3308400"/>
                <a:ext cx="335160" cy="376200"/>
              </a:xfrm>
              <a:prstGeom prst="diamond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6001560" y="3492360"/>
                <a:ext cx="383400" cy="12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832000" y="3708360"/>
                <a:ext cx="0" cy="490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240160" y="5595840"/>
                <a:ext cx="42480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50200" y="5397480"/>
                <a:ext cx="335160" cy="376200"/>
              </a:xfrm>
              <a:prstGeom prst="diamond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5985720" y="5581440"/>
                <a:ext cx="383040" cy="12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823720" y="4892760"/>
                <a:ext cx="0" cy="49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2581200" y="3373560"/>
              <a:ext cx="1082520" cy="890640"/>
              <a:chOff x="2581200" y="3373560"/>
              <a:chExt cx="1082520" cy="890640"/>
            </a:xfrm>
          </p:grpSpPr>
          <p:sp>
            <p:nvSpPr>
              <p:cNvPr id="514" name=""/>
              <p:cNvSpPr/>
              <p:nvPr/>
            </p:nvSpPr>
            <p:spPr>
              <a:xfrm>
                <a:off x="2581200" y="3571920"/>
                <a:ext cx="4075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974680" y="3373560"/>
                <a:ext cx="321120" cy="376200"/>
              </a:xfrm>
              <a:prstGeom prst="diamond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296160" y="3570120"/>
                <a:ext cx="367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33440" y="3773520"/>
                <a:ext cx="0" cy="490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1266840" y="3308400"/>
              <a:ext cx="1314360" cy="563400"/>
              <a:chOff x="1266840" y="3308400"/>
              <a:chExt cx="1314360" cy="563400"/>
            </a:xfrm>
          </p:grpSpPr>
          <p:sp>
            <p:nvSpPr>
              <p:cNvPr id="519" name=""/>
              <p:cNvSpPr/>
              <p:nvPr/>
            </p:nvSpPr>
            <p:spPr>
              <a:xfrm>
                <a:off x="1266840" y="3308400"/>
                <a:ext cx="1314360" cy="56340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288440" y="3308400"/>
                <a:ext cx="1254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 u="sng">
                    <a:solidFill>
                      <a:srgbClr val="868686"/>
                    </a:solidFill>
                    <a:uFillTx/>
                    <a:latin typeface="Times New Roman"/>
                  </a:rPr>
                  <a:t>C:Lenguaj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2756160" y="5315040"/>
              <a:ext cx="2483640" cy="563400"/>
              <a:chOff x="2756160" y="5315040"/>
              <a:chExt cx="2483640" cy="563400"/>
            </a:xfrm>
          </p:grpSpPr>
          <p:sp>
            <p:nvSpPr>
              <p:cNvPr id="522" name=""/>
              <p:cNvSpPr/>
              <p:nvPr/>
            </p:nvSpPr>
            <p:spPr>
              <a:xfrm>
                <a:off x="2765880" y="5315040"/>
                <a:ext cx="2473920" cy="56340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756160" y="5315040"/>
                <a:ext cx="24634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 u="sng">
                    <a:solidFill>
                      <a:srgbClr val="868686"/>
                    </a:solidFill>
                    <a:uFillTx/>
                    <a:latin typeface="Times New Roman"/>
                  </a:rPr>
                  <a:t>CentralNuclear:Proyec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2500920" y="4264200"/>
              <a:ext cx="1379880" cy="563400"/>
              <a:chOff x="2500920" y="4264200"/>
              <a:chExt cx="1379880" cy="563400"/>
            </a:xfrm>
          </p:grpSpPr>
          <p:sp>
            <p:nvSpPr>
              <p:cNvPr id="525" name=""/>
              <p:cNvSpPr/>
              <p:nvPr/>
            </p:nvSpPr>
            <p:spPr>
              <a:xfrm>
                <a:off x="2541240" y="4264200"/>
                <a:ext cx="1314360" cy="56340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500920" y="4264200"/>
                <a:ext cx="13798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 u="sng">
                    <a:solidFill>
                      <a:srgbClr val="868686"/>
                    </a:solidFill>
                    <a:uFillTx/>
                    <a:latin typeface="Times New Roman"/>
                  </a:rPr>
                  <a:t>Luis:Perso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6356520" y="3225960"/>
              <a:ext cx="2327760" cy="563400"/>
              <a:chOff x="6356520" y="3225960"/>
              <a:chExt cx="2327760" cy="563400"/>
            </a:xfrm>
          </p:grpSpPr>
          <p:sp>
            <p:nvSpPr>
              <p:cNvPr id="528" name=""/>
              <p:cNvSpPr/>
              <p:nvPr/>
            </p:nvSpPr>
            <p:spPr>
              <a:xfrm>
                <a:off x="6369840" y="3225960"/>
                <a:ext cx="2314440" cy="56340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356520" y="3225960"/>
                <a:ext cx="2311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 u="sng">
                    <a:solidFill>
                      <a:srgbClr val="868686"/>
                    </a:solidFill>
                    <a:uFillTx/>
                    <a:latin typeface="Times New Roman"/>
                  </a:rPr>
                  <a:t>Ensamblador:Lenguaj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3561120" y="3255840"/>
              <a:ext cx="1826280" cy="563760"/>
              <a:chOff x="3561120" y="3255840"/>
              <a:chExt cx="1826280" cy="563760"/>
            </a:xfrm>
          </p:grpSpPr>
          <p:sp>
            <p:nvSpPr>
              <p:cNvPr id="531" name=""/>
              <p:cNvSpPr/>
              <p:nvPr/>
            </p:nvSpPr>
            <p:spPr>
              <a:xfrm>
                <a:off x="3628080" y="3255840"/>
                <a:ext cx="1714320" cy="5637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561120" y="3255840"/>
                <a:ext cx="1826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 u="sng">
                    <a:solidFill>
                      <a:srgbClr val="868686"/>
                    </a:solidFill>
                    <a:uFillTx/>
                    <a:latin typeface="Times New Roman"/>
                  </a:rPr>
                  <a:t>Eole400:Proyec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359400" y="5268960"/>
              <a:ext cx="1861920" cy="563400"/>
              <a:chOff x="6359400" y="5268960"/>
              <a:chExt cx="1861920" cy="563400"/>
            </a:xfrm>
          </p:grpSpPr>
          <p:sp>
            <p:nvSpPr>
              <p:cNvPr id="534" name=""/>
              <p:cNvSpPr/>
              <p:nvPr/>
            </p:nvSpPr>
            <p:spPr>
              <a:xfrm>
                <a:off x="6359400" y="5268960"/>
                <a:ext cx="1861920" cy="56340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390720" y="5268960"/>
                <a:ext cx="1776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 u="sng">
                    <a:solidFill>
                      <a:srgbClr val="868686"/>
                    </a:solidFill>
                    <a:uFillTx/>
                    <a:latin typeface="Times New Roman"/>
                  </a:rPr>
                  <a:t>Fortran:Lenguaj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4832640" y="4211640"/>
              <a:ext cx="1996200" cy="681120"/>
              <a:chOff x="4832640" y="4211640"/>
              <a:chExt cx="1996200" cy="681120"/>
            </a:xfrm>
          </p:grpSpPr>
          <p:sp>
            <p:nvSpPr>
              <p:cNvPr id="537" name=""/>
              <p:cNvSpPr/>
              <p:nvPr/>
            </p:nvSpPr>
            <p:spPr>
              <a:xfrm>
                <a:off x="4833720" y="4211640"/>
                <a:ext cx="1995120" cy="6811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32640" y="4211640"/>
                <a:ext cx="19710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 u="sng">
                    <a:solidFill>
                      <a:srgbClr val="868686"/>
                    </a:solidFill>
                    <a:uFillTx/>
                    <a:latin typeface="Times New Roman"/>
                  </a:rPr>
                  <a:t>José María:Perso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E10-9C3F-4332-80E0-105A0F3B2E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66640" y="182160"/>
            <a:ext cx="708192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Asociaciones con Atribut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55360" y="1390320"/>
            <a:ext cx="789300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asociaciones pueden tener atribut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piedad de la asociación. No puede incluirse en ninguna de las clases asoci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ando hay multiplicidad 1/1 o 1/M, el atributo puede incluirse en la clase de multiplicidad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veces, este tipo de asociación se puede modelar como una clase independi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AA5-5C2E-4CC8-8207-36830DE2BB17}" type="slidenum">
              <a:t>21</a:t>
            </a:fld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1995480" y="2268360"/>
            <a:ext cx="5279760" cy="1519200"/>
            <a:chOff x="1995480" y="2268360"/>
            <a:chExt cx="5279760" cy="1519200"/>
          </a:xfrm>
        </p:grpSpPr>
        <p:grpSp>
          <p:nvGrpSpPr>
            <p:cNvPr id="542" name=""/>
            <p:cNvGrpSpPr/>
            <p:nvPr/>
          </p:nvGrpSpPr>
          <p:grpSpPr>
            <a:xfrm>
              <a:off x="1995480" y="2268360"/>
              <a:ext cx="1546200" cy="1519200"/>
              <a:chOff x="1995480" y="2268360"/>
              <a:chExt cx="1546200" cy="1519200"/>
            </a:xfrm>
          </p:grpSpPr>
          <p:sp>
            <p:nvSpPr>
              <p:cNvPr id="543" name=""/>
              <p:cNvSpPr/>
              <p:nvPr/>
            </p:nvSpPr>
            <p:spPr>
              <a:xfrm>
                <a:off x="2001960" y="2276280"/>
                <a:ext cx="1511280" cy="151128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409120" y="2268360"/>
                <a:ext cx="694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Cla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995480" y="265104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054880" y="2703240"/>
                <a:ext cx="986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atribu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054520" y="3200040"/>
                <a:ext cx="1279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operac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017800" y="316044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5729040" y="2268360"/>
              <a:ext cx="1546200" cy="1519200"/>
              <a:chOff x="5729040" y="2268360"/>
              <a:chExt cx="1546200" cy="1519200"/>
            </a:xfrm>
          </p:grpSpPr>
          <p:sp>
            <p:nvSpPr>
              <p:cNvPr id="550" name=""/>
              <p:cNvSpPr/>
              <p:nvPr/>
            </p:nvSpPr>
            <p:spPr>
              <a:xfrm>
                <a:off x="5735520" y="2276280"/>
                <a:ext cx="1511280" cy="151128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42680" y="2268360"/>
                <a:ext cx="694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Cla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29040" y="265104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788440" y="2703240"/>
                <a:ext cx="986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atribu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88080" y="3200040"/>
                <a:ext cx="1279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operac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751360" y="316044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3512880" y="3069720"/>
              <a:ext cx="222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932280" y="3720960"/>
            <a:ext cx="1447560" cy="544680"/>
            <a:chOff x="3932280" y="3720960"/>
            <a:chExt cx="1447560" cy="544680"/>
          </a:xfrm>
        </p:grpSpPr>
        <p:sp>
          <p:nvSpPr>
            <p:cNvPr id="558" name=""/>
            <p:cNvSpPr/>
            <p:nvPr/>
          </p:nvSpPr>
          <p:spPr>
            <a:xfrm>
              <a:off x="3932280" y="3720960"/>
              <a:ext cx="1447560" cy="5335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32280" y="3949560"/>
              <a:ext cx="1447560" cy="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190760" y="3897360"/>
              <a:ext cx="89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atrib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627440" y="3052800"/>
            <a:ext cx="0" cy="644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6C51-457A-4661-A172-A3FE9912A7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652840" y="1596960"/>
            <a:ext cx="1511280" cy="42696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05920" y="15890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Fich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56360" y="1596960"/>
            <a:ext cx="1511280" cy="42696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584760" y="1589040"/>
            <a:ext cx="90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Usu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68800" y="1808280"/>
            <a:ext cx="195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4148280" y="2471760"/>
            <a:ext cx="2009160" cy="676080"/>
            <a:chOff x="4148280" y="2471760"/>
            <a:chExt cx="2009160" cy="676080"/>
          </a:xfrm>
        </p:grpSpPr>
        <p:sp>
          <p:nvSpPr>
            <p:cNvPr id="568" name=""/>
            <p:cNvSpPr/>
            <p:nvPr/>
          </p:nvSpPr>
          <p:spPr>
            <a:xfrm>
              <a:off x="4148280" y="2471760"/>
              <a:ext cx="1998360" cy="6760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48280" y="2694240"/>
              <a:ext cx="1998360" cy="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59080" y="2718360"/>
              <a:ext cx="199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permiso de acce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4779000" y="13730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87680" y="4084560"/>
            <a:ext cx="1511280" cy="42696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48320" y="4076640"/>
            <a:ext cx="98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178680" y="4084560"/>
            <a:ext cx="1511280" cy="42696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478200" y="4076640"/>
            <a:ext cx="90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Pers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086360" y="4282920"/>
            <a:ext cx="20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197240" y="4960800"/>
            <a:ext cx="2020680" cy="889200"/>
            <a:chOff x="4197240" y="4960800"/>
            <a:chExt cx="2020680" cy="889200"/>
          </a:xfrm>
        </p:grpSpPr>
        <p:sp>
          <p:nvSpPr>
            <p:cNvPr id="578" name=""/>
            <p:cNvSpPr/>
            <p:nvPr/>
          </p:nvSpPr>
          <p:spPr>
            <a:xfrm>
              <a:off x="4197240" y="4960800"/>
              <a:ext cx="1998720" cy="88920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97240" y="5182920"/>
              <a:ext cx="1998720" cy="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19560" y="5173560"/>
              <a:ext cx="199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suel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pues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4799160" y="38606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148360" y="1795320"/>
            <a:ext cx="0" cy="644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11720" y="4284720"/>
            <a:ext cx="0" cy="644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199-BDED-4CDA-A51C-5F1827191D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66640" y="182160"/>
            <a:ext cx="708192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Rol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34760" y="1390320"/>
            <a:ext cx="798660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 rol es un extremo de una asocia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a asociación binaria tiene dos ro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pueden nombrar explícitament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584b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recorrer asociaciones, 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584b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especificar direccionalid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nombres de los ro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584b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en ser únicos en asociaciones que parten de una misma cla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584b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n necesarios para asociaciones entre objetos de la misma cl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4CB-D87A-47F1-9227-E74FB82EBF5E}" type="slidenum">
              <a:t>24</a:t>
            </a:fld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1982880" y="2268360"/>
            <a:ext cx="5279760" cy="1519200"/>
            <a:chOff x="1982880" y="2268360"/>
            <a:chExt cx="5279760" cy="1519200"/>
          </a:xfrm>
        </p:grpSpPr>
        <p:grpSp>
          <p:nvGrpSpPr>
            <p:cNvPr id="587" name=""/>
            <p:cNvGrpSpPr/>
            <p:nvPr/>
          </p:nvGrpSpPr>
          <p:grpSpPr>
            <a:xfrm>
              <a:off x="1982880" y="2268360"/>
              <a:ext cx="5279760" cy="1519200"/>
              <a:chOff x="1982880" y="2268360"/>
              <a:chExt cx="5279760" cy="151920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1982880" y="2268360"/>
                <a:ext cx="1546200" cy="1519200"/>
                <a:chOff x="1982880" y="2268360"/>
                <a:chExt cx="1546200" cy="15192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1989360" y="2276280"/>
                  <a:ext cx="1511280" cy="151128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396520" y="2268360"/>
                  <a:ext cx="69408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Cla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982880" y="2651040"/>
                  <a:ext cx="1523880" cy="0"/>
                </a:xfrm>
                <a:prstGeom prst="line">
                  <a:avLst/>
                </a:prstGeom>
                <a:ln w="1908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042280" y="2703240"/>
                  <a:ext cx="9867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atribut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041920" y="3200040"/>
                  <a:ext cx="12794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operacio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005200" y="3160440"/>
                  <a:ext cx="1523880" cy="0"/>
                </a:xfrm>
                <a:prstGeom prst="line">
                  <a:avLst/>
                </a:prstGeom>
                <a:ln w="1908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5716440" y="2268360"/>
                <a:ext cx="1546200" cy="1519200"/>
                <a:chOff x="5716440" y="2268360"/>
                <a:chExt cx="1546200" cy="151920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5722920" y="2276280"/>
                  <a:ext cx="1511280" cy="151128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130080" y="2268360"/>
                  <a:ext cx="69408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Cla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716440" y="2651040"/>
                  <a:ext cx="1523880" cy="0"/>
                </a:xfrm>
                <a:prstGeom prst="line">
                  <a:avLst/>
                </a:prstGeom>
                <a:ln w="1908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775840" y="2703240"/>
                  <a:ext cx="9867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atribut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775480" y="3200040"/>
                  <a:ext cx="12794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operacio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738760" y="3160440"/>
                  <a:ext cx="1523880" cy="0"/>
                </a:xfrm>
                <a:prstGeom prst="line">
                  <a:avLst/>
                </a:prstGeom>
                <a:ln w="1908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2" name=""/>
              <p:cNvSpPr/>
              <p:nvPr/>
            </p:nvSpPr>
            <p:spPr>
              <a:xfrm>
                <a:off x="3500280" y="3069720"/>
                <a:ext cx="2222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3500640" y="267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51680" y="267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4009680" y="30700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o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704-13EB-4BD6-BB1A-2557582EAC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730600" y="2506680"/>
            <a:ext cx="290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63720" y="210492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pie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42120" y="2678040"/>
            <a:ext cx="21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suario_autor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237280" y="287352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bdirecto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19320" y="2400480"/>
            <a:ext cx="1511280" cy="42696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Usu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637240" y="2436840"/>
            <a:ext cx="1819080" cy="42696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739960" y="2743200"/>
            <a:ext cx="289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83480" y="362736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7696080" y="2595240"/>
            <a:ext cx="0" cy="10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800760" y="2863800"/>
            <a:ext cx="0" cy="77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472520" y="2602080"/>
            <a:ext cx="22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413480" y="21985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336-92AF-461C-BCC3-A432702976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"/>
          <p:cNvGrpSpPr/>
          <p:nvPr/>
        </p:nvGrpSpPr>
        <p:grpSpPr>
          <a:xfrm>
            <a:off x="1009800" y="1349280"/>
            <a:ext cx="7845840" cy="4753440"/>
            <a:chOff x="1009800" y="1349280"/>
            <a:chExt cx="7845840" cy="4753440"/>
          </a:xfrm>
        </p:grpSpPr>
        <p:sp>
          <p:nvSpPr>
            <p:cNvPr id="619" name=""/>
            <p:cNvSpPr/>
            <p:nvPr/>
          </p:nvSpPr>
          <p:spPr>
            <a:xfrm>
              <a:off x="7573320" y="514044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recep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57240" y="56466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emis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5283360" y="1349280"/>
              <a:ext cx="3572280" cy="3630600"/>
              <a:chOff x="5283360" y="1349280"/>
              <a:chExt cx="3572280" cy="3630600"/>
            </a:xfrm>
          </p:grpSpPr>
          <p:sp>
            <p:nvSpPr>
              <p:cNvPr id="622" name=""/>
              <p:cNvSpPr/>
              <p:nvPr/>
            </p:nvSpPr>
            <p:spPr>
              <a:xfrm>
                <a:off x="5289480" y="1382760"/>
                <a:ext cx="3407760" cy="359712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346440" y="1349280"/>
                <a:ext cx="1074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Protocol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5283360" y="1753920"/>
                <a:ext cx="3414240" cy="324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35560" y="1809720"/>
                <a:ext cx="1846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355720" y="2416320"/>
                <a:ext cx="3499920" cy="256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EntradaCombo(m: TMensajeMovi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LIGBM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LL_ENT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SILEN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FIN_LIG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INTBM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FIN_LLENT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CODSEG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FININTB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5289480" y="2403360"/>
                <a:ext cx="3399480" cy="1296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356800" y="1762200"/>
                <a:ext cx="253368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mensaje: TMensajeMovi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movil_origen: TIdMovi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1013040" y="1492200"/>
              <a:ext cx="3085920" cy="1403280"/>
              <a:chOff x="1013040" y="1492200"/>
              <a:chExt cx="3085920" cy="1403280"/>
            </a:xfrm>
          </p:grpSpPr>
          <p:sp>
            <p:nvSpPr>
              <p:cNvPr id="630" name=""/>
              <p:cNvSpPr/>
              <p:nvPr/>
            </p:nvSpPr>
            <p:spPr>
              <a:xfrm>
                <a:off x="1019160" y="1492200"/>
                <a:ext cx="3079440" cy="140328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032920" y="1520280"/>
                <a:ext cx="8586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Comb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1013040" y="1853640"/>
                <a:ext cx="3085920" cy="252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049040" y="2071440"/>
                <a:ext cx="183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082520" y="2426040"/>
                <a:ext cx="3589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019160" y="2427840"/>
                <a:ext cx="307224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081080" y="1856880"/>
                <a:ext cx="24314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estado: TEstadoComb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movil_origen: TIdMovi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1009800" y="2895480"/>
              <a:ext cx="3547080" cy="3207240"/>
              <a:chOff x="1009800" y="2895480"/>
              <a:chExt cx="3547080" cy="320724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1009800" y="4016160"/>
                <a:ext cx="3547080" cy="2086560"/>
                <a:chOff x="1009800" y="4016160"/>
                <a:chExt cx="3547080" cy="20865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1013040" y="4025880"/>
                  <a:ext cx="3514320" cy="197568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156760" y="4016160"/>
                  <a:ext cx="12153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CtrlComb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013040" y="4337280"/>
                  <a:ext cx="3543840" cy="0"/>
                </a:xfrm>
                <a:prstGeom prst="line">
                  <a:avLst/>
                </a:prstGeom>
                <a:ln w="1908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135080" y="4337280"/>
                  <a:ext cx="268596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ultimoCanal: Tcan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estado: TEstadoCtrlComb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135440" y="4912920"/>
                  <a:ext cx="328932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inicioComunicació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finComunicació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enviarMensaje(m:TMensajeBase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noPortador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009800" y="4900320"/>
                  <a:ext cx="3543840" cy="0"/>
                </a:xfrm>
                <a:prstGeom prst="line">
                  <a:avLst/>
                </a:prstGeom>
                <a:ln w="1908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2210760" y="2895480"/>
                <a:ext cx="0" cy="1110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6099120" y="5249880"/>
              <a:ext cx="111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mensaj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91000" y="5711760"/>
              <a:ext cx="3141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616880" y="4984560"/>
              <a:ext cx="0" cy="7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BD6-4BB9-42FE-9F27-AD1D9E8747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"/>
          <p:cNvGrpSpPr/>
          <p:nvPr/>
        </p:nvGrpSpPr>
        <p:grpSpPr>
          <a:xfrm>
            <a:off x="1332000" y="1792440"/>
            <a:ext cx="6882480" cy="3657600"/>
            <a:chOff x="1332000" y="1792440"/>
            <a:chExt cx="6882480" cy="3657600"/>
          </a:xfrm>
        </p:grpSpPr>
        <p:grpSp>
          <p:nvGrpSpPr>
            <p:cNvPr id="650" name=""/>
            <p:cNvGrpSpPr/>
            <p:nvPr/>
          </p:nvGrpSpPr>
          <p:grpSpPr>
            <a:xfrm>
              <a:off x="6041880" y="3773520"/>
              <a:ext cx="2172600" cy="1676520"/>
              <a:chOff x="6041880" y="3773520"/>
              <a:chExt cx="2172600" cy="1676520"/>
            </a:xfrm>
          </p:grpSpPr>
          <p:sp>
            <p:nvSpPr>
              <p:cNvPr id="651" name=""/>
              <p:cNvSpPr/>
              <p:nvPr/>
            </p:nvSpPr>
            <p:spPr>
              <a:xfrm>
                <a:off x="6051600" y="3781440"/>
                <a:ext cx="2097000" cy="166860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310800" y="3773520"/>
                <a:ext cx="15735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Temporiz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041880" y="4238640"/>
                <a:ext cx="211464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107760" y="4251240"/>
                <a:ext cx="2106720" cy="9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tEncendido:Dur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tApagado: Dur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tSilencio: Dur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081840" y="5202360"/>
                <a:ext cx="20746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2998800" y="4687920"/>
              <a:ext cx="3052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1332000" y="1792440"/>
              <a:ext cx="3426840" cy="1324080"/>
              <a:chOff x="1332000" y="1792440"/>
              <a:chExt cx="3426840" cy="1324080"/>
            </a:xfrm>
          </p:grpSpPr>
          <p:sp>
            <p:nvSpPr>
              <p:cNvPr id="658" name=""/>
              <p:cNvSpPr/>
              <p:nvPr/>
            </p:nvSpPr>
            <p:spPr>
              <a:xfrm>
                <a:off x="1338120" y="1825560"/>
                <a:ext cx="3414240" cy="129060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626560" y="1792440"/>
                <a:ext cx="6300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L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1332000" y="2196720"/>
                <a:ext cx="3420720" cy="324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90320" y="2252880"/>
                <a:ext cx="1451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ident: LED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87440" y="2749680"/>
                <a:ext cx="3368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parpadea(te:Duration, ta:Duration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1353960" y="2697120"/>
                <a:ext cx="3404880" cy="1296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 flipV="1">
              <a:off x="2998800" y="3116160"/>
              <a:ext cx="0" cy="157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95920" y="3232080"/>
              <a:ext cx="202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led_que_encie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A4F-3E9E-4B1D-8D9E-E4673227DC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66640" y="182160"/>
            <a:ext cx="708192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Restricciones en Asocia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55360" y="1390320"/>
            <a:ext cx="789300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 las propiedades vistas hasta ahora se pueden modelar la mayoría de las relaciones estructur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n embargo, existen algunas que son más fácilmente expresables con las siguientes restricion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ff"/>
                </a:solidFill>
                <a:latin typeface="Arial"/>
              </a:rPr>
              <a:t>{ordered}/{sorted} indica que los objetos están orden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ff"/>
                </a:solidFill>
                <a:latin typeface="Arial"/>
              </a:rPr>
              <a:t>{implicit} indica que la relación no es manifiesta, solo conceptu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ff"/>
                </a:solidFill>
                <a:latin typeface="Arial"/>
              </a:rPr>
              <a:t>{changeable} se pueden modificar los enl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ff"/>
                </a:solidFill>
                <a:latin typeface="Arial"/>
              </a:rPr>
              <a:t>{addonly} solo se pueden añadi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ff"/>
                </a:solidFill>
                <a:latin typeface="Arial"/>
              </a:rPr>
              <a:t>{frozen} no se pueden modific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DE3-B746-4ADA-8E9B-884750E03768}" type="slidenum">
              <a:t>29</a:t>
            </a:fld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1388880"/>
            <a:ext cx="8763120" cy="50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ML es un 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lenguaj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de modelado de soft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orciona un vocabulario y reglas para crear modelos soft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ficientemente expresivo para cubrir distintas vistas de la arquitectura del software a lo largo del ciclo de vid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yor nivel de abstracción que un lenguaje de programació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ML es un lenguaje para 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visualizar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los elementos de un gran sistema software, facilitand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comunicación entre los participantes (incluidas herramientas) en el desarrollo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comprensión de las soluciones (notación gráfica)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mantenimiento de las soluciones conceptuales a lo largo del tiempo (documentación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8720" y="120600"/>
            <a:ext cx="1714320" cy="7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CDA-F18A-4510-B866-4F8D854BF0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"/>
          <p:cNvGrpSpPr/>
          <p:nvPr/>
        </p:nvGrpSpPr>
        <p:grpSpPr>
          <a:xfrm>
            <a:off x="1712880" y="2268360"/>
            <a:ext cx="1546200" cy="1519200"/>
            <a:chOff x="1712880" y="2268360"/>
            <a:chExt cx="1546200" cy="1519200"/>
          </a:xfrm>
        </p:grpSpPr>
        <p:sp>
          <p:nvSpPr>
            <p:cNvPr id="669" name=""/>
            <p:cNvSpPr/>
            <p:nvPr/>
          </p:nvSpPr>
          <p:spPr>
            <a:xfrm>
              <a:off x="1719360" y="2276280"/>
              <a:ext cx="1511280" cy="151128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26520" y="2268360"/>
              <a:ext cx="694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Cl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712880" y="265104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72280" y="2703240"/>
              <a:ext cx="986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atribu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71920" y="3200040"/>
              <a:ext cx="1279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oper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735200" y="316044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6143760" y="2268360"/>
            <a:ext cx="1546200" cy="1519200"/>
            <a:chOff x="6143760" y="2268360"/>
            <a:chExt cx="1546200" cy="1519200"/>
          </a:xfrm>
        </p:grpSpPr>
        <p:sp>
          <p:nvSpPr>
            <p:cNvPr id="676" name=""/>
            <p:cNvSpPr/>
            <p:nvPr/>
          </p:nvSpPr>
          <p:spPr>
            <a:xfrm>
              <a:off x="6150240" y="2276280"/>
              <a:ext cx="1511280" cy="151128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57400" y="2268360"/>
              <a:ext cx="694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Cl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143760" y="265104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203160" y="2703240"/>
              <a:ext cx="986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atribu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202800" y="3200040"/>
              <a:ext cx="1279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oper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166080" y="316044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3228840" y="3070080"/>
            <a:ext cx="2921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129840" y="259380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ordered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264280" y="2673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09680" y="30700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o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AB8-1B18-446A-8350-D32C787B28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1549440" y="1639800"/>
            <a:ext cx="1511280" cy="49680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Vent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046320" y="1890720"/>
            <a:ext cx="324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01400" y="146844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ordered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64280" y="14907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008600" y="193032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i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49880" y="1639800"/>
            <a:ext cx="1511280" cy="49680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Panta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549440" y="3693960"/>
            <a:ext cx="1511280" cy="49716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Alum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60720" y="3941640"/>
            <a:ext cx="3089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02120" y="352260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sorted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64280" y="35449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009320" y="39416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l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149880" y="3693960"/>
            <a:ext cx="1511280" cy="49716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Cur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54D-D54B-4D09-977B-84AF051C89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"/>
          <p:cNvGrpSpPr/>
          <p:nvPr/>
        </p:nvGrpSpPr>
        <p:grpSpPr>
          <a:xfrm>
            <a:off x="1555920" y="2268360"/>
            <a:ext cx="1546200" cy="1519200"/>
            <a:chOff x="1555920" y="2268360"/>
            <a:chExt cx="1546200" cy="1519200"/>
          </a:xfrm>
        </p:grpSpPr>
        <p:sp>
          <p:nvSpPr>
            <p:cNvPr id="699" name=""/>
            <p:cNvSpPr/>
            <p:nvPr/>
          </p:nvSpPr>
          <p:spPr>
            <a:xfrm>
              <a:off x="1562400" y="2276280"/>
              <a:ext cx="1511280" cy="151128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925280" y="2268360"/>
              <a:ext cx="7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Puer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55920" y="265104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16400" y="270324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614600" y="3200040"/>
              <a:ext cx="1190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leerNivel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578240" y="316044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6143760" y="2268360"/>
            <a:ext cx="1546200" cy="1519200"/>
            <a:chOff x="6143760" y="2268360"/>
            <a:chExt cx="1546200" cy="1519200"/>
          </a:xfrm>
        </p:grpSpPr>
        <p:sp>
          <p:nvSpPr>
            <p:cNvPr id="706" name=""/>
            <p:cNvSpPr/>
            <p:nvPr/>
          </p:nvSpPr>
          <p:spPr>
            <a:xfrm>
              <a:off x="6150240" y="2276280"/>
              <a:ext cx="1511280" cy="151128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442200" y="2268360"/>
              <a:ext cx="924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Tecl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143760" y="265104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201360" y="2703240"/>
              <a:ext cx="1282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ultimaTec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02440" y="3200040"/>
              <a:ext cx="35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166080" y="316044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3075120" y="3070080"/>
            <a:ext cx="307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101400" y="265104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ordered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264280" y="2673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007880" y="307008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uertosTec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ED5-F3EC-4A29-B98A-623E6FBC69E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66640" y="182160"/>
            <a:ext cx="708192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Asociaciones Calificada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052640" y="1252080"/>
            <a:ext cx="7402320" cy="476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lacionan dos clases y un calificad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alificador es un atributo especial qu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584b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duce la multiplicidad de la asociación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584b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asifica el conjunto de objetos del extremo “muchos”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584b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uede considerarse como una asociación ternar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artición disjunta de la asocia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4F5-D6DD-4242-84ED-A97890E66AA9}" type="slidenum">
              <a:t>33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1968480" y="1609560"/>
            <a:ext cx="1546200" cy="1519200"/>
            <a:chOff x="1968480" y="1609560"/>
            <a:chExt cx="1546200" cy="1519200"/>
          </a:xfrm>
        </p:grpSpPr>
        <p:sp>
          <p:nvSpPr>
            <p:cNvPr id="719" name=""/>
            <p:cNvSpPr/>
            <p:nvPr/>
          </p:nvSpPr>
          <p:spPr>
            <a:xfrm>
              <a:off x="1974960" y="1617480"/>
              <a:ext cx="1511280" cy="151128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82120" y="1609560"/>
              <a:ext cx="694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Cl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68480" y="199224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027880" y="2044440"/>
              <a:ext cx="986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atribu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27520" y="2541240"/>
              <a:ext cx="1279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oper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990800" y="250164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6556320" y="1609560"/>
            <a:ext cx="1546200" cy="1519200"/>
            <a:chOff x="6556320" y="1609560"/>
            <a:chExt cx="1546200" cy="1519200"/>
          </a:xfrm>
        </p:grpSpPr>
        <p:sp>
          <p:nvSpPr>
            <p:cNvPr id="726" name=""/>
            <p:cNvSpPr/>
            <p:nvPr/>
          </p:nvSpPr>
          <p:spPr>
            <a:xfrm>
              <a:off x="6562800" y="1617480"/>
              <a:ext cx="1511280" cy="151128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969960" y="1609560"/>
              <a:ext cx="694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Cl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56320" y="199224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615720" y="2044440"/>
              <a:ext cx="986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atribu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615360" y="2541240"/>
              <a:ext cx="1279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oper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78640" y="250164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3486240" y="2411280"/>
            <a:ext cx="306072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514680" y="19922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676840" y="2014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22240" y="24112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o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1974960" y="4351320"/>
            <a:ext cx="6134040" cy="1519200"/>
            <a:chOff x="1974960" y="4351320"/>
            <a:chExt cx="6134040" cy="1519200"/>
          </a:xfrm>
        </p:grpSpPr>
        <p:grpSp>
          <p:nvGrpSpPr>
            <p:cNvPr id="737" name=""/>
            <p:cNvGrpSpPr/>
            <p:nvPr/>
          </p:nvGrpSpPr>
          <p:grpSpPr>
            <a:xfrm>
              <a:off x="1974960" y="4351320"/>
              <a:ext cx="1546200" cy="1519200"/>
              <a:chOff x="1974960" y="4351320"/>
              <a:chExt cx="1546200" cy="1519200"/>
            </a:xfrm>
          </p:grpSpPr>
          <p:sp>
            <p:nvSpPr>
              <p:cNvPr id="738" name=""/>
              <p:cNvSpPr/>
              <p:nvPr/>
            </p:nvSpPr>
            <p:spPr>
              <a:xfrm>
                <a:off x="1981440" y="4359240"/>
                <a:ext cx="1511280" cy="151128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388600" y="4351320"/>
                <a:ext cx="694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Cla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974960" y="473400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034360" y="4786200"/>
                <a:ext cx="986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atribu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034000" y="5283000"/>
                <a:ext cx="1279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operac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997280" y="524340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6562800" y="4351320"/>
              <a:ext cx="1546200" cy="1519200"/>
              <a:chOff x="6562800" y="4351320"/>
              <a:chExt cx="1546200" cy="1519200"/>
            </a:xfrm>
          </p:grpSpPr>
          <p:sp>
            <p:nvSpPr>
              <p:cNvPr id="745" name=""/>
              <p:cNvSpPr/>
              <p:nvPr/>
            </p:nvSpPr>
            <p:spPr>
              <a:xfrm>
                <a:off x="6569280" y="4359240"/>
                <a:ext cx="1511280" cy="151128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976440" y="4351320"/>
                <a:ext cx="694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Cla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562800" y="473400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622200" y="4786200"/>
                <a:ext cx="986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atribu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621840" y="5283000"/>
                <a:ext cx="1279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operac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585120" y="524340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4599000" y="5153040"/>
              <a:ext cx="19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683320" y="47563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797000" y="515304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asoci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92360" y="5015160"/>
              <a:ext cx="1116000" cy="29340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calific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5573880" y="2503440"/>
            <a:ext cx="2412000" cy="2548080"/>
            <a:chOff x="5573880" y="2503440"/>
            <a:chExt cx="2412000" cy="2548080"/>
          </a:xfrm>
        </p:grpSpPr>
        <p:sp>
          <p:nvSpPr>
            <p:cNvPr id="756" name=""/>
            <p:cNvSpPr/>
            <p:nvPr/>
          </p:nvSpPr>
          <p:spPr>
            <a:xfrm>
              <a:off x="5573880" y="2503440"/>
              <a:ext cx="925200" cy="2548080"/>
            </a:xfrm>
            <a:custGeom>
              <a:avLst/>
              <a:gdLst/>
              <a:ahLst/>
              <a:rect l="l" t="t" r="r" b="b"/>
              <a:pathLst>
                <a:path w="583" h="1605">
                  <a:moveTo>
                    <a:pt x="583" y="0"/>
                  </a:moveTo>
                  <a:cubicBezTo>
                    <a:pt x="485" y="115"/>
                    <a:pt x="2" y="426"/>
                    <a:pt x="1" y="693"/>
                  </a:cubicBezTo>
                  <a:cubicBezTo>
                    <a:pt x="0" y="960"/>
                    <a:pt x="297" y="1281"/>
                    <a:pt x="577" y="1605"/>
                  </a:cubicBezTo>
                </a:path>
              </a:pathLst>
            </a:custGeom>
            <a:noFill/>
            <a:ln w="22320">
              <a:solidFill>
                <a:srgbClr val="5250b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96920" y="3409920"/>
              <a:ext cx="238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5250b0"/>
                  </a:solidFill>
                  <a:latin typeface="Times New Roman"/>
                </a:rPr>
                <a:t>disminuye multiplic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6158880" y="1936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1A2-3A7D-455C-88F4-7EE6DB49654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984320" y="4268880"/>
            <a:ext cx="1511280" cy="42696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370560" y="4300560"/>
            <a:ext cx="1511280" cy="42696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70440" y="4292640"/>
            <a:ext cx="90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Pers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508200" y="4497480"/>
            <a:ext cx="2846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069520" y="406404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mpl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867200" y="5598720"/>
            <a:ext cx="14875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951520" y="52038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134680" y="51688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mpl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481560" y="5462640"/>
            <a:ext cx="1395360" cy="29376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depart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71720" y="5389560"/>
            <a:ext cx="1511280" cy="42696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04040" y="5359320"/>
            <a:ext cx="1511280" cy="42696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Pers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895400" y="1868400"/>
            <a:ext cx="1511280" cy="42696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281640" y="1900080"/>
            <a:ext cx="1511280" cy="42732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765120" y="1892160"/>
            <a:ext cx="5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3419640" y="2085480"/>
            <a:ext cx="286056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980600" y="16635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1895400" y="2654280"/>
            <a:ext cx="5943600" cy="647640"/>
            <a:chOff x="1895400" y="2654280"/>
            <a:chExt cx="5943600" cy="647640"/>
          </a:xfrm>
        </p:grpSpPr>
        <p:sp>
          <p:nvSpPr>
            <p:cNvPr id="776" name=""/>
            <p:cNvSpPr/>
            <p:nvPr/>
          </p:nvSpPr>
          <p:spPr>
            <a:xfrm flipV="1">
              <a:off x="4790880" y="3083040"/>
              <a:ext cx="154944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75200" y="26892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058360" y="265428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conteni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05240" y="2948040"/>
              <a:ext cx="1395360" cy="29376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nom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895400" y="2874960"/>
              <a:ext cx="1511280" cy="42696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Directo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27720" y="2844720"/>
              <a:ext cx="1511280" cy="42696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5863680" y="2104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03360" y="4511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89040" y="5608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B5C-64B4-4A18-8488-731F3592670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3500280" y="3468600"/>
            <a:ext cx="234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843520" y="1746360"/>
            <a:ext cx="2729160" cy="2741400"/>
            <a:chOff x="5843520" y="1746360"/>
            <a:chExt cx="2729160" cy="2741400"/>
          </a:xfrm>
        </p:grpSpPr>
        <p:sp>
          <p:nvSpPr>
            <p:cNvPr id="787" name=""/>
            <p:cNvSpPr/>
            <p:nvPr/>
          </p:nvSpPr>
          <p:spPr>
            <a:xfrm>
              <a:off x="5859720" y="1746360"/>
              <a:ext cx="2712960" cy="273024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59120" y="1746360"/>
              <a:ext cx="1328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GestorLE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5843520" y="2112480"/>
              <a:ext cx="2718000" cy="468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889960" y="2475000"/>
              <a:ext cx="196524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inicializar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llamadaEntrant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tomaDeLínea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colagar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pilaBaja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modoContestador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870520" y="2516040"/>
              <a:ext cx="270216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4123080" y="305604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dsPue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501360" y="2639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568520" y="1192320"/>
            <a:ext cx="3426840" cy="1324080"/>
            <a:chOff x="1568520" y="1192320"/>
            <a:chExt cx="3426840" cy="1324080"/>
          </a:xfrm>
        </p:grpSpPr>
        <p:sp>
          <p:nvSpPr>
            <p:cNvPr id="795" name=""/>
            <p:cNvSpPr/>
            <p:nvPr/>
          </p:nvSpPr>
          <p:spPr>
            <a:xfrm>
              <a:off x="1574640" y="1225440"/>
              <a:ext cx="3414240" cy="129060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63080" y="1192320"/>
              <a:ext cx="630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1568520" y="1596600"/>
              <a:ext cx="3420720" cy="324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626840" y="1652760"/>
              <a:ext cx="1451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ident: LED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623960" y="2149560"/>
              <a:ext cx="3368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parpadea(te:Duration, ta:Duratio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1590480" y="2097000"/>
              <a:ext cx="3404880" cy="1296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3500280" y="2500200"/>
            <a:ext cx="0" cy="9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1954080" y="4772160"/>
            <a:ext cx="2172600" cy="1675800"/>
            <a:chOff x="1954080" y="4772160"/>
            <a:chExt cx="2172600" cy="1675800"/>
          </a:xfrm>
        </p:grpSpPr>
        <p:sp>
          <p:nvSpPr>
            <p:cNvPr id="803" name=""/>
            <p:cNvSpPr/>
            <p:nvPr/>
          </p:nvSpPr>
          <p:spPr>
            <a:xfrm>
              <a:off x="1963800" y="4779720"/>
              <a:ext cx="2097000" cy="166824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223000" y="4772160"/>
              <a:ext cx="1573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Temporiz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954080" y="5236920"/>
              <a:ext cx="211464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19960" y="5249520"/>
              <a:ext cx="21067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tEncendido:Du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tApagado: Du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tSilencio: Du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994040" y="6200640"/>
              <a:ext cx="20746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V="1">
            <a:off x="2414520" y="2522160"/>
            <a:ext cx="0" cy="225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921680" y="252252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4068720" y="4478400"/>
            <a:ext cx="3573360" cy="1200240"/>
            <a:chOff x="4068720" y="4478400"/>
            <a:chExt cx="3573360" cy="1200240"/>
          </a:xfrm>
        </p:grpSpPr>
        <p:sp>
          <p:nvSpPr>
            <p:cNvPr id="811" name=""/>
            <p:cNvSpPr/>
            <p:nvPr/>
          </p:nvSpPr>
          <p:spPr>
            <a:xfrm>
              <a:off x="6613560" y="4478400"/>
              <a:ext cx="1028520" cy="28260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tipoEv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138800" y="4760640"/>
              <a:ext cx="0" cy="9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068720" y="5678640"/>
              <a:ext cx="307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22720" y="5249880"/>
              <a:ext cx="151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parpadeo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782B-41B6-4C8F-9AF9-6649E6D5605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66640" y="182160"/>
            <a:ext cx="708192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Restric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855360" y="1390320"/>
            <a:ext cx="789300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veces es necesario especificar restricci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bre objetos asocia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bre atributos de un obje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bre la vida de los obje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bre enl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expresan en lenguaje natural o con fórmul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DA7-5B3F-41F1-AF60-38E6683744BC}" type="slidenum">
              <a:t>37</a:t>
            </a:fld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1808280" y="1700280"/>
            <a:ext cx="1523880" cy="944640"/>
            <a:chOff x="1808280" y="1700280"/>
            <a:chExt cx="1523880" cy="944640"/>
          </a:xfrm>
        </p:grpSpPr>
        <p:sp>
          <p:nvSpPr>
            <p:cNvPr id="818" name=""/>
            <p:cNvSpPr/>
            <p:nvPr/>
          </p:nvSpPr>
          <p:spPr>
            <a:xfrm>
              <a:off x="1814400" y="1708200"/>
              <a:ext cx="1511640" cy="9367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011680" y="1700280"/>
              <a:ext cx="1114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Emple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808280" y="207792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867320" y="2130480"/>
              <a:ext cx="796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sala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2558880" y="3249720"/>
            <a:ext cx="1217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2558880" y="2662200"/>
            <a:ext cx="9720" cy="58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3776760" y="2053800"/>
            <a:ext cx="0" cy="119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332160" y="2063880"/>
            <a:ext cx="44460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331440" y="16048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re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117800" y="278928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bord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863360" y="324972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salario &lt; directivo.salario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5624640" y="1708200"/>
            <a:ext cx="3091320" cy="1543680"/>
            <a:chOff x="5624640" y="1708200"/>
            <a:chExt cx="3091320" cy="1543680"/>
          </a:xfrm>
        </p:grpSpPr>
        <p:grpSp>
          <p:nvGrpSpPr>
            <p:cNvPr id="830" name=""/>
            <p:cNvGrpSpPr/>
            <p:nvPr/>
          </p:nvGrpSpPr>
          <p:grpSpPr>
            <a:xfrm>
              <a:off x="5624640" y="1708200"/>
              <a:ext cx="1523880" cy="1076400"/>
              <a:chOff x="5624640" y="1708200"/>
              <a:chExt cx="1523880" cy="1076400"/>
            </a:xfrm>
          </p:grpSpPr>
          <p:sp>
            <p:nvSpPr>
              <p:cNvPr id="831" name=""/>
              <p:cNvSpPr/>
              <p:nvPr/>
            </p:nvSpPr>
            <p:spPr>
              <a:xfrm>
                <a:off x="5630760" y="1716120"/>
                <a:ext cx="1511280" cy="106848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910840" y="1708200"/>
                <a:ext cx="9486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Venta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624640" y="209088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683680" y="2143440"/>
                <a:ext cx="9104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anchur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altur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6761160" y="2853000"/>
              <a:ext cx="195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{anchura&lt;altura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54960" y="525780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sid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84520" y="4554360"/>
            <a:ext cx="1511280" cy="88452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Pers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3309840" y="5249880"/>
            <a:ext cx="273852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90520" y="4753080"/>
            <a:ext cx="16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subconjunto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624640" y="4707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287880" y="4660920"/>
            <a:ext cx="27460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3892680" y="4684680"/>
            <a:ext cx="0" cy="54936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56280" y="4554360"/>
            <a:ext cx="1511280" cy="88452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Co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07240" y="42879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712600" y="2752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353760" y="4359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01680" y="432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665320" y="4930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D22-2B8F-4827-9341-8A9ED17E4FF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66640" y="182160"/>
            <a:ext cx="708192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Agregación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55360" y="1390320"/>
            <a:ext cx="789300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agregación es un tipo especial de asoci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dela la relación “ser parte d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itiva y antisimét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sual la </a:t>
            </a:r>
            <a:r>
              <a:rPr b="0" lang="es-ES_tradnl" sz="2400" spc="-1" strike="noStrike">
                <a:solidFill>
                  <a:srgbClr val="ff00ff"/>
                </a:solidFill>
                <a:latin typeface="Arial"/>
              </a:rPr>
              <a:t>propaga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operaciones entre un objeto y sus componen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existencia de un objeto componente suele depender de la existencia del objeto compues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0D03-CA48-44B1-9176-78B7134BAA7B}" type="slidenum">
              <a:t>39</a:t>
            </a:fld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ML es un lenguaje para 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especificar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soft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pueden construir modelos precisos, no ambiguos y complet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bre las decisiones de análisis, diseño e implementació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ML es un lenguaje para 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construir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soft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es un lenguaje de programación visual, pero sus modelos se pueden conectar de forma directa a una gran variedad de ell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rrespondencias entre UML y lenguajes: Java, C++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geniería directa: generación de códig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geniería inversa: reconstrucción de model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geniería de ida y vuelta (round trip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ML es un lenguaje para 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documentar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quisitos, arquitectura, diseño, código fuente, pruebas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8720" y="120600"/>
            <a:ext cx="1714320" cy="7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713-C9C9-4546-A080-A2CDFD5DEE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1995480" y="2268360"/>
            <a:ext cx="5280120" cy="1519200"/>
            <a:chOff x="1995480" y="2268360"/>
            <a:chExt cx="5280120" cy="1519200"/>
          </a:xfrm>
        </p:grpSpPr>
        <p:grpSp>
          <p:nvGrpSpPr>
            <p:cNvPr id="852" name=""/>
            <p:cNvGrpSpPr/>
            <p:nvPr/>
          </p:nvGrpSpPr>
          <p:grpSpPr>
            <a:xfrm>
              <a:off x="1995480" y="2268360"/>
              <a:ext cx="1546200" cy="1519200"/>
              <a:chOff x="1995480" y="2268360"/>
              <a:chExt cx="1546200" cy="1519200"/>
            </a:xfrm>
          </p:grpSpPr>
          <p:sp>
            <p:nvSpPr>
              <p:cNvPr id="853" name=""/>
              <p:cNvSpPr/>
              <p:nvPr/>
            </p:nvSpPr>
            <p:spPr>
              <a:xfrm>
                <a:off x="2001960" y="2276280"/>
                <a:ext cx="1511280" cy="151128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409120" y="2268360"/>
                <a:ext cx="694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Cla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95480" y="265104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054880" y="2703240"/>
                <a:ext cx="986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atribu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054520" y="3200040"/>
                <a:ext cx="1279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operac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017800" y="316044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5729400" y="2268360"/>
              <a:ext cx="1546200" cy="1519200"/>
              <a:chOff x="5729400" y="2268360"/>
              <a:chExt cx="1546200" cy="1519200"/>
            </a:xfrm>
          </p:grpSpPr>
          <p:sp>
            <p:nvSpPr>
              <p:cNvPr id="860" name=""/>
              <p:cNvSpPr/>
              <p:nvPr/>
            </p:nvSpPr>
            <p:spPr>
              <a:xfrm>
                <a:off x="5735880" y="2276280"/>
                <a:ext cx="1511280" cy="151128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143040" y="2268360"/>
                <a:ext cx="694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Cla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729400" y="265104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788800" y="2703240"/>
                <a:ext cx="986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atribu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788440" y="3200040"/>
                <a:ext cx="1279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operac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751720" y="316044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4056120" y="3070080"/>
              <a:ext cx="1679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513240" y="267336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264280" y="267336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3640" y="307008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asoci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13240" y="2882880"/>
              <a:ext cx="525240" cy="35892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432-9484-4C22-A28A-4ECC582529E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1676520" y="2378160"/>
            <a:ext cx="5389560" cy="1258920"/>
            <a:chOff x="1676520" y="2378160"/>
            <a:chExt cx="5389560" cy="1258920"/>
          </a:xfrm>
        </p:grpSpPr>
        <p:sp>
          <p:nvSpPr>
            <p:cNvPr id="872" name=""/>
            <p:cNvSpPr/>
            <p:nvPr/>
          </p:nvSpPr>
          <p:spPr>
            <a:xfrm>
              <a:off x="3713040" y="3024360"/>
              <a:ext cx="167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921200" y="262728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21160" y="302436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vért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70160" y="2836800"/>
              <a:ext cx="525600" cy="35892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6" name=""/>
            <p:cNvGrpSpPr/>
            <p:nvPr/>
          </p:nvGrpSpPr>
          <p:grpSpPr>
            <a:xfrm>
              <a:off x="1676520" y="2397240"/>
              <a:ext cx="1528200" cy="1198080"/>
              <a:chOff x="1676520" y="2397240"/>
              <a:chExt cx="1528200" cy="1198080"/>
            </a:xfrm>
          </p:grpSpPr>
          <p:sp>
            <p:nvSpPr>
              <p:cNvPr id="877" name=""/>
              <p:cNvSpPr/>
              <p:nvPr/>
            </p:nvSpPr>
            <p:spPr>
              <a:xfrm>
                <a:off x="1682640" y="2405160"/>
                <a:ext cx="1510920" cy="119016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931040" y="2397240"/>
                <a:ext cx="10108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Polígo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676520" y="2779560"/>
                <a:ext cx="152352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735200" y="3085920"/>
                <a:ext cx="986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dibujar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1680840" y="3056040"/>
                <a:ext cx="1523880" cy="1224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5537160" y="2438280"/>
              <a:ext cx="1528920" cy="1198800"/>
              <a:chOff x="5537160" y="2438280"/>
              <a:chExt cx="1528920" cy="1198800"/>
            </a:xfrm>
          </p:grpSpPr>
          <p:sp>
            <p:nvSpPr>
              <p:cNvPr id="883" name=""/>
              <p:cNvSpPr/>
              <p:nvPr/>
            </p:nvSpPr>
            <p:spPr>
              <a:xfrm>
                <a:off x="5543640" y="2446560"/>
                <a:ext cx="1511280" cy="119052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938560" y="2438280"/>
                <a:ext cx="7185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Pun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537160" y="282096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596560" y="3127320"/>
                <a:ext cx="986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dibujar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5541840" y="3097080"/>
                <a:ext cx="1524240" cy="1260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"/>
            <p:cNvSpPr/>
            <p:nvPr/>
          </p:nvSpPr>
          <p:spPr>
            <a:xfrm>
              <a:off x="5381640" y="2962440"/>
              <a:ext cx="144360" cy="144360"/>
            </a:xfrm>
            <a:prstGeom prst="ellipse">
              <a:avLst/>
            </a:prstGeom>
            <a:solidFill>
              <a:srgbClr val="7584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897360" y="2763720"/>
              <a:ext cx="12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037760" y="237816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dibuj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81F-EF32-4864-8ED3-7EA07321FC9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"/>
          <p:cNvGrpSpPr/>
          <p:nvPr/>
        </p:nvGrpSpPr>
        <p:grpSpPr>
          <a:xfrm>
            <a:off x="1668600" y="1384200"/>
            <a:ext cx="1524960" cy="1298160"/>
            <a:chOff x="1668600" y="1384200"/>
            <a:chExt cx="1524960" cy="1298160"/>
          </a:xfrm>
        </p:grpSpPr>
        <p:sp>
          <p:nvSpPr>
            <p:cNvPr id="892" name=""/>
            <p:cNvSpPr/>
            <p:nvPr/>
          </p:nvSpPr>
          <p:spPr>
            <a:xfrm>
              <a:off x="1676160" y="1391760"/>
              <a:ext cx="1510920" cy="129060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39040" y="1384200"/>
              <a:ext cx="7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Puer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669680" y="176652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730160" y="181908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28360" y="2276280"/>
              <a:ext cx="1190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leerNivel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668600" y="2185560"/>
              <a:ext cx="152352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3214800" y="1965240"/>
            <a:ext cx="247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72560" y="154620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ordered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249880" y="15685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206160" y="194328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uertosTec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245760" y="1535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648400" y="1770120"/>
            <a:ext cx="525240" cy="35856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6211800" y="1409760"/>
            <a:ext cx="1525320" cy="1298520"/>
            <a:chOff x="6211800" y="1409760"/>
            <a:chExt cx="1525320" cy="1298520"/>
          </a:xfrm>
        </p:grpSpPr>
        <p:sp>
          <p:nvSpPr>
            <p:cNvPr id="905" name=""/>
            <p:cNvSpPr/>
            <p:nvPr/>
          </p:nvSpPr>
          <p:spPr>
            <a:xfrm>
              <a:off x="6219720" y="1417680"/>
              <a:ext cx="1511280" cy="129060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511680" y="1409760"/>
              <a:ext cx="924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Tecl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213240" y="179244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73720" y="184464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271920" y="2301840"/>
              <a:ext cx="35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11800" y="221148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273000" y="179244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ultimaTec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928840" y="5497560"/>
            <a:ext cx="1623600" cy="891720"/>
            <a:chOff x="5928840" y="5497560"/>
            <a:chExt cx="1623600" cy="891720"/>
          </a:xfrm>
        </p:grpSpPr>
        <p:sp>
          <p:nvSpPr>
            <p:cNvPr id="913" name=""/>
            <p:cNvSpPr/>
            <p:nvPr/>
          </p:nvSpPr>
          <p:spPr>
            <a:xfrm>
              <a:off x="5986440" y="5505120"/>
              <a:ext cx="1511280" cy="88416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928840" y="5497560"/>
              <a:ext cx="1623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InterfazExter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980320" y="587988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040440" y="593244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991120" y="6114960"/>
              <a:ext cx="152424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040440" y="58798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6535800" y="5010120"/>
            <a:ext cx="412560" cy="49536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1911240" y="3386160"/>
            <a:ext cx="1535040" cy="891720"/>
            <a:chOff x="1911240" y="3386160"/>
            <a:chExt cx="1535040" cy="891720"/>
          </a:xfrm>
        </p:grpSpPr>
        <p:sp>
          <p:nvSpPr>
            <p:cNvPr id="921" name=""/>
            <p:cNvSpPr/>
            <p:nvPr/>
          </p:nvSpPr>
          <p:spPr>
            <a:xfrm>
              <a:off x="1917360" y="3393720"/>
              <a:ext cx="1511280" cy="88416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223000" y="3386160"/>
              <a:ext cx="896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911240" y="376848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971360" y="382104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922040" y="4003560"/>
              <a:ext cx="152424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71360" y="37684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3830760" y="3394080"/>
            <a:ext cx="1535040" cy="891720"/>
            <a:chOff x="3830760" y="3394080"/>
            <a:chExt cx="1535040" cy="891720"/>
          </a:xfrm>
        </p:grpSpPr>
        <p:sp>
          <p:nvSpPr>
            <p:cNvPr id="928" name=""/>
            <p:cNvSpPr/>
            <p:nvPr/>
          </p:nvSpPr>
          <p:spPr>
            <a:xfrm>
              <a:off x="3836880" y="3401640"/>
              <a:ext cx="1511280" cy="88416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276080" y="3394080"/>
              <a:ext cx="630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30760" y="3776400"/>
              <a:ext cx="152388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90880" y="382896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841560" y="4011480"/>
              <a:ext cx="1524240" cy="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890880" y="37764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2649600" y="4842000"/>
            <a:ext cx="4083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2655720" y="4277880"/>
            <a:ext cx="6480" cy="55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4564080" y="4260600"/>
            <a:ext cx="14400" cy="569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 flipV="1">
            <a:off x="6738840" y="2682360"/>
            <a:ext cx="6480" cy="232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627080" y="4290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8DC-C2CE-4939-BAA3-67EFBB11ED5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Agregación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3960" y="1380960"/>
            <a:ext cx="4572000" cy="509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ija (lámpar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ariable (empresa-departament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ursiva (sentencia-bloqu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es implementable eficientem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algunos casos puede llegar a no permitir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39600" y="4532400"/>
            <a:ext cx="8353440" cy="1236600"/>
            <a:chOff x="39600" y="4532400"/>
            <a:chExt cx="8353440" cy="1236600"/>
          </a:xfrm>
        </p:grpSpPr>
        <p:grpSp>
          <p:nvGrpSpPr>
            <p:cNvPr id="942" name=""/>
            <p:cNvGrpSpPr/>
            <p:nvPr/>
          </p:nvGrpSpPr>
          <p:grpSpPr>
            <a:xfrm>
              <a:off x="5138640" y="4532400"/>
              <a:ext cx="3254400" cy="1236600"/>
              <a:chOff x="5138640" y="4532400"/>
              <a:chExt cx="3254400" cy="1236600"/>
            </a:xfrm>
          </p:grpSpPr>
          <p:grpSp>
            <p:nvGrpSpPr>
              <p:cNvPr id="943" name=""/>
              <p:cNvGrpSpPr/>
              <p:nvPr/>
            </p:nvGrpSpPr>
            <p:grpSpPr>
              <a:xfrm>
                <a:off x="6962760" y="5349960"/>
                <a:ext cx="1241280" cy="419040"/>
                <a:chOff x="6962760" y="5349960"/>
                <a:chExt cx="1241280" cy="41904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6962760" y="5354640"/>
                  <a:ext cx="1241280" cy="4143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7093080" y="5349960"/>
                  <a:ext cx="8463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Bloqu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6054480" y="4581360"/>
                <a:ext cx="1241640" cy="419040"/>
                <a:chOff x="6054480" y="4581360"/>
                <a:chExt cx="1241640" cy="41904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6054480" y="4586040"/>
                  <a:ext cx="1241640" cy="4143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6070320" y="4581360"/>
                  <a:ext cx="10767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Sentenci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5707080" y="5178240"/>
                <a:ext cx="185076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8216640" y="5464080"/>
                <a:ext cx="176400" cy="165240"/>
              </a:xfrm>
              <a:prstGeom prst="diamond">
                <a:avLst/>
              </a:prstGeom>
              <a:noFill/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>
                <a:off x="5703840" y="5184720"/>
                <a:ext cx="1440" cy="1540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2" name=""/>
              <p:cNvGrpSpPr/>
              <p:nvPr/>
            </p:nvGrpSpPr>
            <p:grpSpPr>
              <a:xfrm>
                <a:off x="5138640" y="5342040"/>
                <a:ext cx="1241280" cy="419040"/>
                <a:chOff x="5138640" y="5342040"/>
                <a:chExt cx="1241280" cy="41904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5138640" y="5346720"/>
                  <a:ext cx="1241280" cy="4143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5154120" y="5342040"/>
                  <a:ext cx="10767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S. Simp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5" name=""/>
              <p:cNvSpPr/>
              <p:nvPr/>
            </p:nvSpPr>
            <p:spPr>
              <a:xfrm flipH="1">
                <a:off x="7557480" y="5180040"/>
                <a:ext cx="1800" cy="1540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521400" y="5005440"/>
                <a:ext cx="285480" cy="166680"/>
              </a:xfrm>
              <a:prstGeom prst="triangle">
                <a:avLst>
                  <a:gd name="adj" fmla="val 50000"/>
                </a:avLst>
              </a:prstGeom>
              <a:noFill/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>
                <a:off x="8390880" y="4817880"/>
                <a:ext cx="1800" cy="73512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307280" y="4807080"/>
                <a:ext cx="1079280" cy="46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197480" y="453240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39600" y="4638600"/>
              <a:ext cx="1390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400" spc="-1" strike="noStrike">
                  <a:solidFill>
                    <a:srgbClr val="5250b0"/>
                  </a:solidFill>
                  <a:latin typeface="Wingdings"/>
                  <a:ea typeface="Wingdings"/>
                </a:rPr>
                <a:t>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38160" y="3005280"/>
            <a:ext cx="8577000" cy="1193760"/>
            <a:chOff x="38160" y="3005280"/>
            <a:chExt cx="8577000" cy="1193760"/>
          </a:xfrm>
        </p:grpSpPr>
        <p:grpSp>
          <p:nvGrpSpPr>
            <p:cNvPr id="962" name=""/>
            <p:cNvGrpSpPr/>
            <p:nvPr/>
          </p:nvGrpSpPr>
          <p:grpSpPr>
            <a:xfrm>
              <a:off x="6991200" y="3005280"/>
              <a:ext cx="1623960" cy="1193760"/>
              <a:chOff x="6991200" y="3005280"/>
              <a:chExt cx="1623960" cy="1193760"/>
            </a:xfrm>
          </p:grpSpPr>
          <p:grpSp>
            <p:nvGrpSpPr>
              <p:cNvPr id="963" name=""/>
              <p:cNvGrpSpPr/>
              <p:nvPr/>
            </p:nvGrpSpPr>
            <p:grpSpPr>
              <a:xfrm>
                <a:off x="6991200" y="3780000"/>
                <a:ext cx="1623960" cy="419040"/>
                <a:chOff x="6991200" y="3780000"/>
                <a:chExt cx="1623960" cy="41904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7023240" y="3784680"/>
                  <a:ext cx="1591920" cy="4143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991200" y="3780000"/>
                  <a:ext cx="14835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Departamen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7175520" y="3005280"/>
                <a:ext cx="1241640" cy="419040"/>
                <a:chOff x="7175520" y="3005280"/>
                <a:chExt cx="1241640" cy="41904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7175520" y="3009960"/>
                  <a:ext cx="1241640" cy="4143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236360" y="3005280"/>
                  <a:ext cx="9867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Empres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9" name=""/>
              <p:cNvSpPr/>
              <p:nvPr/>
            </p:nvSpPr>
            <p:spPr>
              <a:xfrm>
                <a:off x="7659720" y="3427560"/>
                <a:ext cx="176400" cy="165240"/>
              </a:xfrm>
              <a:prstGeom prst="diamond">
                <a:avLst/>
              </a:prstGeom>
              <a:noFill/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7752960" y="3594240"/>
                <a:ext cx="1800" cy="17784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662960" y="351324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8160" y="3103560"/>
              <a:ext cx="1390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400" spc="-1" strike="noStrike">
                  <a:solidFill>
                    <a:srgbClr val="5250b0"/>
                  </a:solidFill>
                  <a:latin typeface="Wingdings"/>
                  <a:ea typeface="Wingdings"/>
                </a:rPr>
                <a:t>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38160" y="1433520"/>
            <a:ext cx="8945640" cy="1162080"/>
            <a:chOff x="38160" y="1433520"/>
            <a:chExt cx="8945640" cy="1162080"/>
          </a:xfrm>
        </p:grpSpPr>
        <p:grpSp>
          <p:nvGrpSpPr>
            <p:cNvPr id="974" name=""/>
            <p:cNvGrpSpPr/>
            <p:nvPr/>
          </p:nvGrpSpPr>
          <p:grpSpPr>
            <a:xfrm>
              <a:off x="1106640" y="1433520"/>
              <a:ext cx="7877160" cy="1162080"/>
              <a:chOff x="1106640" y="1433520"/>
              <a:chExt cx="7877160" cy="1162080"/>
            </a:xfrm>
          </p:grpSpPr>
          <p:pic>
            <p:nvPicPr>
              <p:cNvPr id="975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2373480" y="1795680"/>
                <a:ext cx="544320" cy="735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6" name=""/>
              <p:cNvGrpSpPr/>
              <p:nvPr/>
            </p:nvGrpSpPr>
            <p:grpSpPr>
              <a:xfrm>
                <a:off x="3173400" y="1532160"/>
                <a:ext cx="830160" cy="995400"/>
                <a:chOff x="3173400" y="1532160"/>
                <a:chExt cx="830160" cy="99540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3173400" y="2217960"/>
                  <a:ext cx="830160" cy="309600"/>
                </a:xfrm>
                <a:prstGeom prst="can">
                  <a:avLst>
                    <a:gd name="adj" fmla="val 50000"/>
                  </a:avLst>
                </a:prstGeom>
                <a:solidFill>
                  <a:srgbClr val="ffcc00"/>
                </a:solidFill>
                <a:ln cap="sq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3471840" y="1532160"/>
                  <a:ext cx="225360" cy="795600"/>
                </a:xfrm>
                <a:prstGeom prst="can">
                  <a:avLst>
                    <a:gd name="adj" fmla="val 11578"/>
                  </a:avLst>
                </a:prstGeom>
                <a:solidFill>
                  <a:srgbClr val="ffcc00"/>
                </a:solidFill>
                <a:ln cap="sq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9" name=""/>
              <p:cNvSpPr/>
              <p:nvPr/>
            </p:nvSpPr>
            <p:spPr>
              <a:xfrm flipV="1">
                <a:off x="1106640" y="1924200"/>
                <a:ext cx="879480" cy="463680"/>
              </a:xfrm>
              <a:custGeom>
                <a:avLst/>
                <a:gdLst>
                  <a:gd name="textAreaLeft" fmla="*/ 193320 w 879480"/>
                  <a:gd name="textAreaRight" fmla="*/ 686160 w 879480"/>
                  <a:gd name="textAreaTop" fmla="*/ 101880 h 463680"/>
                  <a:gd name="textAreaBottom" fmla="*/ 361800 h 46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219"/>
                  </a:gs>
                  <a:gs pos="50000">
                    <a:srgbClr val="ffcc66"/>
                  </a:gs>
                  <a:gs pos="100000">
                    <a:srgbClr val="3e3219"/>
                  </a:gs>
                </a:gsLst>
                <a:lin ang="10800000"/>
              </a:gra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0" name=""/>
              <p:cNvGrpSpPr/>
              <p:nvPr/>
            </p:nvGrpSpPr>
            <p:grpSpPr>
              <a:xfrm>
                <a:off x="4330800" y="1433520"/>
                <a:ext cx="4653000" cy="1162080"/>
                <a:chOff x="4330800" y="1433520"/>
                <a:chExt cx="4653000" cy="1162080"/>
              </a:xfrm>
            </p:grpSpPr>
            <p:grpSp>
              <p:nvGrpSpPr>
                <p:cNvPr id="981" name=""/>
                <p:cNvGrpSpPr/>
                <p:nvPr/>
              </p:nvGrpSpPr>
              <p:grpSpPr>
                <a:xfrm>
                  <a:off x="6075360" y="1433520"/>
                  <a:ext cx="1241640" cy="419040"/>
                  <a:chOff x="6075360" y="1433520"/>
                  <a:chExt cx="1241640" cy="419040"/>
                </a:xfrm>
              </p:grpSpPr>
              <p:sp>
                <p:nvSpPr>
                  <p:cNvPr id="982" name=""/>
                  <p:cNvSpPr/>
                  <p:nvPr/>
                </p:nvSpPr>
                <p:spPr>
                  <a:xfrm>
                    <a:off x="6075360" y="1438200"/>
                    <a:ext cx="1241640" cy="41436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6129360" y="1433520"/>
                    <a:ext cx="10004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8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Lámpar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4" name=""/>
                <p:cNvSpPr/>
                <p:nvPr/>
              </p:nvSpPr>
              <p:spPr>
                <a:xfrm>
                  <a:off x="6593040" y="1865520"/>
                  <a:ext cx="176040" cy="164880"/>
                </a:xfrm>
                <a:prstGeom prst="diamond">
                  <a:avLst/>
                </a:prstGeom>
                <a:noFill/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4919760" y="2030400"/>
                  <a:ext cx="3525840" cy="11160"/>
                </a:xfrm>
                <a:prstGeom prst="line">
                  <a:avLst/>
                </a:prstGeom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>
                  <a:off x="4909680" y="2046600"/>
                  <a:ext cx="1800" cy="153720"/>
                </a:xfrm>
                <a:prstGeom prst="line">
                  <a:avLst/>
                </a:prstGeom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>
                  <a:off x="6689880" y="2032200"/>
                  <a:ext cx="1440" cy="154080"/>
                </a:xfrm>
                <a:prstGeom prst="line">
                  <a:avLst/>
                </a:prstGeom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H="1">
                  <a:off x="8443440" y="2055960"/>
                  <a:ext cx="1800" cy="154080"/>
                </a:xfrm>
                <a:prstGeom prst="line">
                  <a:avLst/>
                </a:prstGeom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9" name=""/>
                <p:cNvGrpSpPr/>
                <p:nvPr/>
              </p:nvGrpSpPr>
              <p:grpSpPr>
                <a:xfrm>
                  <a:off x="7742160" y="2176560"/>
                  <a:ext cx="1241640" cy="419040"/>
                  <a:chOff x="7742160" y="2176560"/>
                  <a:chExt cx="1241640" cy="419040"/>
                </a:xfrm>
              </p:grpSpPr>
              <p:sp>
                <p:nvSpPr>
                  <p:cNvPr id="990" name=""/>
                  <p:cNvSpPr/>
                  <p:nvPr/>
                </p:nvSpPr>
                <p:spPr>
                  <a:xfrm>
                    <a:off x="7742160" y="2181240"/>
                    <a:ext cx="1241640" cy="41436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8057520" y="2176560"/>
                    <a:ext cx="47772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8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Pi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2" name=""/>
                <p:cNvGrpSpPr/>
                <p:nvPr/>
              </p:nvGrpSpPr>
              <p:grpSpPr>
                <a:xfrm>
                  <a:off x="6066000" y="2175120"/>
                  <a:ext cx="1241280" cy="419040"/>
                  <a:chOff x="6066000" y="2175120"/>
                  <a:chExt cx="1241280" cy="419040"/>
                </a:xfrm>
              </p:grpSpPr>
              <p:sp>
                <p:nvSpPr>
                  <p:cNvPr id="993" name=""/>
                  <p:cNvSpPr/>
                  <p:nvPr/>
                </p:nvSpPr>
                <p:spPr>
                  <a:xfrm>
                    <a:off x="6066000" y="2179800"/>
                    <a:ext cx="1241280" cy="41436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6100560" y="2175120"/>
                    <a:ext cx="103860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8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Bombill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5" name=""/>
                <p:cNvGrpSpPr/>
                <p:nvPr/>
              </p:nvGrpSpPr>
              <p:grpSpPr>
                <a:xfrm>
                  <a:off x="4330800" y="2173320"/>
                  <a:ext cx="1241280" cy="419040"/>
                  <a:chOff x="4330800" y="2173320"/>
                  <a:chExt cx="1241280" cy="419040"/>
                </a:xfrm>
              </p:grpSpPr>
              <p:sp>
                <p:nvSpPr>
                  <p:cNvPr id="996" name=""/>
                  <p:cNvSpPr/>
                  <p:nvPr/>
                </p:nvSpPr>
                <p:spPr>
                  <a:xfrm>
                    <a:off x="4330800" y="2178000"/>
                    <a:ext cx="1241280" cy="414360"/>
                  </a:xfrm>
                  <a:prstGeom prst="rect">
                    <a:avLst/>
                  </a:prstGeom>
                  <a:solidFill>
                    <a:srgbClr val="ffcccc"/>
                  </a:solidFill>
                  <a:ln w="1908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4492440" y="2173320"/>
                    <a:ext cx="78408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8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Tulip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998" name=""/>
            <p:cNvSpPr/>
            <p:nvPr/>
          </p:nvSpPr>
          <p:spPr>
            <a:xfrm>
              <a:off x="38160" y="1646280"/>
              <a:ext cx="1390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400" spc="-1" strike="noStrike">
                  <a:solidFill>
                    <a:srgbClr val="5250b0"/>
                  </a:solidFill>
                  <a:latin typeface="Wingdings"/>
                  <a:ea typeface="Wingdings"/>
                </a:rPr>
                <a:t>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677A-9424-4FF0-8406-8CA1B2CA318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66640" y="182160"/>
            <a:ext cx="708192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Herencia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65200" y="1428840"/>
            <a:ext cx="812808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eneralización o Especializ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capsulamiento de características comu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utilización y Extens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la notación gráfic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584b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sible uso de “discriminador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584b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erencia disjunta y no disjun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584b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definición de méto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584b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ases abstract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584b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erencia múlti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5BBE-F849-46B9-B21C-40230B7A70F3}" type="slidenum">
              <a:t>44</a:t>
            </a:fld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" name=""/>
          <p:cNvGrpSpPr/>
          <p:nvPr/>
        </p:nvGrpSpPr>
        <p:grpSpPr>
          <a:xfrm>
            <a:off x="1170000" y="1976400"/>
            <a:ext cx="5497200" cy="4260960"/>
            <a:chOff x="1170000" y="1976400"/>
            <a:chExt cx="5497200" cy="4260960"/>
          </a:xfrm>
        </p:grpSpPr>
        <p:grpSp>
          <p:nvGrpSpPr>
            <p:cNvPr id="1002" name=""/>
            <p:cNvGrpSpPr/>
            <p:nvPr/>
          </p:nvGrpSpPr>
          <p:grpSpPr>
            <a:xfrm>
              <a:off x="3016080" y="1976400"/>
              <a:ext cx="1546200" cy="1339920"/>
              <a:chOff x="3016080" y="1976400"/>
              <a:chExt cx="1546200" cy="1339920"/>
            </a:xfrm>
          </p:grpSpPr>
          <p:sp>
            <p:nvSpPr>
              <p:cNvPr id="1003" name=""/>
              <p:cNvSpPr/>
              <p:nvPr/>
            </p:nvSpPr>
            <p:spPr>
              <a:xfrm>
                <a:off x="3022560" y="1984320"/>
                <a:ext cx="1511280" cy="133200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162600" y="1976400"/>
                <a:ext cx="12276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SuperCla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016080" y="235908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075480" y="2411280"/>
                <a:ext cx="986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atribu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075120" y="2908080"/>
                <a:ext cx="1279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operac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038400" y="286848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9" name=""/>
            <p:cNvSpPr/>
            <p:nvPr/>
          </p:nvSpPr>
          <p:spPr>
            <a:xfrm>
              <a:off x="1927080" y="4378320"/>
              <a:ext cx="394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1170000" y="4881600"/>
              <a:ext cx="1546200" cy="1339920"/>
              <a:chOff x="1170000" y="4881600"/>
              <a:chExt cx="1546200" cy="1339920"/>
            </a:xfrm>
          </p:grpSpPr>
          <p:sp>
            <p:nvSpPr>
              <p:cNvPr id="1011" name=""/>
              <p:cNvSpPr/>
              <p:nvPr/>
            </p:nvSpPr>
            <p:spPr>
              <a:xfrm>
                <a:off x="1176480" y="4889520"/>
                <a:ext cx="1511280" cy="133200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405800" y="4881600"/>
                <a:ext cx="1049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SubCla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170000" y="526428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229400" y="5316480"/>
                <a:ext cx="986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atribu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229040" y="5813280"/>
                <a:ext cx="1279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operac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192320" y="577368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7" name=""/>
            <p:cNvGrpSpPr/>
            <p:nvPr/>
          </p:nvGrpSpPr>
          <p:grpSpPr>
            <a:xfrm>
              <a:off x="2921040" y="4889520"/>
              <a:ext cx="1546200" cy="1339920"/>
              <a:chOff x="2921040" y="4889520"/>
              <a:chExt cx="1546200" cy="1339920"/>
            </a:xfrm>
          </p:grpSpPr>
          <p:sp>
            <p:nvSpPr>
              <p:cNvPr id="1018" name=""/>
              <p:cNvSpPr/>
              <p:nvPr/>
            </p:nvSpPr>
            <p:spPr>
              <a:xfrm>
                <a:off x="2927520" y="4897440"/>
                <a:ext cx="1511280" cy="133200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156840" y="4889520"/>
                <a:ext cx="1049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SubCla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921040" y="527220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980440" y="5324400"/>
                <a:ext cx="986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atribu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980080" y="5821200"/>
                <a:ext cx="1279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operac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943360" y="578160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5121000" y="4897440"/>
              <a:ext cx="1546200" cy="1339920"/>
              <a:chOff x="5121000" y="4897440"/>
              <a:chExt cx="1546200" cy="1339920"/>
            </a:xfrm>
          </p:grpSpPr>
          <p:sp>
            <p:nvSpPr>
              <p:cNvPr id="1025" name=""/>
              <p:cNvSpPr/>
              <p:nvPr/>
            </p:nvSpPr>
            <p:spPr>
              <a:xfrm>
                <a:off x="5127480" y="4905360"/>
                <a:ext cx="1511280" cy="133200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356800" y="4897440"/>
                <a:ext cx="1049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SubCla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121000" y="528012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180400" y="5332320"/>
                <a:ext cx="986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atribu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0040" y="5829120"/>
                <a:ext cx="1279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operac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143320" y="5789520"/>
                <a:ext cx="152388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4572720" y="53355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950840" y="4378320"/>
              <a:ext cx="0" cy="50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662280" y="4394160"/>
              <a:ext cx="0" cy="50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62600" y="4389480"/>
              <a:ext cx="0" cy="50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551040" y="4095720"/>
              <a:ext cx="476280" cy="2826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790800" y="3329280"/>
              <a:ext cx="0" cy="78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5143680" y="1601640"/>
            <a:ext cx="3841200" cy="1735560"/>
            <a:chOff x="5143680" y="1601640"/>
            <a:chExt cx="3841200" cy="1735560"/>
          </a:xfrm>
        </p:grpSpPr>
        <p:sp>
          <p:nvSpPr>
            <p:cNvPr id="1038" name=""/>
            <p:cNvSpPr/>
            <p:nvPr/>
          </p:nvSpPr>
          <p:spPr>
            <a:xfrm>
              <a:off x="6124320" y="2266560"/>
              <a:ext cx="1071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457680" y="1983960"/>
              <a:ext cx="475920" cy="282600"/>
            </a:xfrm>
            <a:prstGeom prst="triangle">
              <a:avLst>
                <a:gd name="adj" fmla="val 50000"/>
              </a:avLst>
            </a:prstGeom>
            <a:solidFill>
              <a:srgbClr val="86868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697440" y="1696680"/>
              <a:ext cx="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24320" y="3335040"/>
              <a:ext cx="1071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457680" y="3052440"/>
              <a:ext cx="475920" cy="2826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697440" y="2765160"/>
              <a:ext cx="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43680" y="2868480"/>
              <a:ext cx="145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iscrimin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89360" y="1601640"/>
              <a:ext cx="153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990000"/>
                  </a:solidFill>
                  <a:latin typeface="Times New Roman"/>
                </a:rPr>
                <a:t>Herencia c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990000"/>
                  </a:solidFill>
                  <a:latin typeface="Times New Roman"/>
                </a:rPr>
                <a:t>solapami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388280" y="2633400"/>
              <a:ext cx="159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990000"/>
                  </a:solidFill>
                  <a:latin typeface="Times New Roman"/>
                </a:rPr>
                <a:t>Herencia c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990000"/>
                  </a:solidFill>
                  <a:latin typeface="Times New Roman"/>
                </a:rPr>
                <a:t>discrimin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CF0-949F-48CE-AD73-8AACBB7F4AF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"/>
          <p:cNvGrpSpPr/>
          <p:nvPr/>
        </p:nvGrpSpPr>
        <p:grpSpPr>
          <a:xfrm>
            <a:off x="1930320" y="1351080"/>
            <a:ext cx="1447920" cy="812520"/>
            <a:chOff x="1930320" y="1351080"/>
            <a:chExt cx="1447920" cy="812520"/>
          </a:xfrm>
        </p:grpSpPr>
        <p:sp>
          <p:nvSpPr>
            <p:cNvPr id="1048" name=""/>
            <p:cNvSpPr/>
            <p:nvPr/>
          </p:nvSpPr>
          <p:spPr>
            <a:xfrm>
              <a:off x="1942920" y="1351080"/>
              <a:ext cx="1422360" cy="8125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930320" y="1719360"/>
              <a:ext cx="1447920" cy="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326680" y="1390680"/>
              <a:ext cx="71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Pu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930320" y="1947960"/>
              <a:ext cx="1447920" cy="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3371760" y="1757520"/>
            <a:ext cx="78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138560" y="1622520"/>
            <a:ext cx="341280" cy="26496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4511520" y="1390680"/>
            <a:ext cx="2778480" cy="1297080"/>
            <a:chOff x="4511520" y="1390680"/>
            <a:chExt cx="2778480" cy="1297080"/>
          </a:xfrm>
        </p:grpSpPr>
        <p:sp>
          <p:nvSpPr>
            <p:cNvPr id="1055" name=""/>
            <p:cNvSpPr/>
            <p:nvPr/>
          </p:nvSpPr>
          <p:spPr>
            <a:xfrm>
              <a:off x="4536000" y="1390680"/>
              <a:ext cx="2713680" cy="12970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511520" y="1758960"/>
              <a:ext cx="2762280" cy="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562360" y="1430640"/>
              <a:ext cx="78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Fig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511520" y="1987560"/>
              <a:ext cx="2762280" cy="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532040" y="1987560"/>
              <a:ext cx="275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área(): float {abstract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perímetro(): float {abstract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2685960" y="2705040"/>
            <a:ext cx="5648040" cy="2212920"/>
            <a:chOff x="2685960" y="2705040"/>
            <a:chExt cx="5648040" cy="2212920"/>
          </a:xfrm>
        </p:grpSpPr>
        <p:grpSp>
          <p:nvGrpSpPr>
            <p:cNvPr id="1061" name=""/>
            <p:cNvGrpSpPr/>
            <p:nvPr/>
          </p:nvGrpSpPr>
          <p:grpSpPr>
            <a:xfrm>
              <a:off x="6513480" y="3621240"/>
              <a:ext cx="1820520" cy="1296720"/>
              <a:chOff x="6513480" y="3621240"/>
              <a:chExt cx="1820520" cy="1296720"/>
            </a:xfrm>
          </p:grpSpPr>
          <p:sp>
            <p:nvSpPr>
              <p:cNvPr id="1062" name=""/>
              <p:cNvSpPr/>
              <p:nvPr/>
            </p:nvSpPr>
            <p:spPr>
              <a:xfrm>
                <a:off x="6529680" y="3621240"/>
                <a:ext cx="1788480" cy="1296720"/>
              </a:xfrm>
              <a:prstGeom prst="rect">
                <a:avLst/>
              </a:prstGeom>
              <a:solidFill>
                <a:srgbClr val="ffcccc"/>
              </a:solidFill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513480" y="3989160"/>
                <a:ext cx="1820520" cy="0"/>
              </a:xfrm>
              <a:prstGeom prst="line">
                <a:avLst/>
              </a:prstGeom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085880" y="3660840"/>
                <a:ext cx="758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Elip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513480" y="4217760"/>
                <a:ext cx="1820520" cy="0"/>
              </a:xfrm>
              <a:prstGeom prst="line">
                <a:avLst/>
              </a:prstGeom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528240" y="4217760"/>
                <a:ext cx="1767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área(): floa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perímetro(): flo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2685960" y="3621240"/>
              <a:ext cx="1817640" cy="965160"/>
              <a:chOff x="2685960" y="3621240"/>
              <a:chExt cx="1817640" cy="965160"/>
            </a:xfrm>
          </p:grpSpPr>
          <p:sp>
            <p:nvSpPr>
              <p:cNvPr id="1068" name=""/>
              <p:cNvSpPr/>
              <p:nvPr/>
            </p:nvSpPr>
            <p:spPr>
              <a:xfrm>
                <a:off x="2701800" y="3621240"/>
                <a:ext cx="1785960" cy="963360"/>
              </a:xfrm>
              <a:prstGeom prst="rect">
                <a:avLst/>
              </a:prstGeom>
              <a:solidFill>
                <a:srgbClr val="ffcccc"/>
              </a:solidFill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685960" y="3989520"/>
                <a:ext cx="1817640" cy="0"/>
              </a:xfrm>
              <a:prstGeom prst="line">
                <a:avLst/>
              </a:prstGeom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128400" y="3660840"/>
                <a:ext cx="10108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Polígo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685960" y="4218120"/>
                <a:ext cx="1817640" cy="0"/>
              </a:xfrm>
              <a:prstGeom prst="line">
                <a:avLst/>
              </a:prstGeom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701080" y="4218120"/>
                <a:ext cx="176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perímetro(): flo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3605400" y="3274920"/>
              <a:ext cx="383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51640" y="2992320"/>
              <a:ext cx="476280" cy="2826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891400" y="2705040"/>
              <a:ext cx="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423200" y="3257640"/>
              <a:ext cx="6480" cy="36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3598920" y="3257640"/>
              <a:ext cx="6480" cy="36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1725480" y="4565520"/>
            <a:ext cx="6621120" cy="2106720"/>
            <a:chOff x="1725480" y="4565520"/>
            <a:chExt cx="6621120" cy="2106720"/>
          </a:xfrm>
        </p:grpSpPr>
        <p:grpSp>
          <p:nvGrpSpPr>
            <p:cNvPr id="1079" name=""/>
            <p:cNvGrpSpPr/>
            <p:nvPr/>
          </p:nvGrpSpPr>
          <p:grpSpPr>
            <a:xfrm>
              <a:off x="1725480" y="5481720"/>
              <a:ext cx="1817640" cy="965160"/>
              <a:chOff x="1725480" y="5481720"/>
              <a:chExt cx="1817640" cy="965160"/>
            </a:xfrm>
          </p:grpSpPr>
          <p:sp>
            <p:nvSpPr>
              <p:cNvPr id="1080" name=""/>
              <p:cNvSpPr/>
              <p:nvPr/>
            </p:nvSpPr>
            <p:spPr>
              <a:xfrm>
                <a:off x="1741320" y="5481720"/>
                <a:ext cx="1785960" cy="963360"/>
              </a:xfrm>
              <a:prstGeom prst="rect">
                <a:avLst/>
              </a:prstGeom>
              <a:solidFill>
                <a:srgbClr val="ffcccc"/>
              </a:solidFill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725480" y="5850000"/>
                <a:ext cx="1817640" cy="0"/>
              </a:xfrm>
              <a:prstGeom prst="line">
                <a:avLst/>
              </a:prstGeom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129040" y="5521320"/>
                <a:ext cx="10886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Triángul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725480" y="6078600"/>
                <a:ext cx="1817640" cy="0"/>
              </a:xfrm>
              <a:prstGeom prst="line">
                <a:avLst/>
              </a:prstGeom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740960" y="6078600"/>
                <a:ext cx="125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área(): flo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3665160" y="5481720"/>
              <a:ext cx="1817640" cy="965160"/>
              <a:chOff x="3665160" y="5481720"/>
              <a:chExt cx="1817640" cy="965160"/>
            </a:xfrm>
          </p:grpSpPr>
          <p:sp>
            <p:nvSpPr>
              <p:cNvPr id="1086" name=""/>
              <p:cNvSpPr/>
              <p:nvPr/>
            </p:nvSpPr>
            <p:spPr>
              <a:xfrm>
                <a:off x="3681000" y="5481720"/>
                <a:ext cx="1785960" cy="963360"/>
              </a:xfrm>
              <a:prstGeom prst="rect">
                <a:avLst/>
              </a:prstGeom>
              <a:solidFill>
                <a:srgbClr val="ffcccc"/>
              </a:solidFill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665160" y="5850000"/>
                <a:ext cx="1817640" cy="0"/>
              </a:xfrm>
              <a:prstGeom prst="line">
                <a:avLst/>
              </a:prstGeom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075560" y="5521320"/>
                <a:ext cx="1074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Cuadrad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665160" y="6078600"/>
                <a:ext cx="1817640" cy="0"/>
              </a:xfrm>
              <a:prstGeom prst="line">
                <a:avLst/>
              </a:prstGeom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680640" y="6078600"/>
                <a:ext cx="125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área(): flo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6528960" y="5707080"/>
              <a:ext cx="1817640" cy="965160"/>
              <a:chOff x="6528960" y="5707080"/>
              <a:chExt cx="1817640" cy="965160"/>
            </a:xfrm>
          </p:grpSpPr>
          <p:sp>
            <p:nvSpPr>
              <p:cNvPr id="1092" name=""/>
              <p:cNvSpPr/>
              <p:nvPr/>
            </p:nvSpPr>
            <p:spPr>
              <a:xfrm>
                <a:off x="6544800" y="5707080"/>
                <a:ext cx="1785960" cy="963360"/>
              </a:xfrm>
              <a:prstGeom prst="rect">
                <a:avLst/>
              </a:prstGeom>
              <a:solidFill>
                <a:srgbClr val="ffcccc"/>
              </a:solidFill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528960" y="6075360"/>
                <a:ext cx="1817640" cy="0"/>
              </a:xfrm>
              <a:prstGeom prst="line">
                <a:avLst/>
              </a:prstGeom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040880" y="5746680"/>
                <a:ext cx="872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Círcul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528960" y="6303960"/>
                <a:ext cx="1817640" cy="0"/>
              </a:xfrm>
              <a:prstGeom prst="line">
                <a:avLst/>
              </a:prstGeom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544080" y="6303960"/>
                <a:ext cx="176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perímetro(): flo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>
              <a:off x="2660400" y="5143680"/>
              <a:ext cx="1874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65280" y="4853160"/>
              <a:ext cx="476280" cy="2826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200720" y="5199120"/>
              <a:ext cx="476280" cy="2826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440480" y="4911840"/>
              <a:ext cx="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605040" y="4565520"/>
              <a:ext cx="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4514400" y="5143680"/>
              <a:ext cx="64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660400" y="5119560"/>
              <a:ext cx="6480" cy="36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7438320" y="5469120"/>
              <a:ext cx="4680" cy="24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EAC-4BD5-4344-B44B-9C61AC7FC39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"/>
          <p:cNvGrpSpPr/>
          <p:nvPr/>
        </p:nvGrpSpPr>
        <p:grpSpPr>
          <a:xfrm>
            <a:off x="1062000" y="2646360"/>
            <a:ext cx="3757680" cy="2934720"/>
            <a:chOff x="1062000" y="2646360"/>
            <a:chExt cx="3757680" cy="2934720"/>
          </a:xfrm>
        </p:grpSpPr>
        <p:grpSp>
          <p:nvGrpSpPr>
            <p:cNvPr id="1106" name=""/>
            <p:cNvGrpSpPr/>
            <p:nvPr/>
          </p:nvGrpSpPr>
          <p:grpSpPr>
            <a:xfrm>
              <a:off x="1062000" y="4341600"/>
              <a:ext cx="1817640" cy="1239480"/>
              <a:chOff x="1062000" y="4341600"/>
              <a:chExt cx="1817640" cy="1239480"/>
            </a:xfrm>
          </p:grpSpPr>
          <p:sp>
            <p:nvSpPr>
              <p:cNvPr id="1107" name=""/>
              <p:cNvSpPr/>
              <p:nvPr/>
            </p:nvSpPr>
            <p:spPr>
              <a:xfrm>
                <a:off x="1077840" y="4341600"/>
                <a:ext cx="1785960" cy="1238040"/>
              </a:xfrm>
              <a:prstGeom prst="rect">
                <a:avLst/>
              </a:prstGeom>
              <a:solidFill>
                <a:srgbClr val="ffcccc"/>
              </a:solidFill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062000" y="4709880"/>
                <a:ext cx="1817640" cy="0"/>
              </a:xfrm>
              <a:prstGeom prst="line">
                <a:avLst/>
              </a:prstGeom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395720" y="4381200"/>
                <a:ext cx="12276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LEDPuer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062000" y="4938480"/>
                <a:ext cx="1817640" cy="0"/>
              </a:xfrm>
              <a:prstGeom prst="line">
                <a:avLst/>
              </a:prstGeom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078560" y="4938480"/>
                <a:ext cx="1160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encender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apagar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3002040" y="4341600"/>
              <a:ext cx="1817640" cy="963360"/>
              <a:chOff x="3002040" y="4341600"/>
              <a:chExt cx="1817640" cy="963360"/>
            </a:xfrm>
          </p:grpSpPr>
          <p:sp>
            <p:nvSpPr>
              <p:cNvPr id="1113" name=""/>
              <p:cNvSpPr/>
              <p:nvPr/>
            </p:nvSpPr>
            <p:spPr>
              <a:xfrm>
                <a:off x="3017880" y="4341600"/>
                <a:ext cx="1785960" cy="963360"/>
              </a:xfrm>
              <a:prstGeom prst="rect">
                <a:avLst/>
              </a:prstGeom>
              <a:solidFill>
                <a:srgbClr val="ffcccc"/>
              </a:solidFill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002040" y="4709880"/>
                <a:ext cx="1817640" cy="0"/>
              </a:xfrm>
              <a:prstGeom prst="line">
                <a:avLst/>
              </a:prstGeom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247200" y="4381200"/>
                <a:ext cx="1405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LEDRegistr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002040" y="4938480"/>
                <a:ext cx="1817640" cy="0"/>
              </a:xfrm>
              <a:prstGeom prst="line">
                <a:avLst/>
              </a:prstGeom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017880" y="493848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8" name=""/>
            <p:cNvSpPr/>
            <p:nvPr/>
          </p:nvSpPr>
          <p:spPr>
            <a:xfrm>
              <a:off x="1996920" y="4003560"/>
              <a:ext cx="1874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701800" y="3713040"/>
              <a:ext cx="476280" cy="2826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941560" y="2646360"/>
              <a:ext cx="0" cy="10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857400" y="4003560"/>
              <a:ext cx="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1996920" y="3990960"/>
              <a:ext cx="648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1216080" y="1290600"/>
            <a:ext cx="7678440" cy="2741400"/>
            <a:chOff x="1216080" y="1290600"/>
            <a:chExt cx="7678440" cy="2741400"/>
          </a:xfrm>
        </p:grpSpPr>
        <p:grpSp>
          <p:nvGrpSpPr>
            <p:cNvPr id="1124" name=""/>
            <p:cNvGrpSpPr/>
            <p:nvPr/>
          </p:nvGrpSpPr>
          <p:grpSpPr>
            <a:xfrm>
              <a:off x="6166080" y="1290600"/>
              <a:ext cx="2728440" cy="2741400"/>
              <a:chOff x="6166080" y="1290600"/>
              <a:chExt cx="2728440" cy="2741400"/>
            </a:xfrm>
          </p:grpSpPr>
          <p:sp>
            <p:nvSpPr>
              <p:cNvPr id="1125" name=""/>
              <p:cNvSpPr/>
              <p:nvPr/>
            </p:nvSpPr>
            <p:spPr>
              <a:xfrm>
                <a:off x="6181920" y="1290600"/>
                <a:ext cx="2712600" cy="273024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781320" y="1290600"/>
                <a:ext cx="1328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GestorLED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6166080" y="1656720"/>
                <a:ext cx="2717640" cy="468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211800" y="2019240"/>
                <a:ext cx="1965240" cy="20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inicializar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llamadaEntran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tomaDeLínea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colagar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pilaBaja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modoContestador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192720" y="2060280"/>
                <a:ext cx="2701800" cy="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1216080" y="1322640"/>
              <a:ext cx="3427560" cy="1324080"/>
              <a:chOff x="1216080" y="1322640"/>
              <a:chExt cx="3427560" cy="1324080"/>
            </a:xfrm>
          </p:grpSpPr>
          <p:sp>
            <p:nvSpPr>
              <p:cNvPr id="1131" name=""/>
              <p:cNvSpPr/>
              <p:nvPr/>
            </p:nvSpPr>
            <p:spPr>
              <a:xfrm>
                <a:off x="1222560" y="1355760"/>
                <a:ext cx="3414600" cy="1290600"/>
              </a:xfrm>
              <a:prstGeom prst="rect">
                <a:avLst/>
              </a:prstGeom>
              <a:solidFill>
                <a:srgbClr val="ffcccc"/>
              </a:solidFill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511000" y="1322640"/>
                <a:ext cx="6300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L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V="1">
                <a:off x="1216080" y="1726920"/>
                <a:ext cx="3421080" cy="324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274760" y="1783080"/>
                <a:ext cx="1451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ident: LED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271880" y="2279880"/>
                <a:ext cx="3368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parpadea(te:Duration, ta:Duration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1238400" y="2227320"/>
                <a:ext cx="3405240" cy="12960"/>
              </a:xfrm>
              <a:prstGeom prst="line">
                <a:avLst/>
              </a:prstGeom>
              <a:ln w="1908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7" name=""/>
          <p:cNvGrpSpPr/>
          <p:nvPr/>
        </p:nvGrpSpPr>
        <p:grpSpPr>
          <a:xfrm>
            <a:off x="4630680" y="1577880"/>
            <a:ext cx="1541520" cy="840240"/>
            <a:chOff x="4630680" y="1577880"/>
            <a:chExt cx="1541520" cy="840240"/>
          </a:xfrm>
        </p:grpSpPr>
        <p:sp>
          <p:nvSpPr>
            <p:cNvPr id="1138" name=""/>
            <p:cNvSpPr/>
            <p:nvPr/>
          </p:nvSpPr>
          <p:spPr>
            <a:xfrm>
              <a:off x="4660560" y="2019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4630680" y="1960200"/>
              <a:ext cx="154152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732920" y="1577880"/>
              <a:ext cx="5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le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1536120" y="3992400"/>
            <a:ext cx="6383880" cy="2461320"/>
            <a:chOff x="1536120" y="3992400"/>
            <a:chExt cx="6383880" cy="2461320"/>
          </a:xfrm>
        </p:grpSpPr>
        <p:sp>
          <p:nvSpPr>
            <p:cNvPr id="1142" name=""/>
            <p:cNvSpPr/>
            <p:nvPr/>
          </p:nvSpPr>
          <p:spPr>
            <a:xfrm>
              <a:off x="1903320" y="6438960"/>
              <a:ext cx="601668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1536120" y="3992400"/>
              <a:ext cx="6379200" cy="2461320"/>
              <a:chOff x="1536120" y="3992400"/>
              <a:chExt cx="6379200" cy="2461320"/>
            </a:xfrm>
          </p:grpSpPr>
          <p:sp>
            <p:nvSpPr>
              <p:cNvPr id="1144" name=""/>
              <p:cNvSpPr/>
              <p:nvPr/>
            </p:nvSpPr>
            <p:spPr>
              <a:xfrm>
                <a:off x="1914480" y="5608800"/>
                <a:ext cx="0" cy="825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884760" y="5324400"/>
                <a:ext cx="0" cy="652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041720" y="5607000"/>
                <a:ext cx="108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ledsRgt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536120" y="5580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495240" y="53053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870360" y="5989680"/>
                <a:ext cx="3138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008840" y="3992400"/>
                <a:ext cx="0" cy="1976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915320" y="3995640"/>
                <a:ext cx="0" cy="244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916280" y="605484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ledsPt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3" name=""/>
          <p:cNvGrpSpPr/>
          <p:nvPr/>
        </p:nvGrpSpPr>
        <p:grpSpPr>
          <a:xfrm>
            <a:off x="4970520" y="1692000"/>
            <a:ext cx="542880" cy="547920"/>
            <a:chOff x="4970520" y="1692000"/>
            <a:chExt cx="542880" cy="547920"/>
          </a:xfrm>
        </p:grpSpPr>
        <p:sp>
          <p:nvSpPr>
            <p:cNvPr id="1154" name=""/>
            <p:cNvSpPr/>
            <p:nvPr/>
          </p:nvSpPr>
          <p:spPr>
            <a:xfrm>
              <a:off x="4970520" y="1700280"/>
              <a:ext cx="539640" cy="539640"/>
            </a:xfrm>
            <a:prstGeom prst="line">
              <a:avLst/>
            </a:prstGeom>
            <a:ln w="38160">
              <a:solidFill>
                <a:srgbClr val="525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4973760" y="1692000"/>
              <a:ext cx="539640" cy="539640"/>
            </a:xfrm>
            <a:prstGeom prst="line">
              <a:avLst/>
            </a:prstGeom>
            <a:ln w="38160">
              <a:solidFill>
                <a:srgbClr val="525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1AC-9CA7-482E-97BA-B0E2D88C681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Herencia Múltiple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graphicFrame>
        <p:nvGraphicFramePr>
          <p:cNvPr id="1157" name=""/>
          <p:cNvGraphicFramePr/>
          <p:nvPr/>
        </p:nvGraphicFramePr>
        <p:xfrm>
          <a:off x="1355760" y="1317600"/>
          <a:ext cx="699912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317600"/>
                    <a:ext cx="699912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9" name=""/>
          <p:cNvGrpSpPr/>
          <p:nvPr/>
        </p:nvGrpSpPr>
        <p:grpSpPr>
          <a:xfrm>
            <a:off x="3294000" y="1879560"/>
            <a:ext cx="2993760" cy="927000"/>
            <a:chOff x="3294000" y="1879560"/>
            <a:chExt cx="2993760" cy="927000"/>
          </a:xfrm>
        </p:grpSpPr>
        <p:sp>
          <p:nvSpPr>
            <p:cNvPr id="1160" name=""/>
            <p:cNvSpPr/>
            <p:nvPr/>
          </p:nvSpPr>
          <p:spPr>
            <a:xfrm>
              <a:off x="3294000" y="1879560"/>
              <a:ext cx="1001880" cy="927000"/>
            </a:xfrm>
            <a:prstGeom prst="line">
              <a:avLst/>
            </a:prstGeom>
            <a:ln cap="sq" w="127080">
              <a:solidFill>
                <a:srgbClr val="5250b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5260680" y="1955880"/>
              <a:ext cx="1027080" cy="825480"/>
            </a:xfrm>
            <a:prstGeom prst="line">
              <a:avLst/>
            </a:prstGeom>
            <a:ln cap="sq" w="127080">
              <a:solidFill>
                <a:srgbClr val="5250b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95360" y="3573000"/>
            <a:ext cx="8648640" cy="290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herencia múltiple permite a una clase tener más de una superclase, heredando las características de todos sus pad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ca las jerarquías de herencia, que dejan de ser árboles para convertirse en graf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Symbol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 las posibilidades de reutiliz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érdida de simplicidad conceptual y de implement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s: conflictos y herencia repetid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C84-FBB1-4F8E-8277-A8B0647C8A7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Herencia Repetida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graphicFrame>
        <p:nvGraphicFramePr>
          <p:cNvPr id="1164" name=""/>
          <p:cNvGraphicFramePr/>
          <p:nvPr/>
        </p:nvGraphicFramePr>
        <p:xfrm>
          <a:off x="1465200" y="1231920"/>
          <a:ext cx="6502320" cy="32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5200" y="1231920"/>
                    <a:ext cx="650232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6" name=""/>
          <p:cNvGrpSpPr/>
          <p:nvPr/>
        </p:nvGrpSpPr>
        <p:grpSpPr>
          <a:xfrm>
            <a:off x="4184280" y="1839960"/>
            <a:ext cx="1138320" cy="2192040"/>
            <a:chOff x="4184280" y="1839960"/>
            <a:chExt cx="1138320" cy="2192040"/>
          </a:xfrm>
        </p:grpSpPr>
        <p:sp>
          <p:nvSpPr>
            <p:cNvPr id="1167" name=""/>
            <p:cNvSpPr/>
            <p:nvPr/>
          </p:nvSpPr>
          <p:spPr>
            <a:xfrm>
              <a:off x="4197600" y="2931120"/>
              <a:ext cx="48960" cy="1077840"/>
            </a:xfrm>
            <a:prstGeom prst="line">
              <a:avLst/>
            </a:prstGeom>
            <a:ln cap="sq" w="127080">
              <a:solidFill>
                <a:srgbClr val="5250b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5211360" y="2943360"/>
              <a:ext cx="111240" cy="1088640"/>
            </a:xfrm>
            <a:prstGeom prst="line">
              <a:avLst/>
            </a:prstGeom>
            <a:ln cap="sq" w="127080">
              <a:solidFill>
                <a:srgbClr val="5250b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4184280" y="1850400"/>
              <a:ext cx="451080" cy="1077480"/>
            </a:xfrm>
            <a:prstGeom prst="line">
              <a:avLst/>
            </a:prstGeom>
            <a:ln cap="sq" w="127080">
              <a:solidFill>
                <a:srgbClr val="5250b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649760" y="1839960"/>
              <a:ext cx="652680" cy="1114200"/>
            </a:xfrm>
            <a:prstGeom prst="line">
              <a:avLst/>
            </a:prstGeom>
            <a:ln cap="sq" w="127080">
              <a:solidFill>
                <a:srgbClr val="5250b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858600" y="4543200"/>
            <a:ext cx="8110440" cy="20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ibir situaciones conflictivas (C++, Eiff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r un heurístico para  linealizar el árbol de herencia (CommonLoop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ibir la herencia múltiple (Jav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431-7A78-4AD9-93DE-FAD6AEF841A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modelo conceptual está compuesto por 3 bloques de construcción básic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bstracciones básicas a partir de las que se construyen los mode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re los elemen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agram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rupo consistente de elementos y sus rela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8720" y="120600"/>
            <a:ext cx="1714320" cy="7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16AA-FD92-4E98-B7C9-FAE6DAD518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Relaciones de Dependencia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850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pendencia=Relación de u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d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cuando el cambio en un elemento puede afectar a otro elemento que lo utiliza pero no necesariamente a la inver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tiquetas especia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ind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el destino es una plantilla instanciada por el orige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nstantiat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el origen crea instancias del destin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nstanceOf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el origen es instancia del destin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efin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el origen está a un grado de abstracción más detallado que el destin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la semántica del origen depende de la del destin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1852560" y="2019240"/>
            <a:ext cx="5640480" cy="2376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7550280" y="1778040"/>
            <a:ext cx="1241280" cy="419040"/>
            <a:chOff x="7550280" y="1778040"/>
            <a:chExt cx="1241280" cy="419040"/>
          </a:xfrm>
        </p:grpSpPr>
        <p:sp>
          <p:nvSpPr>
            <p:cNvPr id="1176" name=""/>
            <p:cNvSpPr/>
            <p:nvPr/>
          </p:nvSpPr>
          <p:spPr>
            <a:xfrm>
              <a:off x="7550280" y="1782720"/>
              <a:ext cx="1241280" cy="41436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680600" y="1778040"/>
              <a:ext cx="846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dest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6762600" y="169560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184400" y="1822320"/>
            <a:ext cx="1241280" cy="419040"/>
            <a:chOff x="1184400" y="1822320"/>
            <a:chExt cx="1241280" cy="419040"/>
          </a:xfrm>
        </p:grpSpPr>
        <p:sp>
          <p:nvSpPr>
            <p:cNvPr id="1180" name=""/>
            <p:cNvSpPr/>
            <p:nvPr/>
          </p:nvSpPr>
          <p:spPr>
            <a:xfrm>
              <a:off x="1184400" y="1827000"/>
              <a:ext cx="1241280" cy="41436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352880" y="1822320"/>
              <a:ext cx="770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ori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DA25-F24A-4BEF-B5DC-B82E84C3243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Ampliando los model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53211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resa comentarios o aclaraciones relativas a un elemento o grupo de ello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sponsabilida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trato u obligación de una cl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 expresan mediante texto lib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ereotip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rea nuevos tipos de bloques de construcción específicos al problema que se modela. No confundir con superclas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 expresa mediante un nombre entre comillas tipográfica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5954760" y="2571840"/>
            <a:ext cx="3058560" cy="2236680"/>
            <a:chOff x="5954760" y="2571840"/>
            <a:chExt cx="3058560" cy="2236680"/>
          </a:xfrm>
        </p:grpSpPr>
        <p:sp>
          <p:nvSpPr>
            <p:cNvPr id="1185" name=""/>
            <p:cNvSpPr/>
            <p:nvPr/>
          </p:nvSpPr>
          <p:spPr>
            <a:xfrm>
              <a:off x="5954760" y="2571840"/>
              <a:ext cx="3044520" cy="2236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959080" y="2997360"/>
              <a:ext cx="3052440" cy="324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019560" y="2630520"/>
              <a:ext cx="28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ControlVen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960880" y="3241800"/>
              <a:ext cx="3052440" cy="144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954760" y="3484800"/>
              <a:ext cx="3052440" cy="288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5981760" y="3495600"/>
            <a:ext cx="2955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ponsa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--determinar validez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--comunicar a Almacen y Cont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6480000" y="1445760"/>
            <a:ext cx="1982520" cy="771480"/>
            <a:chOff x="6480000" y="1445760"/>
            <a:chExt cx="1982520" cy="771480"/>
          </a:xfrm>
        </p:grpSpPr>
        <p:sp>
          <p:nvSpPr>
            <p:cNvPr id="1192" name=""/>
            <p:cNvSpPr/>
            <p:nvPr/>
          </p:nvSpPr>
          <p:spPr>
            <a:xfrm flipV="1">
              <a:off x="6480000" y="1445040"/>
              <a:ext cx="1982520" cy="771480"/>
            </a:xfrm>
            <a:prstGeom prst="foldedCorner">
              <a:avLst>
                <a:gd name="adj" fmla="val 12500"/>
              </a:avLst>
            </a:prstGeom>
            <a:solidFill>
              <a:srgbClr val="ffcccc"/>
            </a:solidFill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514920" y="1500120"/>
              <a:ext cx="1920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No controla saldo del cli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" name=""/>
          <p:cNvSpPr/>
          <p:nvPr/>
        </p:nvSpPr>
        <p:spPr>
          <a:xfrm flipV="1">
            <a:off x="7383600" y="2217240"/>
            <a:ext cx="403200" cy="368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951520" y="5016600"/>
            <a:ext cx="3100320" cy="1441440"/>
            <a:chOff x="5951520" y="5016600"/>
            <a:chExt cx="3100320" cy="1441440"/>
          </a:xfrm>
        </p:grpSpPr>
        <p:sp>
          <p:nvSpPr>
            <p:cNvPr id="1196" name=""/>
            <p:cNvSpPr/>
            <p:nvPr/>
          </p:nvSpPr>
          <p:spPr>
            <a:xfrm>
              <a:off x="5951520" y="5016600"/>
              <a:ext cx="3044880" cy="144144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148440" y="5123160"/>
              <a:ext cx="2882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&lt;&lt;excepción&gt;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VentaRechaz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958000" y="5758200"/>
              <a:ext cx="3052800" cy="144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953320" y="6154920"/>
              <a:ext cx="3052440" cy="324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134040" y="5739120"/>
              <a:ext cx="2917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raz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5E6-E88D-47B2-95A7-C56BD02E557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Adornos para Clasificador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569880" y="1218960"/>
            <a:ext cx="4137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n elementos de modelado que pueden tener instanci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faz, Tipo de datos, Señal, Componente, Nodo, Casos de uso, Subsistem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sibilid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e29fc"/>
                </a:solidFill>
                <a:latin typeface="Courier New"/>
              </a:rPr>
              <a:t>+</a:t>
            </a:r>
            <a:r>
              <a:rPr b="1" lang="es-ES" sz="1800" spc="-1" strike="noStrike">
                <a:solidFill>
                  <a:srgbClr val="1e29fc"/>
                </a:solidFill>
                <a:latin typeface="Courier New"/>
              </a:rPr>
              <a:t> Publ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Courier New"/>
              </a:rPr>
              <a:t>#</a:t>
            </a:r>
            <a:r>
              <a:rPr b="1" lang="es-ES" sz="1800" spc="-1" strike="noStrike">
                <a:solidFill>
                  <a:srgbClr val="cc3300"/>
                </a:solidFill>
                <a:latin typeface="Courier New"/>
              </a:rPr>
              <a:t> Protec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8901b"/>
                </a:solidFill>
                <a:latin typeface="Courier New"/>
              </a:rPr>
              <a:t>- </a:t>
            </a:r>
            <a:r>
              <a:rPr b="1" lang="es-ES" sz="1800" spc="-1" strike="noStrike">
                <a:solidFill>
                  <a:srgbClr val="18901b"/>
                </a:solidFill>
                <a:latin typeface="Courier New"/>
              </a:rPr>
              <a:t>Priv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c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instanc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Courier New"/>
              </a:rPr>
              <a:t>clasificad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5102280" y="2563920"/>
            <a:ext cx="3605040" cy="2351160"/>
            <a:chOff x="5102280" y="2563920"/>
            <a:chExt cx="3605040" cy="2351160"/>
          </a:xfrm>
        </p:grpSpPr>
        <p:sp>
          <p:nvSpPr>
            <p:cNvPr id="1204" name=""/>
            <p:cNvSpPr/>
            <p:nvPr/>
          </p:nvSpPr>
          <p:spPr>
            <a:xfrm>
              <a:off x="5102280" y="2563920"/>
              <a:ext cx="3592440" cy="235116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06960" y="2989440"/>
              <a:ext cx="3600360" cy="288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95880" y="2622600"/>
              <a:ext cx="340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Tarj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02280" y="3986280"/>
              <a:ext cx="3600360" cy="324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121360" y="3916440"/>
              <a:ext cx="34876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1e29fc"/>
                  </a:solidFill>
                  <a:latin typeface="Times New Roman"/>
                </a:rPr>
                <a:t>+ GetSaldo: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1e29fc"/>
                  </a:solidFill>
                  <a:latin typeface="Times New Roman"/>
                </a:rPr>
                <a:t>+ Recarga(long c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1e29fc"/>
                  </a:solidFill>
                  <a:latin typeface="Times New Roman"/>
                </a:rPr>
                <a:t>+ Comprobar(long cant):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143680" y="3022560"/>
              <a:ext cx="34876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buClr>
                  <a:srgbClr val="18901b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18901b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18901b"/>
                  </a:solidFill>
                  <a:latin typeface="Times New Roman"/>
                </a:rPr>
                <a:t>Saldo: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18901b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18901b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18901b"/>
                  </a:solidFill>
                  <a:latin typeface="Times New Roman"/>
                </a:rPr>
                <a:t>PIN: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cc3300"/>
                  </a:solidFill>
                  <a:latin typeface="Times New Roman"/>
                </a:rPr>
                <a:t># Límite:long = 25.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35480" y="3854520"/>
              <a:ext cx="1640160" cy="144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C20-75A9-4DC0-A0BC-88307608853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Especificación de Atribut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04600" y="1218960"/>
            <a:ext cx="8040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ormato atribu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e29fc"/>
                </a:solidFill>
                <a:latin typeface="Courier New"/>
              </a:rPr>
              <a:t>[visibilidad] nombre [multiplicidad] [:tipo] [=valor inicial] [{propiedades}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Propiedades predefinidas: </a:t>
            </a:r>
            <a:r>
              <a:rPr b="1" lang="es-ES" sz="1600" spc="-1" strike="noStrike">
                <a:solidFill>
                  <a:srgbClr val="1e29fc"/>
                </a:solidFill>
                <a:latin typeface="Courier New"/>
              </a:rPr>
              <a:t>changeable, addOnly, froz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2395440" y="3075120"/>
            <a:ext cx="4614480" cy="2350800"/>
            <a:chOff x="2395440" y="3075120"/>
            <a:chExt cx="4614480" cy="2350800"/>
          </a:xfrm>
        </p:grpSpPr>
        <p:sp>
          <p:nvSpPr>
            <p:cNvPr id="1214" name=""/>
            <p:cNvSpPr/>
            <p:nvPr/>
          </p:nvSpPr>
          <p:spPr>
            <a:xfrm>
              <a:off x="2395440" y="3075120"/>
              <a:ext cx="4598280" cy="235080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401200" y="3500280"/>
              <a:ext cx="4608720" cy="252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514960" y="3133440"/>
              <a:ext cx="4354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Tarj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395440" y="4497120"/>
              <a:ext cx="4608720" cy="288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419560" y="4427280"/>
              <a:ext cx="44643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1e29fc"/>
                  </a:solidFill>
                  <a:latin typeface="Times New Roman"/>
                </a:rPr>
                <a:t>+ GetSaldo: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1e29fc"/>
                  </a:solidFill>
                  <a:latin typeface="Times New Roman"/>
                </a:rPr>
                <a:t>+ Recarga(long c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1e29fc"/>
                  </a:solidFill>
                  <a:latin typeface="Times New Roman"/>
                </a:rPr>
                <a:t>+ Comprobar(long cant):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448360" y="3533400"/>
              <a:ext cx="44643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buClr>
                  <a:srgbClr val="18901b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18901b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18901b"/>
                  </a:solidFill>
                  <a:latin typeface="Times New Roman"/>
                </a:rPr>
                <a:t>Saldo: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18901b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18901b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18901b"/>
                  </a:solidFill>
                  <a:latin typeface="Times New Roman"/>
                </a:rPr>
                <a:t>PIN [1..*] : int {addOnly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cc3300"/>
                  </a:solidFill>
                  <a:latin typeface="Times New Roman"/>
                </a:rPr>
                <a:t># Límite:long = 25.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565720" y="4365360"/>
              <a:ext cx="2099520" cy="108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6FC-2B6E-4E9E-A032-1A01CAB6A96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Especificación de Opera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309240" y="1219320"/>
            <a:ext cx="8643960" cy="25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ormato oper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e29fc"/>
                </a:solidFill>
                <a:latin typeface="Courier New"/>
              </a:rPr>
              <a:t>[visibilidad] nombre [(lista parámetros)] [:tipoDevuelto] [{propiedades}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Propiedades predefinidas: </a:t>
            </a:r>
            <a:r>
              <a:rPr b="1" lang="es-ES" sz="1600" spc="-1" strike="noStrike">
                <a:solidFill>
                  <a:srgbClr val="1e29fc"/>
                </a:solidFill>
                <a:latin typeface="Courier New"/>
              </a:rPr>
              <a:t>isQuery, ...(para concurrenci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ormato parámetr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e29fc"/>
                </a:solidFill>
                <a:latin typeface="Courier New"/>
              </a:rPr>
              <a:t>[dirección] nombre : tipo [=valor defecto] </a:t>
            </a:r>
            <a:r>
              <a:rPr b="1" lang="es-ES" sz="1400" spc="-1" strike="noStrike">
                <a:solidFill>
                  <a:srgbClr val="000000"/>
                </a:solidFill>
                <a:latin typeface="Courier New"/>
              </a:rPr>
              <a:t>direcciones: </a:t>
            </a:r>
            <a:r>
              <a:rPr b="1" lang="es-ES" sz="1400" spc="-1" strike="noStrike">
                <a:solidFill>
                  <a:srgbClr val="1e29fc"/>
                </a:solidFill>
                <a:latin typeface="Courier New"/>
              </a:rPr>
              <a:t>in,out, inou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2859120" y="3859200"/>
            <a:ext cx="4614480" cy="2351160"/>
            <a:chOff x="2859120" y="3859200"/>
            <a:chExt cx="4614480" cy="2351160"/>
          </a:xfrm>
        </p:grpSpPr>
        <p:sp>
          <p:nvSpPr>
            <p:cNvPr id="1224" name=""/>
            <p:cNvSpPr/>
            <p:nvPr/>
          </p:nvSpPr>
          <p:spPr>
            <a:xfrm>
              <a:off x="2859120" y="3859200"/>
              <a:ext cx="4598280" cy="235116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864880" y="4284720"/>
              <a:ext cx="4608720" cy="288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978640" y="3917880"/>
              <a:ext cx="4354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Tarj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859120" y="5281560"/>
              <a:ext cx="4608720" cy="324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883240" y="5211720"/>
              <a:ext cx="44643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1e29fc"/>
                  </a:solidFill>
                  <a:latin typeface="Times New Roman"/>
                </a:rPr>
                <a:t>+ GetSaldo: long {isQuery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1e29fc"/>
                  </a:solidFill>
                  <a:latin typeface="Times New Roman"/>
                </a:rPr>
                <a:t>+ Recarga(long c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1e29fc"/>
                  </a:solidFill>
                  <a:latin typeface="Times New Roman"/>
                </a:rPr>
                <a:t>+ ComprobarPIN(int pinPrueba):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912040" y="4317840"/>
              <a:ext cx="44643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buClr>
                  <a:srgbClr val="18901b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18901b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18901b"/>
                  </a:solidFill>
                  <a:latin typeface="Times New Roman"/>
                </a:rPr>
                <a:t>Saldo: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18901b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18901b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18901b"/>
                  </a:solidFill>
                  <a:latin typeface="Times New Roman"/>
                </a:rPr>
                <a:t>PIN [1..*] : int {addOnly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cc3300"/>
                  </a:solidFill>
                  <a:latin typeface="Times New Roman"/>
                </a:rPr>
                <a:t># Límite:long = 25.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029400" y="5149800"/>
              <a:ext cx="2099520" cy="144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741-F703-4830-93DE-C4249B19DE6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Interfac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36080" cy="94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faz: colección de operaciones que se usa para especificar un servicio de una clase o compon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5392800" y="2606760"/>
            <a:ext cx="3476520" cy="2328120"/>
            <a:chOff x="5392800" y="2606760"/>
            <a:chExt cx="3476520" cy="2328120"/>
          </a:xfrm>
        </p:grpSpPr>
        <p:grpSp>
          <p:nvGrpSpPr>
            <p:cNvPr id="1234" name=""/>
            <p:cNvGrpSpPr/>
            <p:nvPr/>
          </p:nvGrpSpPr>
          <p:grpSpPr>
            <a:xfrm>
              <a:off x="5543640" y="2606760"/>
              <a:ext cx="2963880" cy="973080"/>
              <a:chOff x="5543640" y="2606760"/>
              <a:chExt cx="2963880" cy="973080"/>
            </a:xfrm>
          </p:grpSpPr>
          <p:sp>
            <p:nvSpPr>
              <p:cNvPr id="1235" name=""/>
              <p:cNvSpPr/>
              <p:nvPr/>
            </p:nvSpPr>
            <p:spPr>
              <a:xfrm>
                <a:off x="5543640" y="2606760"/>
                <a:ext cx="2952720" cy="973080"/>
              </a:xfrm>
              <a:prstGeom prst="rect">
                <a:avLst/>
              </a:prstGeom>
              <a:solidFill>
                <a:srgbClr val="ffcccc"/>
              </a:solidFill>
              <a:ln w="1260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546880" y="3031920"/>
                <a:ext cx="2960640" cy="2880"/>
              </a:xfrm>
              <a:prstGeom prst="line">
                <a:avLst/>
              </a:prstGeom>
              <a:ln w="1260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621400" y="2665440"/>
                <a:ext cx="27954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868686"/>
                    </a:solidFill>
                    <a:latin typeface="Times New Roman"/>
                  </a:rPr>
                  <a:t>Tarjeta Multifun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543640" y="3255840"/>
                <a:ext cx="2960640" cy="2880"/>
              </a:xfrm>
              <a:prstGeom prst="line">
                <a:avLst/>
              </a:prstGeom>
              <a:ln w="1260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5392800" y="4103640"/>
              <a:ext cx="2101680" cy="831240"/>
              <a:chOff x="5392800" y="4103640"/>
              <a:chExt cx="2101680" cy="831240"/>
            </a:xfrm>
          </p:grpSpPr>
          <p:sp>
            <p:nvSpPr>
              <p:cNvPr id="1240" name=""/>
              <p:cNvSpPr/>
              <p:nvPr/>
            </p:nvSpPr>
            <p:spPr>
              <a:xfrm>
                <a:off x="6102360" y="4103640"/>
                <a:ext cx="500040" cy="461520"/>
              </a:xfrm>
              <a:prstGeom prst="ellipse">
                <a:avLst/>
              </a:prstGeom>
              <a:noFill/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392800" y="4566600"/>
                <a:ext cx="210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IIdentific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6873840" y="4101840"/>
              <a:ext cx="1995480" cy="831960"/>
              <a:chOff x="6873840" y="4101840"/>
              <a:chExt cx="1995480" cy="831960"/>
            </a:xfrm>
          </p:grpSpPr>
          <p:sp>
            <p:nvSpPr>
              <p:cNvPr id="1243" name=""/>
              <p:cNvSpPr/>
              <p:nvPr/>
            </p:nvSpPr>
            <p:spPr>
              <a:xfrm>
                <a:off x="7583760" y="4101840"/>
                <a:ext cx="500040" cy="461880"/>
              </a:xfrm>
              <a:prstGeom prst="ellipse">
                <a:avLst/>
              </a:prstGeom>
              <a:noFill/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873840" y="4565520"/>
                <a:ext cx="199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IPag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5" name=""/>
            <p:cNvSpPr/>
            <p:nvPr/>
          </p:nvSpPr>
          <p:spPr>
            <a:xfrm flipV="1">
              <a:off x="6353280" y="3581280"/>
              <a:ext cx="0" cy="522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7823160" y="3578040"/>
              <a:ext cx="0" cy="522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696960" y="2054160"/>
            <a:ext cx="7961400" cy="4503240"/>
            <a:chOff x="696960" y="2054160"/>
            <a:chExt cx="7961400" cy="4503240"/>
          </a:xfrm>
        </p:grpSpPr>
        <p:sp>
          <p:nvSpPr>
            <p:cNvPr id="1248" name=""/>
            <p:cNvSpPr/>
            <p:nvPr/>
          </p:nvSpPr>
          <p:spPr>
            <a:xfrm>
              <a:off x="696960" y="2054160"/>
              <a:ext cx="4816440" cy="20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a50021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Si es necesario puede representarse como una clase estereotipada. No tendrá </a:t>
              </a: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atributos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 ni </a:t>
              </a: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métodos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; sólo </a:t>
              </a: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operaciones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9" name=""/>
            <p:cNvGrpSpPr/>
            <p:nvPr/>
          </p:nvGrpSpPr>
          <p:grpSpPr>
            <a:xfrm>
              <a:off x="5599080" y="4965480"/>
              <a:ext cx="3059280" cy="1591920"/>
              <a:chOff x="5599080" y="4965480"/>
              <a:chExt cx="3059280" cy="1591920"/>
            </a:xfrm>
          </p:grpSpPr>
          <p:sp>
            <p:nvSpPr>
              <p:cNvPr id="1250" name=""/>
              <p:cNvSpPr/>
              <p:nvPr/>
            </p:nvSpPr>
            <p:spPr>
              <a:xfrm>
                <a:off x="5599080" y="5014800"/>
                <a:ext cx="3044880" cy="1441440"/>
              </a:xfrm>
              <a:prstGeom prst="rect">
                <a:avLst/>
              </a:prstGeom>
              <a:solidFill>
                <a:srgbClr val="ffcccc"/>
              </a:solidFill>
              <a:ln w="255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1" name=""/>
              <p:cNvGrpSpPr/>
              <p:nvPr/>
            </p:nvGrpSpPr>
            <p:grpSpPr>
              <a:xfrm>
                <a:off x="5600880" y="4965480"/>
                <a:ext cx="3057480" cy="1591920"/>
                <a:chOff x="5600880" y="4965480"/>
                <a:chExt cx="3057480" cy="159192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5664240" y="4965480"/>
                  <a:ext cx="288288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&lt;&lt;interface&gt;&gt;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IPag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5605560" y="5578200"/>
                  <a:ext cx="3052800" cy="1800"/>
                </a:xfrm>
                <a:prstGeom prst="line">
                  <a:avLst/>
                </a:prstGeom>
                <a:ln w="2556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5600880" y="5691240"/>
                  <a:ext cx="3052440" cy="2880"/>
                </a:xfrm>
                <a:prstGeom prst="line">
                  <a:avLst/>
                </a:prstGeom>
                <a:ln w="2556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5614920" y="5641920"/>
                  <a:ext cx="291780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GetSaldo(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Recarga(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6" name=""/>
          <p:cNvSpPr/>
          <p:nvPr/>
        </p:nvSpPr>
        <p:spPr>
          <a:xfrm>
            <a:off x="706320" y="4011480"/>
            <a:ext cx="481644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s operaciones pueden incluir adornos como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stereotipos, valores etiquetados, restricciones y propiedades de visibilidad y concurrenci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4C9-B05E-4DFE-AA8C-30E09153221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Paquet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47640" y="1397160"/>
            <a:ext cx="8259840" cy="50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 paquete es un elemento de propósito general para organizar elementos del modelo en grup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de contener clases, interfaces, nodos, colaboraciones, casos de uso, diagramas e incluso otros paque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 paquete forma un espacio de nombr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ereotipos estánda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e29fc"/>
                </a:solidFill>
                <a:latin typeface="Courier New"/>
              </a:rPr>
              <a:t>  </a:t>
            </a:r>
            <a:r>
              <a:rPr b="1" lang="es-ES" sz="1600" spc="-1" strike="noStrike">
                <a:solidFill>
                  <a:srgbClr val="1e29fc"/>
                </a:solidFill>
                <a:latin typeface="Courier New"/>
              </a:rPr>
              <a:t>framework, subsystem,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e29fc"/>
                </a:solidFill>
                <a:latin typeface="Courier New"/>
              </a:rPr>
              <a:t>  </a:t>
            </a:r>
            <a:r>
              <a:rPr b="1" lang="es-ES" sz="1600" spc="-1" strike="noStrike">
                <a:solidFill>
                  <a:srgbClr val="1e29fc"/>
                </a:solidFill>
                <a:latin typeface="Courier New"/>
              </a:rPr>
              <a:t>stub, faca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5705640" y="4013280"/>
            <a:ext cx="2996640" cy="1824480"/>
            <a:chOff x="5705640" y="4013280"/>
            <a:chExt cx="2996640" cy="1824480"/>
          </a:xfrm>
        </p:grpSpPr>
        <p:sp>
          <p:nvSpPr>
            <p:cNvPr id="1260" name=""/>
            <p:cNvSpPr/>
            <p:nvPr/>
          </p:nvSpPr>
          <p:spPr>
            <a:xfrm>
              <a:off x="5723280" y="4429440"/>
              <a:ext cx="2709000" cy="126144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13560" y="4525560"/>
              <a:ext cx="298872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68686"/>
                  </a:solidFill>
                  <a:latin typeface="Times New Roman"/>
                </a:rPr>
                <a:t>+FormularioDePedi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68686"/>
                  </a:solidFill>
                  <a:latin typeface="Times New Roman"/>
                </a:rPr>
                <a:t>+FormularioDeEst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68686"/>
                  </a:solidFill>
                  <a:latin typeface="Times New Roman"/>
                </a:rPr>
                <a:t>- Pedi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13560" y="4030560"/>
              <a:ext cx="1086120" cy="3952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05640" y="4013280"/>
              <a:ext cx="139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68686"/>
                  </a:solidFill>
                  <a:latin typeface="Times New Roman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B315-CF3C-4E25-A32B-1C402CC6ACC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Paquet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330120" y="1294920"/>
            <a:ext cx="278280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sibilida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5815080" y="1851120"/>
            <a:ext cx="2996640" cy="1824480"/>
            <a:chOff x="5815080" y="1851120"/>
            <a:chExt cx="2996640" cy="1824480"/>
          </a:xfrm>
        </p:grpSpPr>
        <p:sp>
          <p:nvSpPr>
            <p:cNvPr id="1267" name=""/>
            <p:cNvSpPr/>
            <p:nvPr/>
          </p:nvSpPr>
          <p:spPr>
            <a:xfrm>
              <a:off x="5832720" y="2267280"/>
              <a:ext cx="2709000" cy="126144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823000" y="2363400"/>
              <a:ext cx="298872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68686"/>
                  </a:solidFill>
                  <a:latin typeface="Times New Roman"/>
                </a:rPr>
                <a:t>+FormularioDePedi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68686"/>
                  </a:solidFill>
                  <a:latin typeface="Times New Roman"/>
                </a:rPr>
                <a:t>+FormularioDeEst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68686"/>
                  </a:solidFill>
                  <a:latin typeface="Times New Roman"/>
                </a:rPr>
                <a:t>- Pedi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823000" y="1868400"/>
              <a:ext cx="1086120" cy="3952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815080" y="1851120"/>
              <a:ext cx="139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68686"/>
                  </a:solidFill>
                  <a:latin typeface="Times New Roman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179280" y="1703520"/>
            <a:ext cx="6843960" cy="3402720"/>
            <a:chOff x="179280" y="1703520"/>
            <a:chExt cx="6843960" cy="3402720"/>
          </a:xfrm>
        </p:grpSpPr>
        <p:sp>
          <p:nvSpPr>
            <p:cNvPr id="1272" name=""/>
            <p:cNvSpPr/>
            <p:nvPr/>
          </p:nvSpPr>
          <p:spPr>
            <a:xfrm>
              <a:off x="5022720" y="3884400"/>
              <a:ext cx="200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&lt;&lt;import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179280" y="1703520"/>
              <a:ext cx="6446880" cy="3402720"/>
              <a:chOff x="179280" y="1703520"/>
              <a:chExt cx="6446880" cy="3402720"/>
            </a:xfrm>
          </p:grpSpPr>
          <p:sp>
            <p:nvSpPr>
              <p:cNvPr id="1274" name=""/>
              <p:cNvSpPr/>
              <p:nvPr/>
            </p:nvSpPr>
            <p:spPr>
              <a:xfrm>
                <a:off x="693720" y="1703520"/>
                <a:ext cx="519588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buClr>
                    <a:srgbClr val="a50021"/>
                  </a:buClr>
                  <a:buSzPct val="80000"/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Importación y Exportación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5" name=""/>
              <p:cNvGrpSpPr/>
              <p:nvPr/>
            </p:nvGrpSpPr>
            <p:grpSpPr>
              <a:xfrm>
                <a:off x="179280" y="2770200"/>
                <a:ext cx="6446880" cy="2336040"/>
                <a:chOff x="179280" y="2770200"/>
                <a:chExt cx="6446880" cy="2336040"/>
              </a:xfrm>
            </p:grpSpPr>
            <p:grpSp>
              <p:nvGrpSpPr>
                <p:cNvPr id="1276" name=""/>
                <p:cNvGrpSpPr/>
                <p:nvPr/>
              </p:nvGrpSpPr>
              <p:grpSpPr>
                <a:xfrm>
                  <a:off x="1398600" y="2770200"/>
                  <a:ext cx="2997000" cy="1677600"/>
                  <a:chOff x="1398600" y="2770200"/>
                  <a:chExt cx="2997000" cy="1677600"/>
                </a:xfrm>
              </p:grpSpPr>
              <p:sp>
                <p:nvSpPr>
                  <p:cNvPr id="1277" name=""/>
                  <p:cNvSpPr/>
                  <p:nvPr/>
                </p:nvSpPr>
                <p:spPr>
                  <a:xfrm>
                    <a:off x="1416240" y="3186360"/>
                    <a:ext cx="2709360" cy="1261440"/>
                  </a:xfrm>
                  <a:prstGeom prst="rect">
                    <a:avLst/>
                  </a:prstGeom>
                  <a:solidFill>
                    <a:srgbClr val="ffcccc"/>
                  </a:solidFill>
                  <a:ln w="2556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1406520" y="3282480"/>
                    <a:ext cx="2989080" cy="1007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20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+Ventan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20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+Formulari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20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#GestorEvent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1406520" y="2787480"/>
                    <a:ext cx="1086480" cy="395280"/>
                  </a:xfrm>
                  <a:prstGeom prst="rect">
                    <a:avLst/>
                  </a:prstGeom>
                  <a:solidFill>
                    <a:srgbClr val="ffcccc"/>
                  </a:solidFill>
                  <a:ln w="2556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1398600" y="2770200"/>
                    <a:ext cx="139824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20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GUI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1" name=""/>
                <p:cNvGrpSpPr/>
                <p:nvPr/>
              </p:nvGrpSpPr>
              <p:grpSpPr>
                <a:xfrm>
                  <a:off x="4121280" y="3578040"/>
                  <a:ext cx="2504880" cy="331920"/>
                  <a:chOff x="4121280" y="3578040"/>
                  <a:chExt cx="2504880" cy="33192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6626160" y="3578040"/>
                    <a:ext cx="0" cy="320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 flipH="1">
                    <a:off x="4121280" y="3909960"/>
                    <a:ext cx="250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519120" y="4768920"/>
                  <a:ext cx="2000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ort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80880" y="3794040"/>
                  <a:ext cx="1057320" cy="1157400"/>
                </a:xfrm>
                <a:custGeom>
                  <a:avLst/>
                  <a:gdLst/>
                  <a:ahLst/>
                  <a:rect l="l" t="t" r="r" b="b"/>
                  <a:pathLst>
                    <a:path w="712" h="729">
                      <a:moveTo>
                        <a:pt x="351" y="729"/>
                      </a:moveTo>
                      <a:cubicBezTo>
                        <a:pt x="175" y="567"/>
                        <a:pt x="0" y="406"/>
                        <a:pt x="60" y="284"/>
                      </a:cubicBezTo>
                      <a:cubicBezTo>
                        <a:pt x="120" y="162"/>
                        <a:pt x="596" y="47"/>
                        <a:pt x="712" y="0"/>
                      </a:cubicBezTo>
                    </a:path>
                  </a:pathLst>
                </a:custGeom>
                <a:noFill/>
                <a:ln cap="sq" w="19080">
                  <a:solidFill>
                    <a:srgbClr val="000000"/>
                  </a:solidFill>
                  <a:round/>
                  <a:tailEnd len="med" type="oval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179280" y="3459240"/>
                  <a:ext cx="1254240" cy="1492200"/>
                </a:xfrm>
                <a:custGeom>
                  <a:avLst/>
                  <a:gdLst/>
                  <a:ahLst/>
                  <a:rect l="l" t="t" r="r" b="b"/>
                  <a:pathLst>
                    <a:path w="790" h="940">
                      <a:moveTo>
                        <a:pt x="455" y="940"/>
                      </a:moveTo>
                      <a:cubicBezTo>
                        <a:pt x="388" y="863"/>
                        <a:pt x="0" y="644"/>
                        <a:pt x="56" y="487"/>
                      </a:cubicBezTo>
                      <a:cubicBezTo>
                        <a:pt x="112" y="330"/>
                        <a:pt x="637" y="102"/>
                        <a:pt x="790" y="0"/>
                      </a:cubicBezTo>
                    </a:path>
                  </a:pathLst>
                </a:custGeom>
                <a:noFill/>
                <a:ln cap="sq" w="19080">
                  <a:solidFill>
                    <a:srgbClr val="000000"/>
                  </a:solidFill>
                  <a:round/>
                  <a:tailEnd len="med" type="oval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87" name=""/>
          <p:cNvGrpSpPr/>
          <p:nvPr/>
        </p:nvGrpSpPr>
        <p:grpSpPr>
          <a:xfrm>
            <a:off x="706320" y="2093760"/>
            <a:ext cx="7018560" cy="4298760"/>
            <a:chOff x="706320" y="2093760"/>
            <a:chExt cx="7018560" cy="4298760"/>
          </a:xfrm>
        </p:grpSpPr>
        <p:sp>
          <p:nvSpPr>
            <p:cNvPr id="1288" name=""/>
            <p:cNvSpPr/>
            <p:nvPr/>
          </p:nvSpPr>
          <p:spPr>
            <a:xfrm>
              <a:off x="706320" y="2093760"/>
              <a:ext cx="4934160" cy="6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a50021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Generalizació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9" name=""/>
            <p:cNvGrpSpPr/>
            <p:nvPr/>
          </p:nvGrpSpPr>
          <p:grpSpPr>
            <a:xfrm>
              <a:off x="2916360" y="4174920"/>
              <a:ext cx="4808520" cy="2217600"/>
              <a:chOff x="2916360" y="4174920"/>
              <a:chExt cx="4808520" cy="2217600"/>
            </a:xfrm>
          </p:grpSpPr>
          <p:grpSp>
            <p:nvGrpSpPr>
              <p:cNvPr id="1290" name=""/>
              <p:cNvGrpSpPr/>
              <p:nvPr/>
            </p:nvGrpSpPr>
            <p:grpSpPr>
              <a:xfrm>
                <a:off x="5788080" y="5084640"/>
                <a:ext cx="1936800" cy="1020600"/>
                <a:chOff x="5788080" y="5084640"/>
                <a:chExt cx="1936800" cy="102060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5805360" y="5412960"/>
                  <a:ext cx="1919520" cy="692280"/>
                </a:xfrm>
                <a:prstGeom prst="rect">
                  <a:avLst/>
                </a:prstGeom>
                <a:solidFill>
                  <a:srgbClr val="ffcccc"/>
                </a:solidFill>
                <a:ln w="2556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796000" y="5098680"/>
                  <a:ext cx="1073160" cy="311400"/>
                </a:xfrm>
                <a:prstGeom prst="rect">
                  <a:avLst/>
                </a:prstGeom>
                <a:solidFill>
                  <a:srgbClr val="ffcccc"/>
                </a:solidFill>
                <a:ln w="2556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788080" y="5084640"/>
                  <a:ext cx="13809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WinGU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4" name=""/>
              <p:cNvGrpSpPr/>
              <p:nvPr/>
            </p:nvGrpSpPr>
            <p:grpSpPr>
              <a:xfrm>
                <a:off x="2916360" y="5372280"/>
                <a:ext cx="1936800" cy="1020240"/>
                <a:chOff x="2916360" y="5372280"/>
                <a:chExt cx="1936800" cy="102024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2933640" y="5700600"/>
                  <a:ext cx="1919520" cy="691920"/>
                </a:xfrm>
                <a:prstGeom prst="rect">
                  <a:avLst/>
                </a:prstGeom>
                <a:solidFill>
                  <a:srgbClr val="ffcccc"/>
                </a:solidFill>
                <a:ln w="2556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924280" y="5386320"/>
                  <a:ext cx="1073160" cy="310680"/>
                </a:xfrm>
                <a:prstGeom prst="rect">
                  <a:avLst/>
                </a:prstGeom>
                <a:solidFill>
                  <a:srgbClr val="ffcccc"/>
                </a:solidFill>
                <a:ln w="2556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916360" y="5372280"/>
                  <a:ext cx="13809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868686"/>
                      </a:solidFill>
                      <a:latin typeface="Times New Roman"/>
                    </a:rPr>
                    <a:t>LinuxGU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3462480" y="4413240"/>
                <a:ext cx="207720" cy="963720"/>
                <a:chOff x="3462480" y="4413240"/>
                <a:chExt cx="207720" cy="963720"/>
              </a:xfrm>
            </p:grpSpPr>
            <p:sp>
              <p:nvSpPr>
                <p:cNvPr id="1299" name=""/>
                <p:cNvSpPr/>
                <p:nvPr/>
              </p:nvSpPr>
              <p:spPr>
                <a:xfrm>
                  <a:off x="3462480" y="4413240"/>
                  <a:ext cx="207720" cy="25560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3560760" y="4668840"/>
                  <a:ext cx="0" cy="708120"/>
                </a:xfrm>
                <a:prstGeom prst="line">
                  <a:avLst/>
                </a:prstGeom>
                <a:ln cap="sq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1" name=""/>
              <p:cNvGrpSpPr/>
              <p:nvPr/>
            </p:nvGrpSpPr>
            <p:grpSpPr>
              <a:xfrm>
                <a:off x="4079880" y="4174920"/>
                <a:ext cx="1678320" cy="1083240"/>
                <a:chOff x="4079880" y="4174920"/>
                <a:chExt cx="1678320" cy="1083240"/>
              </a:xfrm>
            </p:grpSpPr>
            <p:sp>
              <p:nvSpPr>
                <p:cNvPr id="1302" name=""/>
                <p:cNvSpPr/>
                <p:nvPr/>
              </p:nvSpPr>
              <p:spPr>
                <a:xfrm rot="18044400">
                  <a:off x="4138920" y="4201560"/>
                  <a:ext cx="207720" cy="25560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flipH="1" flipV="1">
                  <a:off x="4346280" y="4399920"/>
                  <a:ext cx="1411920" cy="858240"/>
                </a:xfrm>
                <a:prstGeom prst="line">
                  <a:avLst/>
                </a:prstGeom>
                <a:ln cap="sq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0D23-18C6-4CCC-82FC-2435864A136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Consejos Práctic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372600" y="1218960"/>
            <a:ext cx="86216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lanzarse a dibujar clases y asociaciones sin sentid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ntar que el modelo sea simple, evitando complicaciones innecesaria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s nombres deben ser significativ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incluir en los objetos punteros a otros objet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r, si es posible, asociaciones binarias. Utilizar preferentemente asociaciones calificadas en vez de ternarias o con atributo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jar la definición de la multiplicidad para cuando se tenga un mejor conocimiento del problem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incluir los atributos de las asociaciones en las cla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itar las jerarquías de composición o generalización de muchos nive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el modelo hasta que sea satisfactori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cumentar el model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r sólo los elementos necesarios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4952-8BE1-434A-9AEB-F9E2C8D05EF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UML: El Lenguaje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389520" y="385668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250b0"/>
                </a:solidFill>
                <a:latin typeface="Times New Roman"/>
              </a:rPr>
              <a:t>Elem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851120" y="2265480"/>
            <a:ext cx="2041200" cy="4173840"/>
            <a:chOff x="1851120" y="2265480"/>
            <a:chExt cx="2041200" cy="4173840"/>
          </a:xfrm>
        </p:grpSpPr>
        <p:grpSp>
          <p:nvGrpSpPr>
            <p:cNvPr id="108" name=""/>
            <p:cNvGrpSpPr/>
            <p:nvPr/>
          </p:nvGrpSpPr>
          <p:grpSpPr>
            <a:xfrm>
              <a:off x="1985040" y="2265480"/>
              <a:ext cx="1907280" cy="4173840"/>
              <a:chOff x="1985040" y="2265480"/>
              <a:chExt cx="1907280" cy="4173840"/>
            </a:xfrm>
          </p:grpSpPr>
          <p:sp>
            <p:nvSpPr>
              <p:cNvPr id="109" name=""/>
              <p:cNvSpPr/>
              <p:nvPr/>
            </p:nvSpPr>
            <p:spPr>
              <a:xfrm>
                <a:off x="2169000" y="2265480"/>
                <a:ext cx="15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9900"/>
                    </a:solidFill>
                    <a:latin typeface="Times New Roman"/>
                  </a:rPr>
                  <a:t>Estructura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85040" y="3881520"/>
                <a:ext cx="190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9900"/>
                    </a:solidFill>
                    <a:latin typeface="Times New Roman"/>
                  </a:rPr>
                  <a:t>Comportamient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25880" y="5008680"/>
                <a:ext cx="138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9900"/>
                    </a:solidFill>
                    <a:latin typeface="Times New Roman"/>
                  </a:rPr>
                  <a:t>Agrupac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92840" y="6040440"/>
                <a:ext cx="124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9900"/>
                    </a:solidFill>
                    <a:latin typeface="Times New Roman"/>
                  </a:rPr>
                  <a:t>Anotac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1851120" y="2281320"/>
              <a:ext cx="248760" cy="4155840"/>
            </a:xfrm>
            <a:custGeom>
              <a:avLst/>
              <a:gdLst>
                <a:gd name="textAreaLeft" fmla="*/ 159120 w 248760"/>
                <a:gd name="textAreaRight" fmla="*/ 249120 w 248760"/>
                <a:gd name="textAreaTop" fmla="*/ 108360 h 4155840"/>
                <a:gd name="textAreaBottom" fmla="*/ 4047480 h 415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10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021200" y="1333440"/>
            <a:ext cx="1736280" cy="2327400"/>
            <a:chOff x="4021200" y="1333440"/>
            <a:chExt cx="1736280" cy="2327400"/>
          </a:xfrm>
        </p:grpSpPr>
        <p:grpSp>
          <p:nvGrpSpPr>
            <p:cNvPr id="115" name=""/>
            <p:cNvGrpSpPr/>
            <p:nvPr/>
          </p:nvGrpSpPr>
          <p:grpSpPr>
            <a:xfrm>
              <a:off x="4284360" y="1333440"/>
              <a:ext cx="1473120" cy="2327400"/>
              <a:chOff x="4284360" y="1333440"/>
              <a:chExt cx="1473120" cy="2327400"/>
            </a:xfrm>
          </p:grpSpPr>
          <p:sp>
            <p:nvSpPr>
              <p:cNvPr id="116" name=""/>
              <p:cNvSpPr/>
              <p:nvPr/>
            </p:nvSpPr>
            <p:spPr>
              <a:xfrm>
                <a:off x="4285080" y="1333440"/>
                <a:ext cx="68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990000"/>
                    </a:solidFill>
                    <a:latin typeface="Times New Roman"/>
                  </a:rPr>
                  <a:t>Cla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84720" y="1660680"/>
                <a:ext cx="89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990000"/>
                    </a:solidFill>
                    <a:latin typeface="Times New Roman"/>
                  </a:rPr>
                  <a:t>Interfaz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284360" y="1987560"/>
                <a:ext cx="1415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990000"/>
                    </a:solidFill>
                    <a:latin typeface="Times New Roman"/>
                  </a:rPr>
                  <a:t>Colabo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285080" y="2316240"/>
                <a:ext cx="1287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990000"/>
                    </a:solidFill>
                    <a:latin typeface="Times New Roman"/>
                  </a:rPr>
                  <a:t>Caso de us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284360" y="2639880"/>
                <a:ext cx="1473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990000"/>
                    </a:solidFill>
                    <a:latin typeface="Times New Roman"/>
                  </a:rPr>
                  <a:t>Clases activ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284720" y="3292560"/>
                <a:ext cx="135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990000"/>
                    </a:solidFill>
                    <a:latin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86520" y="296712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990000"/>
                    </a:solidFill>
                    <a:latin typeface="Times New Roman"/>
                  </a:rPr>
                  <a:t>Nod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4021200" y="1333440"/>
              <a:ext cx="174600" cy="2325600"/>
            </a:xfrm>
            <a:custGeom>
              <a:avLst/>
              <a:gdLst>
                <a:gd name="textAreaLeft" fmla="*/ 111600 w 174600"/>
                <a:gd name="textAreaRight" fmla="*/ 174960 w 174600"/>
                <a:gd name="textAreaTop" fmla="*/ 60480 h 2325600"/>
                <a:gd name="textAreaBottom" fmla="*/ 2265120 h 232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10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021200" y="3754440"/>
            <a:ext cx="2315880" cy="685800"/>
            <a:chOff x="4021200" y="3754440"/>
            <a:chExt cx="2315880" cy="685800"/>
          </a:xfrm>
        </p:grpSpPr>
        <p:grpSp>
          <p:nvGrpSpPr>
            <p:cNvPr id="125" name=""/>
            <p:cNvGrpSpPr/>
            <p:nvPr/>
          </p:nvGrpSpPr>
          <p:grpSpPr>
            <a:xfrm>
              <a:off x="4336560" y="3754440"/>
              <a:ext cx="2000520" cy="685800"/>
              <a:chOff x="4336560" y="3754440"/>
              <a:chExt cx="2000520" cy="685800"/>
            </a:xfrm>
          </p:grpSpPr>
          <p:sp>
            <p:nvSpPr>
              <p:cNvPr id="126" name=""/>
              <p:cNvSpPr/>
              <p:nvPr/>
            </p:nvSpPr>
            <p:spPr>
              <a:xfrm>
                <a:off x="4336920" y="3754440"/>
                <a:ext cx="121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990000"/>
                    </a:solidFill>
                    <a:latin typeface="Times New Roman"/>
                  </a:rPr>
                  <a:t>Interac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36560" y="4071960"/>
                <a:ext cx="200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990000"/>
                    </a:solidFill>
                    <a:latin typeface="Times New Roman"/>
                  </a:rPr>
                  <a:t>Máquina de esta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4021200" y="3800520"/>
              <a:ext cx="209160" cy="637920"/>
            </a:xfrm>
            <a:custGeom>
              <a:avLst/>
              <a:gdLst>
                <a:gd name="textAreaLeft" fmla="*/ 133560 w 209160"/>
                <a:gd name="textAreaRight" fmla="*/ 209520 w 209160"/>
                <a:gd name="textAreaTop" fmla="*/ 16560 h 637920"/>
                <a:gd name="textAreaBottom" fmla="*/ 621360 h 6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10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046400" y="4537080"/>
            <a:ext cx="1626480" cy="1447560"/>
            <a:chOff x="4046400" y="4537080"/>
            <a:chExt cx="1626480" cy="1447560"/>
          </a:xfrm>
        </p:grpSpPr>
        <p:grpSp>
          <p:nvGrpSpPr>
            <p:cNvPr id="130" name=""/>
            <p:cNvGrpSpPr/>
            <p:nvPr/>
          </p:nvGrpSpPr>
          <p:grpSpPr>
            <a:xfrm>
              <a:off x="4348800" y="4537080"/>
              <a:ext cx="1324080" cy="1438200"/>
              <a:chOff x="4348800" y="4537080"/>
              <a:chExt cx="1324080" cy="1438200"/>
            </a:xfrm>
          </p:grpSpPr>
          <p:sp>
            <p:nvSpPr>
              <p:cNvPr id="131" name=""/>
              <p:cNvSpPr/>
              <p:nvPr/>
            </p:nvSpPr>
            <p:spPr>
              <a:xfrm>
                <a:off x="4348800" y="4537080"/>
                <a:ext cx="99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990000"/>
                    </a:solidFill>
                    <a:latin typeface="Times New Roman"/>
                  </a:rPr>
                  <a:t>Paquet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49160" y="4894200"/>
                <a:ext cx="132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990000"/>
                    </a:solidFill>
                    <a:latin typeface="Times New Roman"/>
                  </a:rPr>
                  <a:t>Framework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49520" y="5251320"/>
                <a:ext cx="98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990000"/>
                    </a:solidFill>
                    <a:latin typeface="Times New Roman"/>
                  </a:rPr>
                  <a:t>Model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49160" y="5607000"/>
                <a:ext cx="1311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990000"/>
                    </a:solidFill>
                    <a:latin typeface="Times New Roman"/>
                  </a:rPr>
                  <a:t>Subsistem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4046400" y="4576680"/>
              <a:ext cx="199800" cy="1407960"/>
            </a:xfrm>
            <a:custGeom>
              <a:avLst/>
              <a:gdLst>
                <a:gd name="textAreaLeft" fmla="*/ 127800 w 199800"/>
                <a:gd name="textAreaRight" fmla="*/ 200160 w 199800"/>
                <a:gd name="textAreaTop" fmla="*/ 36720 h 1407960"/>
                <a:gd name="textAreaBottom" fmla="*/ 1371240 h 14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10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102200" y="6076800"/>
            <a:ext cx="889920" cy="396720"/>
            <a:chOff x="4102200" y="6076800"/>
            <a:chExt cx="889920" cy="396720"/>
          </a:xfrm>
        </p:grpSpPr>
        <p:sp>
          <p:nvSpPr>
            <p:cNvPr id="137" name=""/>
            <p:cNvSpPr/>
            <p:nvPr/>
          </p:nvSpPr>
          <p:spPr>
            <a:xfrm>
              <a:off x="4366440" y="6092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990000"/>
                  </a:solidFill>
                  <a:latin typeface="Times New Roman"/>
                </a:rPr>
                <a:t>No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02200" y="6076800"/>
              <a:ext cx="175320" cy="396720"/>
            </a:xfrm>
            <a:custGeom>
              <a:avLst/>
              <a:gdLst>
                <a:gd name="textAreaLeft" fmla="*/ 111960 w 175320"/>
                <a:gd name="textAreaRight" fmla="*/ 175320 w 175320"/>
                <a:gd name="textAreaTop" fmla="*/ 10080 h 396720"/>
                <a:gd name="textAreaBottom" fmla="*/ 386640 h 3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10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662440" y="1459080"/>
            <a:ext cx="838080" cy="1013760"/>
            <a:chOff x="5662440" y="1459080"/>
            <a:chExt cx="838080" cy="1013760"/>
          </a:xfrm>
        </p:grpSpPr>
        <p:sp>
          <p:nvSpPr>
            <p:cNvPr id="140" name=""/>
            <p:cNvSpPr/>
            <p:nvPr/>
          </p:nvSpPr>
          <p:spPr>
            <a:xfrm>
              <a:off x="5662440" y="1459080"/>
              <a:ext cx="838080" cy="2754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990000"/>
                  </a:solidFill>
                  <a:latin typeface="Times New Roman"/>
                </a:rPr>
                <a:t>Cl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62440" y="1734480"/>
              <a:ext cx="838080" cy="350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990000"/>
                  </a:solidFill>
                  <a:latin typeface="Times New Roman"/>
                </a:rPr>
                <a:t>atribu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62440" y="2085120"/>
              <a:ext cx="838080" cy="3877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990000"/>
                  </a:solidFill>
                  <a:latin typeface="Times New Roman"/>
                </a:rPr>
                <a:t>méto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48640" y="1409760"/>
            <a:ext cx="380880" cy="352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04200" y="17636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0000"/>
                </a:solidFill>
                <a:latin typeface="Times New Roman"/>
              </a:rPr>
              <a:t>IInterfa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54960" y="1298520"/>
            <a:ext cx="1312920" cy="700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0000"/>
                </a:solidFill>
                <a:latin typeface="Times New Roman"/>
              </a:rPr>
              <a:t>Colabo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16600" y="2076480"/>
            <a:ext cx="1312920" cy="700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0000"/>
                </a:solidFill>
                <a:latin typeface="Times New Roman"/>
              </a:rPr>
              <a:t>Caso de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8194680" y="2111400"/>
            <a:ext cx="838080" cy="1031400"/>
            <a:chOff x="8194680" y="2111400"/>
            <a:chExt cx="838080" cy="1031400"/>
          </a:xfrm>
        </p:grpSpPr>
        <p:sp>
          <p:nvSpPr>
            <p:cNvPr id="148" name=""/>
            <p:cNvSpPr/>
            <p:nvPr/>
          </p:nvSpPr>
          <p:spPr>
            <a:xfrm>
              <a:off x="8194680" y="2111400"/>
              <a:ext cx="838080" cy="275040"/>
            </a:xfrm>
            <a:prstGeom prst="rect">
              <a:avLst/>
            </a:prstGeom>
            <a:solidFill>
              <a:srgbClr val="ffcc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990000"/>
                  </a:solidFill>
                  <a:latin typeface="Times New Roman"/>
                </a:rPr>
                <a:t>Clase A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94680" y="2386440"/>
              <a:ext cx="838080" cy="351360"/>
            </a:xfrm>
            <a:prstGeom prst="rect">
              <a:avLst/>
            </a:prstGeom>
            <a:solidFill>
              <a:srgbClr val="ffcc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990000"/>
                  </a:solidFill>
                  <a:latin typeface="Times New Roman"/>
                </a:rPr>
                <a:t>atribu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94680" y="2738160"/>
              <a:ext cx="838080" cy="404640"/>
            </a:xfrm>
            <a:prstGeom prst="rect">
              <a:avLst/>
            </a:prstGeom>
            <a:solidFill>
              <a:srgbClr val="ffcc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990000"/>
                  </a:solidFill>
                  <a:latin typeface="Times New Roman"/>
                </a:rPr>
                <a:t>méto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119640" y="2911320"/>
            <a:ext cx="1597320" cy="785880"/>
            <a:chOff x="6119640" y="2911320"/>
            <a:chExt cx="1597320" cy="785880"/>
          </a:xfrm>
        </p:grpSpPr>
        <p:sp>
          <p:nvSpPr>
            <p:cNvPr id="152" name=""/>
            <p:cNvSpPr/>
            <p:nvPr/>
          </p:nvSpPr>
          <p:spPr>
            <a:xfrm>
              <a:off x="6386400" y="2911320"/>
              <a:ext cx="1330560" cy="785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990000"/>
                  </a:solidFill>
                  <a:latin typeface="Times New Roman"/>
                </a:rPr>
                <a:t>Compon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19640" y="3087360"/>
              <a:ext cx="457200" cy="106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19640" y="3414240"/>
              <a:ext cx="457200" cy="106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194680" y="3373560"/>
            <a:ext cx="736560" cy="6350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0000"/>
                </a:solidFill>
                <a:latin typeface="Times New Roman"/>
              </a:rPr>
              <a:t>No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648400" y="3762360"/>
            <a:ext cx="2403360" cy="814320"/>
            <a:chOff x="5648400" y="3762360"/>
            <a:chExt cx="2403360" cy="814320"/>
          </a:xfrm>
        </p:grpSpPr>
        <p:grpSp>
          <p:nvGrpSpPr>
            <p:cNvPr id="157" name=""/>
            <p:cNvGrpSpPr/>
            <p:nvPr/>
          </p:nvGrpSpPr>
          <p:grpSpPr>
            <a:xfrm>
              <a:off x="5648400" y="3762360"/>
              <a:ext cx="1330200" cy="337320"/>
              <a:chOff x="5648400" y="3762360"/>
              <a:chExt cx="1330200" cy="337320"/>
            </a:xfrm>
          </p:grpSpPr>
          <p:sp>
            <p:nvSpPr>
              <p:cNvPr id="158" name=""/>
              <p:cNvSpPr/>
              <p:nvPr/>
            </p:nvSpPr>
            <p:spPr>
              <a:xfrm>
                <a:off x="5648400" y="4052880"/>
                <a:ext cx="133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66120" y="376236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990000"/>
                    </a:solidFill>
                    <a:latin typeface="Times New Roman"/>
                  </a:rPr>
                  <a:t>Interac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7086600" y="3981600"/>
              <a:ext cx="965160" cy="5950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990000"/>
                  </a:solidFill>
                  <a:latin typeface="Times New Roman"/>
                </a:rPr>
                <a:t>Est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046920" y="4705200"/>
            <a:ext cx="1168200" cy="901440"/>
            <a:chOff x="6046920" y="4705200"/>
            <a:chExt cx="1168200" cy="901440"/>
          </a:xfrm>
        </p:grpSpPr>
        <p:sp>
          <p:nvSpPr>
            <p:cNvPr id="162" name=""/>
            <p:cNvSpPr/>
            <p:nvPr/>
          </p:nvSpPr>
          <p:spPr>
            <a:xfrm>
              <a:off x="6046920" y="4882680"/>
              <a:ext cx="1168200" cy="723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990000"/>
                  </a:solidFill>
                  <a:latin typeface="Times New Roman"/>
                </a:rPr>
                <a:t>Paqu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46920" y="4705200"/>
              <a:ext cx="492120" cy="177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V="1">
            <a:off x="6046920" y="5952240"/>
            <a:ext cx="1039680" cy="567000"/>
          </a:xfrm>
          <a:prstGeom prst="foldedCorner">
            <a:avLst>
              <a:gd name="adj" fmla="val 2488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0000"/>
                </a:solidFill>
                <a:latin typeface="Times New Roman"/>
              </a:rPr>
              <a:t>N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B6BA-6858-482C-80D2-425F1F0A3B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UML: El Lenguaje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627840" y="1933920"/>
            <a:ext cx="19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250b0"/>
                </a:solidFill>
                <a:latin typeface="Times New Roman"/>
              </a:rPr>
              <a:t>Rel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96920" y="1289160"/>
            <a:ext cx="1998360" cy="1600200"/>
            <a:chOff x="1996920" y="1289160"/>
            <a:chExt cx="1998360" cy="1600200"/>
          </a:xfrm>
        </p:grpSpPr>
        <p:sp>
          <p:nvSpPr>
            <p:cNvPr id="168" name=""/>
            <p:cNvSpPr/>
            <p:nvPr/>
          </p:nvSpPr>
          <p:spPr>
            <a:xfrm>
              <a:off x="2274120" y="128916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9900"/>
                  </a:solidFill>
                  <a:latin typeface="Times New Roman"/>
                </a:rPr>
                <a:t>Depend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74480" y="168588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9900"/>
                  </a:solidFill>
                  <a:latin typeface="Times New Roman"/>
                </a:rPr>
                <a:t>Asoci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73760" y="2082960"/>
              <a:ext cx="172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9900"/>
                  </a:solidFill>
                  <a:latin typeface="Times New Roman"/>
                </a:rPr>
                <a:t>Generaliz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75200" y="2479680"/>
              <a:ext cx="138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9900"/>
                  </a:solidFill>
                  <a:latin typeface="Times New Roman"/>
                </a:rPr>
                <a:t>Realiz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96920" y="1305000"/>
              <a:ext cx="277920" cy="1584360"/>
            </a:xfrm>
            <a:custGeom>
              <a:avLst/>
              <a:gdLst>
                <a:gd name="textAreaLeft" fmla="*/ 177480 w 277920"/>
                <a:gd name="textAreaRight" fmla="*/ 277920 w 27792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10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rot="16200000">
            <a:off x="639360" y="453780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250b0"/>
                </a:solidFill>
                <a:latin typeface="Times New Roman"/>
              </a:rPr>
              <a:t>Dia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96920" y="3048120"/>
            <a:ext cx="3172320" cy="3494520"/>
            <a:chOff x="1996920" y="3048120"/>
            <a:chExt cx="3172320" cy="3494520"/>
          </a:xfrm>
        </p:grpSpPr>
        <p:sp>
          <p:nvSpPr>
            <p:cNvPr id="175" name=""/>
            <p:cNvSpPr/>
            <p:nvPr/>
          </p:nvSpPr>
          <p:spPr>
            <a:xfrm>
              <a:off x="2272680" y="3092400"/>
              <a:ext cx="21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9900"/>
                  </a:solidFill>
                  <a:latin typeface="Times New Roman"/>
                </a:rPr>
                <a:t>Diagrama de cla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71240" y="3475080"/>
              <a:ext cx="22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9900"/>
                  </a:solidFill>
                  <a:latin typeface="Times New Roman"/>
                </a:rPr>
                <a:t>Diagrama de obje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69800" y="3855960"/>
              <a:ext cx="28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9900"/>
                  </a:solidFill>
                  <a:latin typeface="Times New Roman"/>
                </a:rPr>
                <a:t>Diagrama de casos de u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71960" y="4237200"/>
              <a:ext cx="25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9900"/>
                  </a:solidFill>
                  <a:latin typeface="Times New Roman"/>
                </a:rPr>
                <a:t>Diagrama de secu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96920" y="3048120"/>
              <a:ext cx="262080" cy="3492360"/>
            </a:xfrm>
            <a:custGeom>
              <a:avLst/>
              <a:gdLst>
                <a:gd name="textAreaLeft" fmla="*/ 167400 w 262080"/>
                <a:gd name="textAreaRight" fmla="*/ 262440 w 262080"/>
                <a:gd name="textAreaTop" fmla="*/ 91080 h 3492360"/>
                <a:gd name="textAreaBottom" fmla="*/ 3401280 h 34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10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69800" y="4618080"/>
              <a:ext cx="28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9900"/>
                  </a:solidFill>
                  <a:latin typeface="Times New Roman"/>
                </a:rPr>
                <a:t>Diagrama de colabor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71600" y="5000760"/>
              <a:ext cx="230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9900"/>
                  </a:solidFill>
                  <a:latin typeface="Times New Roman"/>
                </a:rPr>
                <a:t>Diagrama de est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71240" y="5381640"/>
              <a:ext cx="269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9900"/>
                  </a:solidFill>
                  <a:latin typeface="Times New Roman"/>
                </a:rPr>
                <a:t>Diagrama de activ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69800" y="5762520"/>
              <a:ext cx="289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9900"/>
                  </a:solidFill>
                  <a:latin typeface="Times New Roman"/>
                </a:rPr>
                <a:t>Diagrama de compone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70880" y="6143760"/>
              <a:ext cx="264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9900"/>
                  </a:solidFill>
                  <a:latin typeface="Times New Roman"/>
                </a:rPr>
                <a:t>Diagrama de desplieg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381640" y="1436760"/>
            <a:ext cx="2060280" cy="1452240"/>
            <a:chOff x="5381640" y="1436760"/>
            <a:chExt cx="2060280" cy="1452240"/>
          </a:xfrm>
        </p:grpSpPr>
        <p:sp>
          <p:nvSpPr>
            <p:cNvPr id="186" name=""/>
            <p:cNvSpPr/>
            <p:nvPr/>
          </p:nvSpPr>
          <p:spPr>
            <a:xfrm>
              <a:off x="5486400" y="14367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381640" y="1575360"/>
              <a:ext cx="2060280" cy="658440"/>
              <a:chOff x="5381640" y="1575360"/>
              <a:chExt cx="2060280" cy="658440"/>
            </a:xfrm>
          </p:grpSpPr>
          <p:sp>
            <p:nvSpPr>
              <p:cNvPr id="188" name=""/>
              <p:cNvSpPr/>
              <p:nvPr/>
            </p:nvSpPr>
            <p:spPr>
              <a:xfrm>
                <a:off x="5472000" y="1883160"/>
                <a:ext cx="19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381640" y="1575360"/>
                <a:ext cx="48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990000"/>
                    </a:solidFill>
                    <a:latin typeface="Times New Roman"/>
                  </a:rPr>
                  <a:t>0.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158960" y="158688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990000"/>
                    </a:solidFill>
                    <a:latin typeface="Times New Roman"/>
                  </a:rPr>
                  <a:t>*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82360" y="188316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990000"/>
                    </a:solidFill>
                    <a:latin typeface="Times New Roman"/>
                  </a:rPr>
                  <a:t>role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842520" y="189648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990000"/>
                    </a:solidFill>
                    <a:latin typeface="Times New Roman"/>
                  </a:rPr>
                  <a:t>role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491080" y="2268000"/>
              <a:ext cx="1900080" cy="210240"/>
              <a:chOff x="5491080" y="2268000"/>
              <a:chExt cx="1900080" cy="210240"/>
            </a:xfrm>
          </p:grpSpPr>
          <p:sp>
            <p:nvSpPr>
              <p:cNvPr id="194" name=""/>
              <p:cNvSpPr/>
              <p:nvPr/>
            </p:nvSpPr>
            <p:spPr>
              <a:xfrm>
                <a:off x="5491080" y="2362680"/>
                <a:ext cx="171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5400000">
                <a:off x="7194240" y="2281680"/>
                <a:ext cx="210240" cy="1825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491080" y="2678760"/>
              <a:ext cx="1900080" cy="210240"/>
              <a:chOff x="5491080" y="2678760"/>
              <a:chExt cx="1900080" cy="210240"/>
            </a:xfrm>
          </p:grpSpPr>
          <p:sp>
            <p:nvSpPr>
              <p:cNvPr id="197" name=""/>
              <p:cNvSpPr/>
              <p:nvPr/>
            </p:nvSpPr>
            <p:spPr>
              <a:xfrm>
                <a:off x="5491080" y="2773440"/>
                <a:ext cx="172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rot="5400000">
                <a:off x="7194240" y="2692440"/>
                <a:ext cx="210240" cy="1825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7B4-F15E-4D7B-A409-269DD10029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UML: El Lenguaje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788400" y="206172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250b0"/>
                </a:solidFill>
                <a:latin typeface="Times New Roman"/>
              </a:rPr>
              <a:t>Reg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313200" y="4614840"/>
            <a:ext cx="224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5250b0"/>
                </a:solidFill>
                <a:latin typeface="Times New Roman"/>
              </a:rPr>
              <a:t>Mecani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887480" y="1290600"/>
            <a:ext cx="1588680" cy="1986480"/>
            <a:chOff x="1887480" y="1290600"/>
            <a:chExt cx="1588680" cy="1986480"/>
          </a:xfrm>
        </p:grpSpPr>
        <p:sp>
          <p:nvSpPr>
            <p:cNvPr id="203" name=""/>
            <p:cNvSpPr/>
            <p:nvPr/>
          </p:nvSpPr>
          <p:spPr>
            <a:xfrm>
              <a:off x="2164320" y="1290600"/>
              <a:ext cx="11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9900"/>
                  </a:solidFill>
                  <a:latin typeface="Times New Roman"/>
                </a:rPr>
                <a:t>Nomb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65040" y="1687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9900"/>
                  </a:solidFill>
                  <a:latin typeface="Times New Roman"/>
                </a:rPr>
                <a:t>Ámbi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64680" y="2084400"/>
              <a:ext cx="131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9900"/>
                  </a:solidFill>
                  <a:latin typeface="Times New Roman"/>
                </a:rPr>
                <a:t>Visibil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63600" y="2481120"/>
              <a:ext cx="12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9900"/>
                  </a:solidFill>
                  <a:latin typeface="Times New Roman"/>
                </a:rPr>
                <a:t>Integr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87480" y="1306440"/>
              <a:ext cx="277920" cy="1968480"/>
            </a:xfrm>
            <a:custGeom>
              <a:avLst/>
              <a:gdLst>
                <a:gd name="textAreaLeft" fmla="*/ 177480 w 277920"/>
                <a:gd name="textAreaRight" fmla="*/ 277920 w 277920"/>
                <a:gd name="textAreaTop" fmla="*/ 51120 h 1968480"/>
                <a:gd name="textAreaBottom" fmla="*/ 1917360 h 19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10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65400" y="287820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9900"/>
                  </a:solidFill>
                  <a:latin typeface="Times New Roman"/>
                </a:rPr>
                <a:t>Ejec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887480" y="3537000"/>
            <a:ext cx="2515320" cy="2237040"/>
            <a:chOff x="1887480" y="3537000"/>
            <a:chExt cx="2515320" cy="2237040"/>
          </a:xfrm>
        </p:grpSpPr>
        <p:grpSp>
          <p:nvGrpSpPr>
            <p:cNvPr id="210" name=""/>
            <p:cNvGrpSpPr/>
            <p:nvPr/>
          </p:nvGrpSpPr>
          <p:grpSpPr>
            <a:xfrm>
              <a:off x="2161800" y="3537000"/>
              <a:ext cx="2241000" cy="2237040"/>
              <a:chOff x="2161800" y="3537000"/>
              <a:chExt cx="2241000" cy="2237040"/>
            </a:xfrm>
          </p:grpSpPr>
          <p:sp>
            <p:nvSpPr>
              <p:cNvPr id="211" name=""/>
              <p:cNvSpPr/>
              <p:nvPr/>
            </p:nvSpPr>
            <p:spPr>
              <a:xfrm>
                <a:off x="2163960" y="3537000"/>
                <a:ext cx="18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9900"/>
                    </a:solidFill>
                    <a:latin typeface="Times New Roman"/>
                  </a:rPr>
                  <a:t>Especificacion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163960" y="3886200"/>
                <a:ext cx="106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9900"/>
                    </a:solidFill>
                    <a:latin typeface="Times New Roman"/>
                  </a:rPr>
                  <a:t>Adorn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161800" y="4425840"/>
                <a:ext cx="224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9900"/>
                    </a:solidFill>
                    <a:latin typeface="Times New Roman"/>
                  </a:rPr>
                  <a:t>Divisiones comun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3960" y="5375160"/>
                <a:ext cx="141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9900"/>
                    </a:solidFill>
                    <a:latin typeface="Times New Roman"/>
                  </a:rPr>
                  <a:t>Extension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887480" y="3537000"/>
              <a:ext cx="277920" cy="2235240"/>
            </a:xfrm>
            <a:custGeom>
              <a:avLst/>
              <a:gdLst>
                <a:gd name="textAreaLeft" fmla="*/ 177480 w 277920"/>
                <a:gd name="textAreaRight" fmla="*/ 277920 w 277920"/>
                <a:gd name="textAreaTop" fmla="*/ 57960 h 2235240"/>
                <a:gd name="textAreaBottom" fmla="*/ 2177280 h 223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10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478400" y="4292640"/>
            <a:ext cx="1358280" cy="695520"/>
            <a:chOff x="4478400" y="4292640"/>
            <a:chExt cx="1358280" cy="695520"/>
          </a:xfrm>
        </p:grpSpPr>
        <p:grpSp>
          <p:nvGrpSpPr>
            <p:cNvPr id="217" name=""/>
            <p:cNvGrpSpPr/>
            <p:nvPr/>
          </p:nvGrpSpPr>
          <p:grpSpPr>
            <a:xfrm>
              <a:off x="4828320" y="4292640"/>
              <a:ext cx="1008360" cy="695520"/>
              <a:chOff x="4828320" y="4292640"/>
              <a:chExt cx="1008360" cy="695520"/>
            </a:xfrm>
          </p:grpSpPr>
          <p:sp>
            <p:nvSpPr>
              <p:cNvPr id="218" name=""/>
              <p:cNvSpPr/>
              <p:nvPr/>
            </p:nvSpPr>
            <p:spPr>
              <a:xfrm>
                <a:off x="4828320" y="4292640"/>
                <a:ext cx="89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990000"/>
                    </a:solidFill>
                    <a:latin typeface="Times New Roman"/>
                  </a:rPr>
                  <a:t>Ent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28320" y="4619880"/>
                <a:ext cx="10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990000"/>
                    </a:solidFill>
                    <a:latin typeface="Times New Roman"/>
                  </a:rPr>
                  <a:t>Instanc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4478400" y="4292640"/>
              <a:ext cx="231840" cy="654120"/>
            </a:xfrm>
            <a:custGeom>
              <a:avLst/>
              <a:gdLst>
                <a:gd name="textAreaLeft" fmla="*/ 148320 w 231840"/>
                <a:gd name="textAreaRight" fmla="*/ 232200 w 231840"/>
                <a:gd name="textAreaTop" fmla="*/ 16920 h 654120"/>
                <a:gd name="textAreaBottom" fmla="*/ 637200 h 65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10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618000" y="5118120"/>
            <a:ext cx="2064240" cy="1020600"/>
            <a:chOff x="3618000" y="5118120"/>
            <a:chExt cx="2064240" cy="1020600"/>
          </a:xfrm>
        </p:grpSpPr>
        <p:grpSp>
          <p:nvGrpSpPr>
            <p:cNvPr id="222" name=""/>
            <p:cNvGrpSpPr/>
            <p:nvPr/>
          </p:nvGrpSpPr>
          <p:grpSpPr>
            <a:xfrm>
              <a:off x="3966840" y="5118120"/>
              <a:ext cx="1715400" cy="1020600"/>
              <a:chOff x="3966840" y="5118120"/>
              <a:chExt cx="1715400" cy="1020600"/>
            </a:xfrm>
          </p:grpSpPr>
          <p:sp>
            <p:nvSpPr>
              <p:cNvPr id="223" name=""/>
              <p:cNvSpPr/>
              <p:nvPr/>
            </p:nvSpPr>
            <p:spPr>
              <a:xfrm>
                <a:off x="3967560" y="5118120"/>
                <a:ext cx="122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990000"/>
                    </a:solidFill>
                    <a:latin typeface="Times New Roman"/>
                  </a:rPr>
                  <a:t>Estereoti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66840" y="5446800"/>
                <a:ext cx="171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990000"/>
                    </a:solidFill>
                    <a:latin typeface="Times New Roman"/>
                  </a:rPr>
                  <a:t>Valor etiquetad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67560" y="5770440"/>
                <a:ext cx="122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990000"/>
                    </a:solidFill>
                    <a:latin typeface="Times New Roman"/>
                  </a:rPr>
                  <a:t>Restric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3618000" y="5159520"/>
              <a:ext cx="231840" cy="930240"/>
            </a:xfrm>
            <a:custGeom>
              <a:avLst/>
              <a:gdLst>
                <a:gd name="textAreaLeft" fmla="*/ 148320 w 231840"/>
                <a:gd name="textAreaRight" fmla="*/ 232200 w 231840"/>
                <a:gd name="textAreaTop" fmla="*/ 24120 h 930240"/>
                <a:gd name="textAreaBottom" fmla="*/ 906120 h 93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10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181480" y="1325520"/>
            <a:ext cx="3899160" cy="5326200"/>
            <a:chOff x="5181480" y="1325520"/>
            <a:chExt cx="3899160" cy="5326200"/>
          </a:xfrm>
        </p:grpSpPr>
        <p:grpSp>
          <p:nvGrpSpPr>
            <p:cNvPr id="228" name=""/>
            <p:cNvGrpSpPr/>
            <p:nvPr/>
          </p:nvGrpSpPr>
          <p:grpSpPr>
            <a:xfrm>
              <a:off x="5181480" y="1325520"/>
              <a:ext cx="1295640" cy="1374480"/>
              <a:chOff x="5181480" y="1325520"/>
              <a:chExt cx="1295640" cy="1374480"/>
            </a:xfrm>
          </p:grpSpPr>
          <p:sp>
            <p:nvSpPr>
              <p:cNvPr id="229" name=""/>
              <p:cNvSpPr/>
              <p:nvPr/>
            </p:nvSpPr>
            <p:spPr>
              <a:xfrm>
                <a:off x="5181480" y="1325520"/>
                <a:ext cx="1295640" cy="28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990000"/>
                    </a:solidFill>
                    <a:latin typeface="Times New Roman"/>
                  </a:rPr>
                  <a:t>Clie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81480" y="1612800"/>
                <a:ext cx="1295640" cy="682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990000"/>
                    </a:solidFill>
                    <a:latin typeface="Times New Roman"/>
                  </a:rPr>
                  <a:t>nomb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990000"/>
                    </a:solidFill>
                    <a:latin typeface="Times New Roman"/>
                  </a:rPr>
                  <a:t>direc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81480" y="2295360"/>
                <a:ext cx="1295640" cy="40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990000"/>
                    </a:solidFill>
                    <a:latin typeface="Times New Roman"/>
                  </a:rPr>
                  <a:t>preferencial(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858640" y="2865240"/>
              <a:ext cx="1050840" cy="705960"/>
              <a:chOff x="5858640" y="2865240"/>
              <a:chExt cx="1050840" cy="705960"/>
            </a:xfrm>
          </p:grpSpPr>
          <p:sp>
            <p:nvSpPr>
              <p:cNvPr id="233" name=""/>
              <p:cNvSpPr/>
              <p:nvPr/>
            </p:nvSpPr>
            <p:spPr>
              <a:xfrm>
                <a:off x="6189840" y="2865240"/>
                <a:ext cx="380880" cy="368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858640" y="323388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990000"/>
                    </a:solidFill>
                    <a:latin typeface="Times New Roman"/>
                  </a:rPr>
                  <a:t>IUnknow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842080" y="3859200"/>
              <a:ext cx="1092240" cy="705960"/>
              <a:chOff x="5842080" y="3859200"/>
              <a:chExt cx="1092240" cy="705960"/>
            </a:xfrm>
          </p:grpSpPr>
          <p:sp>
            <p:nvSpPr>
              <p:cNvPr id="236" name=""/>
              <p:cNvSpPr/>
              <p:nvPr/>
            </p:nvSpPr>
            <p:spPr>
              <a:xfrm>
                <a:off x="6189840" y="3859200"/>
                <a:ext cx="380880" cy="368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42080" y="4227840"/>
                <a:ext cx="109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990000"/>
                    </a:solidFill>
                    <a:latin typeface="Times New Roman"/>
                  </a:rPr>
                  <a:t>IOrtografí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6570720" y="3068640"/>
              <a:ext cx="83340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94480" y="401796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38960" y="1706400"/>
              <a:ext cx="151452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Elena:Cl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477120" y="1778040"/>
              <a:ext cx="861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08760" y="4905360"/>
              <a:ext cx="1292040" cy="71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990000"/>
                  </a:solidFill>
                  <a:latin typeface="Times New Roman"/>
                </a:rPr>
                <a:t>ColaEven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990000"/>
                  </a:solidFill>
                  <a:latin typeface="Times New Roman"/>
                </a:rPr>
                <a:t>{vers = 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990000"/>
                  </a:solidFill>
                  <a:latin typeface="Times New Roman"/>
                </a:rPr>
                <a:t>autor=eps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08760" y="5618160"/>
              <a:ext cx="1292040" cy="21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08760" y="5829120"/>
              <a:ext cx="1292040" cy="82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990000"/>
                  </a:solidFill>
                  <a:latin typeface="Times New Roman"/>
                </a:rPr>
                <a:t>añadir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990000"/>
                  </a:solidFill>
                  <a:latin typeface="Times New Roman"/>
                </a:rPr>
                <a:t>quitar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990000"/>
                  </a:solidFill>
                  <a:latin typeface="Times New Roman"/>
                </a:rPr>
                <a:t>vaciar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51880" y="4683240"/>
              <a:ext cx="132876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990000"/>
                  </a:solidFill>
                  <a:latin typeface="Times New Roman"/>
                </a:rPr>
                <a:t>«exception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990000"/>
                  </a:solidFill>
                  <a:latin typeface="Times New Roman"/>
                </a:rPr>
                <a:t>Over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300800" y="5203800"/>
              <a:ext cx="45108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6716520" y="6043680"/>
              <a:ext cx="1035000" cy="3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93920" y="6264360"/>
              <a:ext cx="113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990000"/>
                  </a:solidFill>
                  <a:latin typeface="Times New Roman"/>
                </a:rPr>
                <a:t>{ordenado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7137360" y="3274920"/>
              <a:ext cx="1716120" cy="820800"/>
              <a:chOff x="7137360" y="3274920"/>
              <a:chExt cx="1716120" cy="820800"/>
            </a:xfrm>
          </p:grpSpPr>
          <p:sp>
            <p:nvSpPr>
              <p:cNvPr id="250" name=""/>
              <p:cNvSpPr/>
              <p:nvPr/>
            </p:nvSpPr>
            <p:spPr>
              <a:xfrm>
                <a:off x="7137360" y="3459240"/>
                <a:ext cx="457200" cy="11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137360" y="3800520"/>
                <a:ext cx="457200" cy="11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04120" y="3274920"/>
                <a:ext cx="1449360" cy="820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990000"/>
                    </a:solidFill>
                    <a:latin typeface="Times New Roman"/>
                  </a:rPr>
                  <a:t>asistOrtog.dl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7338960" y="2295360"/>
              <a:ext cx="1514520" cy="3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:Cl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AEC7-7AC5-4891-A9DF-ADA2C8B683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Modelado Estructural: Modelo de Objet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31400" y="1558800"/>
            <a:ext cx="7721640" cy="45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ribe estructura de los objetos de un sistem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584b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dentidad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584b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laciones con otros objeto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584b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tributos y opera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el más característico del Diseño O.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ráficamen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584b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agramas de cl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584b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agramas de instanc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992-5572-4E26-9496-2D662F302F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G</cp:lastModifiedBy>
  <dcterms:modified xsi:type="dcterms:W3CDTF">2004-11-12T11:47:35Z</dcterms:modified>
  <cp:revision>53</cp:revision>
  <dc:subject/>
  <dc:title>Presentación de PowerPoint</dc:title>
</cp:coreProperties>
</file>