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EAD5-5AD1-4D84-85B3-9AA27F992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82501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69520" y="3885840"/>
            <a:ext cx="82501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7A9F-92D6-4A78-8C4E-595D22569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40258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97000" y="1218960"/>
            <a:ext cx="40258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520" y="3885840"/>
            <a:ext cx="40258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7000" y="3885840"/>
            <a:ext cx="40258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36D7-626F-4599-85B0-C9DF2CAC1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26564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9160" y="1218960"/>
            <a:ext cx="26564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48800" y="1218960"/>
            <a:ext cx="26564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69520" y="3885840"/>
            <a:ext cx="26564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9160" y="3885840"/>
            <a:ext cx="26564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48800" y="3885840"/>
            <a:ext cx="26564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F5A4-FA84-4666-9A16-06D9DE46E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9520" y="1218960"/>
            <a:ext cx="825012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8250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40258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7000" y="1218960"/>
            <a:ext cx="40258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66640" y="-360"/>
            <a:ext cx="7081920" cy="42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40258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7000" y="1218960"/>
            <a:ext cx="40258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9520" y="3885840"/>
            <a:ext cx="40258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69520" y="1218960"/>
            <a:ext cx="825012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F766-5303-40E7-92A1-3B85F3672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40258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7000" y="1218960"/>
            <a:ext cx="40258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7000" y="3885840"/>
            <a:ext cx="40258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40258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7000" y="1218960"/>
            <a:ext cx="40258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69520" y="3885840"/>
            <a:ext cx="82501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82501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9520" y="3885840"/>
            <a:ext cx="82501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40258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7000" y="1218960"/>
            <a:ext cx="40258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520" y="3885840"/>
            <a:ext cx="40258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7000" y="3885840"/>
            <a:ext cx="40258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26564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59160" y="1218960"/>
            <a:ext cx="26564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48800" y="1218960"/>
            <a:ext cx="26564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69520" y="3885840"/>
            <a:ext cx="26564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59160" y="3885840"/>
            <a:ext cx="26564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48800" y="3885840"/>
            <a:ext cx="26564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8250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75D3-7896-4588-B645-6746CCEF8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40258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7000" y="1218960"/>
            <a:ext cx="40258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9D00-6D56-4001-95A6-8E61D5EC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9BA6-E475-415B-86ED-0890042B3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66640" y="-360"/>
            <a:ext cx="7081920" cy="42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CA7A-04A0-4956-BCE1-AE99394BB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40258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7000" y="1218960"/>
            <a:ext cx="40258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69520" y="3885840"/>
            <a:ext cx="40258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64A8-5F18-46D8-BBC5-D8DE0C2A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40258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7000" y="1218960"/>
            <a:ext cx="40258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97000" y="3885840"/>
            <a:ext cx="40258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7F1F-C08B-4DEF-AA51-66FA6910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40258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97000" y="1218960"/>
            <a:ext cx="40258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69520" y="3885840"/>
            <a:ext cx="82501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1095-4824-432A-A73A-C01E301D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993600"/>
            <a:ext cx="554040" cy="586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500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965160"/>
            <a:ext cx="9144000" cy="63720"/>
          </a:xfrm>
          <a:prstGeom prst="rect">
            <a:avLst/>
          </a:prstGeom>
          <a:gradFill rotWithShape="0">
            <a:gsLst>
              <a:gs pos="0">
                <a:srgbClr val="a22e00"/>
              </a:gs>
              <a:gs pos="100000">
                <a:srgbClr val="d3979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pperplate"/>
              </a:rPr>
              <a:t>Click to edit the title text format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69520" y="1218960"/>
            <a:ext cx="8250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191120" y="0"/>
            <a:ext cx="4952880" cy="38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50021"/>
            </a:outerShdw>
          </a:effectLst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af999b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f999b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5486400" y="6477120"/>
            <a:ext cx="2666880" cy="38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50021"/>
            </a:outerShdw>
          </a:effectLst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af999b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af999b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3280" y="6477120"/>
            <a:ext cx="990720" cy="38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50021"/>
            </a:outerShdw>
          </a:effectLst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af999b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EFCB8-964F-4826-856C-943AD5E6FAC8}" type="slidenum">
              <a:rPr b="1" lang="es-ES" sz="1200" spc="-1" strike="noStrike">
                <a:solidFill>
                  <a:srgbClr val="af999b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0" y="4680"/>
            <a:ext cx="546120" cy="5191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68686"/>
            </a:outerShdw>
          </a:effectLst>
        </p:spPr>
      </p:pic>
      <p:sp>
        <p:nvSpPr>
          <p:cNvPr id="8" name=""/>
          <p:cNvSpPr/>
          <p:nvPr/>
        </p:nvSpPr>
        <p:spPr>
          <a:xfrm>
            <a:off x="622440" y="6477120"/>
            <a:ext cx="4800600" cy="38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5002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af999b"/>
                </a:solidFill>
                <a:latin typeface="Century Gothic"/>
              </a:rPr>
              <a:t>Departamento de Lenguajes y Ciencias de la Computa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af999b"/>
                </a:solidFill>
                <a:latin typeface="Century Gothic"/>
              </a:rPr>
              <a:t>Universidad de Málag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0" y="6332400"/>
            <a:ext cx="554040" cy="525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703600"/>
            <a:ext cx="1063800" cy="4152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500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990360"/>
            <a:ext cx="762012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pperplate"/>
              </a:rPr>
              <a:t>Click to edit the title text format</a:t>
            </a:r>
            <a:endParaRPr b="1" lang="en-US" sz="36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124080"/>
            <a:ext cx="4724280" cy="152640"/>
          </a:xfrm>
          <a:prstGeom prst="rect">
            <a:avLst/>
          </a:prstGeom>
          <a:gradFill rotWithShape="0">
            <a:gsLst>
              <a:gs pos="0">
                <a:srgbClr val="4c000f"/>
              </a:gs>
              <a:gs pos="50000">
                <a:srgbClr val="a50021"/>
              </a:gs>
              <a:gs pos="100000">
                <a:srgbClr val="4c000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93600" cy="946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68686"/>
            </a:outerShdw>
          </a:effectLst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5937120"/>
            <a:ext cx="1023840" cy="9208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a5002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a50021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6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6.wmf"/><Relationship Id="rId9" Type="http://schemas.openxmlformats.org/officeDocument/2006/relationships/image" Target="../media/image4.wmf"/><Relationship Id="rId10" Type="http://schemas.openxmlformats.org/officeDocument/2006/relationships/image" Target="../media/image7.wmf"/><Relationship Id="rId11" Type="http://schemas.openxmlformats.org/officeDocument/2006/relationships/image" Target="../media/image8.wmf"/><Relationship Id="rId12" Type="http://schemas.openxmlformats.org/officeDocument/2006/relationships/image" Target="../media/image7.wmf"/><Relationship Id="rId13" Type="http://schemas.openxmlformats.org/officeDocument/2006/relationships/image" Target="../media/image7.wmf"/><Relationship Id="rId14" Type="http://schemas.openxmlformats.org/officeDocument/2006/relationships/image" Target="../media/image9.wmf"/><Relationship Id="rId15" Type="http://schemas.openxmlformats.org/officeDocument/2006/relationships/image" Target="../media/image7.wmf"/><Relationship Id="rId16" Type="http://schemas.openxmlformats.org/officeDocument/2006/relationships/image" Target="../media/image7.wmf"/><Relationship Id="rId17" Type="http://schemas.openxmlformats.org/officeDocument/2006/relationships/image" Target="../media/image10.wmf"/><Relationship Id="rId18" Type="http://schemas.openxmlformats.org/officeDocument/2006/relationships/image" Target="../media/image7.wmf"/><Relationship Id="rId19" Type="http://schemas.openxmlformats.org/officeDocument/2006/relationships/image" Target="../media/image7.wmf"/><Relationship Id="rId20" Type="http://schemas.openxmlformats.org/officeDocument/2006/relationships/image" Target="../media/image11.wmf"/><Relationship Id="rId21" Type="http://schemas.openxmlformats.org/officeDocument/2006/relationships/image" Target="../media/image7.wmf"/><Relationship Id="rId22" Type="http://schemas.openxmlformats.org/officeDocument/2006/relationships/image" Target="../media/image7.wmf"/><Relationship Id="rId23" Type="http://schemas.openxmlformats.org/officeDocument/2006/relationships/image" Target="../media/image11.wmf"/><Relationship Id="rId24" Type="http://schemas.openxmlformats.org/officeDocument/2006/relationships/image" Target="../media/image7.wmf"/><Relationship Id="rId25" Type="http://schemas.openxmlformats.org/officeDocument/2006/relationships/image" Target="../media/image12.wmf"/><Relationship Id="rId26" Type="http://schemas.openxmlformats.org/officeDocument/2006/relationships/image" Target="../media/image13.wmf"/><Relationship Id="rId27" Type="http://schemas.openxmlformats.org/officeDocument/2006/relationships/image" Target="../media/image12.wmf"/><Relationship Id="rId28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3520" y="990360"/>
            <a:ext cx="762012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3300"/>
                </a:solidFill>
                <a:latin typeface="Arial"/>
              </a:rPr>
              <a:t>Tema 3. UML. </a:t>
            </a:r>
            <a:br>
              <a:rPr sz="3600"/>
            </a:br>
            <a:r>
              <a:rPr b="1" lang="es-ES" sz="3600" spc="-1" strike="noStrike">
                <a:solidFill>
                  <a:srgbClr val="cc3300"/>
                </a:solidFill>
                <a:latin typeface="Arial"/>
              </a:rPr>
              <a:t>Modelo Arquitectónico.</a:t>
            </a:r>
            <a:endParaRPr b="1" lang="en-US" sz="36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47920" y="42667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Departamento de Lenguajes y Ciencias de la Compu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E.T.S. de Ingenieros en Informá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Universidad de Mála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pperplate"/>
              </a:rPr>
              <a:t>Tipos de Componentes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8250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Componentes de desplieg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os necesarios y suficientes para formar un sistema ejecut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jecutables y bibliotecas dinámicas (p.ej. DLL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Componentes producto del trabaj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ductos finales del proceso de desarroll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rchivos de código fuente y archivos de datos a partir de los cuales se crean los componentes de despliegu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Componentes de ejecució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 crean como consecuencia de un sistema en ejecució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Un proceso que se crea a partir de un ejecuta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2216-9CD0-4E4B-8160-9B1089D09F7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pperplate"/>
              </a:rPr>
              <a:t>Tipos de Componentes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8250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odos los mecanismos de extensibilidad se pueden aplicar a los componentes (incluidos los estereotipo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UML define cinco estereotipos estánd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executable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: componente que se puede ejecutar en un nod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library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: biblioteca de objetos dinámica o estátic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table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: componente que representa una tabla de una base de dat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file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: documento con código fuente o dat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document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: componente que representa un document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ADC2-A702-499E-8E16-1D79FAA94FE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Componentes en Rational Rose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9520" y="1219320"/>
            <a:ext cx="8250120" cy="173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ational Rose no utiliza los anteriores componentes estándar, sino el siguiente conjunto propio de estereotip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371600" y="3200400"/>
            <a:ext cx="1726200" cy="1149480"/>
            <a:chOff x="1371600" y="3200400"/>
            <a:chExt cx="1726200" cy="1149480"/>
          </a:xfrm>
        </p:grpSpPr>
        <p:sp>
          <p:nvSpPr>
            <p:cNvPr id="156" name=""/>
            <p:cNvSpPr/>
            <p:nvPr/>
          </p:nvSpPr>
          <p:spPr>
            <a:xfrm>
              <a:off x="1608120" y="3409920"/>
              <a:ext cx="617400" cy="9399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371600" y="3503520"/>
              <a:ext cx="474480" cy="152640"/>
            </a:xfrm>
            <a:prstGeom prst="ellipse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371600" y="3798720"/>
              <a:ext cx="474480" cy="1620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371600" y="4103640"/>
              <a:ext cx="474480" cy="15084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99120" y="3200400"/>
              <a:ext cx="1498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Espec. Paque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3429000" y="4572000"/>
            <a:ext cx="1655640" cy="1149480"/>
            <a:chOff x="3429000" y="4572000"/>
            <a:chExt cx="1655640" cy="1149480"/>
          </a:xfrm>
        </p:grpSpPr>
        <p:sp>
          <p:nvSpPr>
            <p:cNvPr id="162" name=""/>
            <p:cNvSpPr/>
            <p:nvPr/>
          </p:nvSpPr>
          <p:spPr>
            <a:xfrm>
              <a:off x="3429000" y="4781520"/>
              <a:ext cx="627120" cy="9399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429000" y="4923000"/>
              <a:ext cx="627120" cy="79848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430440" y="4572000"/>
              <a:ext cx="165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Cuerpo Subprog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7399440" y="3186000"/>
            <a:ext cx="1433160" cy="1244520"/>
            <a:chOff x="7399440" y="3186000"/>
            <a:chExt cx="1433160" cy="1244520"/>
          </a:xfrm>
        </p:grpSpPr>
        <p:sp>
          <p:nvSpPr>
            <p:cNvPr id="166" name=""/>
            <p:cNvSpPr/>
            <p:nvPr/>
          </p:nvSpPr>
          <p:spPr>
            <a:xfrm>
              <a:off x="7399440" y="3490920"/>
              <a:ext cx="627120" cy="9396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404120" y="3492360"/>
              <a:ext cx="627120" cy="14148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400880" y="3186000"/>
              <a:ext cx="1431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Prog. Princip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3438360" y="3476520"/>
            <a:ext cx="627120" cy="939960"/>
          </a:xfrm>
          <a:prstGeom prst="rect">
            <a:avLst/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38360" y="3618000"/>
            <a:ext cx="627120" cy="144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430080" y="3200400"/>
            <a:ext cx="1599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Espec. Subpro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1295280" y="4572000"/>
            <a:ext cx="1792800" cy="1218960"/>
            <a:chOff x="1295280" y="4572000"/>
            <a:chExt cx="1792800" cy="1218960"/>
          </a:xfrm>
        </p:grpSpPr>
        <p:sp>
          <p:nvSpPr>
            <p:cNvPr id="173" name=""/>
            <p:cNvSpPr/>
            <p:nvPr/>
          </p:nvSpPr>
          <p:spPr>
            <a:xfrm>
              <a:off x="1543320" y="4794120"/>
              <a:ext cx="648720" cy="99684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295280" y="4893480"/>
              <a:ext cx="498600" cy="161280"/>
            </a:xfrm>
            <a:prstGeom prst="ellipse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295280" y="5206320"/>
              <a:ext cx="498600" cy="17172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295280" y="5529960"/>
              <a:ext cx="498600" cy="15984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534320" y="4572000"/>
              <a:ext cx="1553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Cuerpo Paque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021280" y="3240000"/>
            <a:ext cx="2082960" cy="1093680"/>
            <a:chOff x="5021280" y="3240000"/>
            <a:chExt cx="2082960" cy="1093680"/>
          </a:xfrm>
        </p:grpSpPr>
        <p:sp>
          <p:nvSpPr>
            <p:cNvPr id="179" name=""/>
            <p:cNvSpPr/>
            <p:nvPr/>
          </p:nvSpPr>
          <p:spPr>
            <a:xfrm>
              <a:off x="5238720" y="3569040"/>
              <a:ext cx="997920" cy="764640"/>
            </a:xfrm>
            <a:custGeom>
              <a:avLst/>
              <a:gdLst/>
              <a:ahLst/>
              <a:rect l="l" t="t" r="r" b="b"/>
              <a:pathLst>
                <a:path w="436" h="293">
                  <a:moveTo>
                    <a:pt x="155" y="0"/>
                  </a:moveTo>
                  <a:lnTo>
                    <a:pt x="436" y="0"/>
                  </a:lnTo>
                  <a:lnTo>
                    <a:pt x="275" y="293"/>
                  </a:lnTo>
                  <a:lnTo>
                    <a:pt x="0" y="293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238720" y="3678480"/>
              <a:ext cx="437400" cy="1224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28920" y="3895200"/>
              <a:ext cx="436680" cy="1245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021280" y="4114080"/>
              <a:ext cx="437400" cy="12528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593320" y="3240000"/>
              <a:ext cx="1510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Espec. Proces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4935600" y="4545000"/>
            <a:ext cx="2073960" cy="1218600"/>
            <a:chOff x="4935600" y="4545000"/>
            <a:chExt cx="2073960" cy="1218600"/>
          </a:xfrm>
        </p:grpSpPr>
        <p:sp>
          <p:nvSpPr>
            <p:cNvPr id="185" name=""/>
            <p:cNvSpPr/>
            <p:nvPr/>
          </p:nvSpPr>
          <p:spPr>
            <a:xfrm>
              <a:off x="5128200" y="4911120"/>
              <a:ext cx="884880" cy="852480"/>
            </a:xfrm>
            <a:custGeom>
              <a:avLst/>
              <a:gdLst/>
              <a:ahLst/>
              <a:rect l="l" t="t" r="r" b="b"/>
              <a:pathLst>
                <a:path w="436" h="293">
                  <a:moveTo>
                    <a:pt x="155" y="0"/>
                  </a:moveTo>
                  <a:lnTo>
                    <a:pt x="436" y="0"/>
                  </a:lnTo>
                  <a:lnTo>
                    <a:pt x="275" y="293"/>
                  </a:lnTo>
                  <a:lnTo>
                    <a:pt x="0" y="293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128200" y="5033160"/>
              <a:ext cx="387720" cy="1371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31000" y="5274720"/>
              <a:ext cx="387360" cy="13968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35600" y="5519520"/>
              <a:ext cx="387720" cy="13968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443560" y="4545000"/>
              <a:ext cx="1566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Cuerpo Proces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EF3A-FE4A-4836-BA6D-D3153BAE4AC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pperplate"/>
              </a:rPr>
              <a:t>Modelado de código fuente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2209680" y="1295280"/>
            <a:ext cx="5241600" cy="4921200"/>
            <a:chOff x="2209680" y="1295280"/>
            <a:chExt cx="5241600" cy="4921200"/>
          </a:xfrm>
        </p:grpSpPr>
        <p:sp>
          <p:nvSpPr>
            <p:cNvPr id="192" name=""/>
            <p:cNvSpPr/>
            <p:nvPr/>
          </p:nvSpPr>
          <p:spPr>
            <a:xfrm>
              <a:off x="2209680" y="1295280"/>
              <a:ext cx="5241600" cy="492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979360" y="1731960"/>
              <a:ext cx="635040" cy="93816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979360" y="1873080"/>
              <a:ext cx="625680" cy="18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976120" y="1531800"/>
              <a:ext cx="1271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signal.h {ver=3.5}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536720" y="1731960"/>
              <a:ext cx="635040" cy="93816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36720" y="1873080"/>
              <a:ext cx="625680" cy="18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33480" y="1531800"/>
              <a:ext cx="1271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signal.h {ver=4.0}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89320" y="1731960"/>
              <a:ext cx="636480" cy="93816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989320" y="1873080"/>
              <a:ext cx="627120" cy="18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986080" y="1531800"/>
              <a:ext cx="1271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signal.h {ver=4.1}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05000" y="3429000"/>
              <a:ext cx="625320" cy="93816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05000" y="3571920"/>
              <a:ext cx="625320" cy="79524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005000" y="3228840"/>
              <a:ext cx="738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interp.cp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457600" y="3381120"/>
              <a:ext cx="636480" cy="93852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457600" y="3524040"/>
              <a:ext cx="636480" cy="79560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457240" y="3182760"/>
              <a:ext cx="756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signal.cp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88920" y="5030640"/>
              <a:ext cx="627120" cy="93996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788920" y="5173560"/>
              <a:ext cx="617400" cy="14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788920" y="4832280"/>
              <a:ext cx="331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irq.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267160" y="4984560"/>
              <a:ext cx="636480" cy="93816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267160" y="5126040"/>
              <a:ext cx="636480" cy="79668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265000" y="4784760"/>
              <a:ext cx="791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device.cp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3605040" y="2195280"/>
              <a:ext cx="922320" cy="1800"/>
            </a:xfrm>
            <a:prstGeom prst="line">
              <a:avLst/>
            </a:prstGeom>
            <a:ln w="0">
              <a:solidFill>
                <a:srgbClr val="990033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605040" y="2195280"/>
              <a:ext cx="104760" cy="4788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3605040" y="2158560"/>
              <a:ext cx="104760" cy="3636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447640" y="2877840"/>
              <a:ext cx="892080" cy="370080"/>
            </a:xfrm>
            <a:custGeom>
              <a:avLst/>
              <a:gdLst/>
              <a:ahLst/>
              <a:rect l="l" t="t" r="r" b="b"/>
              <a:pathLst>
                <a:path w="562" h="233">
                  <a:moveTo>
                    <a:pt x="0" y="0"/>
                  </a:moveTo>
                  <a:lnTo>
                    <a:pt x="496" y="0"/>
                  </a:lnTo>
                  <a:lnTo>
                    <a:pt x="562" y="66"/>
                  </a:lnTo>
                  <a:lnTo>
                    <a:pt x="562" y="233"/>
                  </a:lnTo>
                  <a:lnTo>
                    <a:pt x="0" y="23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447640" y="2877840"/>
              <a:ext cx="892080" cy="370080"/>
            </a:xfrm>
            <a:custGeom>
              <a:avLst/>
              <a:gdLst/>
              <a:ahLst/>
              <a:rect l="l" t="t" r="r" b="b"/>
              <a:pathLst>
                <a:path w="94" h="39">
                  <a:moveTo>
                    <a:pt x="0" y="0"/>
                  </a:moveTo>
                  <a:lnTo>
                    <a:pt x="83" y="0"/>
                  </a:lnTo>
                  <a:lnTo>
                    <a:pt x="94" y="11"/>
                  </a:lnTo>
                  <a:lnTo>
                    <a:pt x="94" y="39"/>
                  </a:lnTo>
                  <a:lnTo>
                    <a:pt x="0" y="3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34960" y="2877840"/>
              <a:ext cx="104760" cy="10512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lnTo>
                    <a:pt x="0" y="11"/>
                  </a:lnTo>
                  <a:lnTo>
                    <a:pt x="11" y="11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83280" y="2896920"/>
              <a:ext cx="466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par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3159000" y="2195280"/>
              <a:ext cx="901440" cy="674640"/>
            </a:xfrm>
            <a:prstGeom prst="line">
              <a:avLst/>
            </a:prstGeom>
            <a:ln w="0">
              <a:solidFill>
                <a:srgbClr val="990033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5152680" y="2195280"/>
              <a:ext cx="836640" cy="1800"/>
            </a:xfrm>
            <a:prstGeom prst="line">
              <a:avLst/>
            </a:prstGeom>
            <a:ln w="0">
              <a:solidFill>
                <a:srgbClr val="990033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152680" y="2195280"/>
              <a:ext cx="114480" cy="4788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5152680" y="2158560"/>
              <a:ext cx="114480" cy="3636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3358800" y="2194920"/>
              <a:ext cx="2212920" cy="730440"/>
            </a:xfrm>
            <a:prstGeom prst="line">
              <a:avLst/>
            </a:prstGeom>
            <a:ln w="0">
              <a:solidFill>
                <a:srgbClr val="990033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4620960" y="2462040"/>
              <a:ext cx="1368360" cy="1155600"/>
            </a:xfrm>
            <a:prstGeom prst="line">
              <a:avLst/>
            </a:prstGeom>
            <a:ln w="0">
              <a:solidFill>
                <a:srgbClr val="990033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5931720" y="2462040"/>
              <a:ext cx="57240" cy="10332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5874840" y="2462040"/>
              <a:ext cx="114120" cy="3816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5979960" y="2660040"/>
              <a:ext cx="161640" cy="513000"/>
            </a:xfrm>
            <a:prstGeom prst="line">
              <a:avLst/>
            </a:prstGeom>
            <a:ln w="0">
              <a:solidFill>
                <a:srgbClr val="990033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141600" y="2660400"/>
              <a:ext cx="7920" cy="1238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6065280" y="2660400"/>
              <a:ext cx="75960" cy="954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 flipV="1">
              <a:off x="4620960" y="4290840"/>
              <a:ext cx="636480" cy="768240"/>
            </a:xfrm>
            <a:prstGeom prst="line">
              <a:avLst/>
            </a:prstGeom>
            <a:ln w="0">
              <a:solidFill>
                <a:srgbClr val="990033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620960" y="4290840"/>
              <a:ext cx="104760" cy="4752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20960" y="4290840"/>
              <a:ext cx="38160" cy="11448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3406320" y="4300560"/>
              <a:ext cx="588960" cy="777600"/>
            </a:xfrm>
            <a:prstGeom prst="line">
              <a:avLst/>
            </a:prstGeom>
            <a:ln w="0">
              <a:solidFill>
                <a:srgbClr val="990033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3406320" y="5011200"/>
              <a:ext cx="105120" cy="666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3406320" y="4965120"/>
              <a:ext cx="28800" cy="11268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F9DF-42AA-4F9C-8209-DE43CE84091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Contenido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8250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odelado estructur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odelado del comportamient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odelado Arquitectónic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250b0"/>
                </a:solidFill>
                <a:latin typeface="Arial"/>
              </a:rPr>
              <a:t>Componentes y diagramas de componen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Diagramas de desplieg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250b0"/>
                </a:solidFill>
                <a:latin typeface="Arial"/>
              </a:rPr>
              <a:t>Patrones y marcos de trabaj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CE04-EA14-43CF-8805-CAF69B41514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pperplate"/>
              </a:rPr>
              <a:t>Despliegue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8250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s nodos al igual que los componentes son un elemento fundamental en el modelado físico de un sistem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d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 un elemento físico que existe en tiempo de ejecución y representa un recurso computacion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n nodo representa un procesador o un dispositivo sobre el que se pueden desplegar los componen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ML proporciona una representación gráfica de un nodo genérico que se puede particularizar para representar procesadores y dispositivos específic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65D8-42CB-435F-8913-F01C8C29CF5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pperplate"/>
              </a:rPr>
              <a:t>Diagramas de Despliegue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69520" y="1219320"/>
            <a:ext cx="8250120" cy="32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 diagrama de despliegue muestra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s distintos dispositivos y su interconexió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asignación de componentes (procesos, ficheros,...) a dispositiv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be existir un solo diagrama de despliegue por model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2971800" y="3962520"/>
            <a:ext cx="3809520" cy="2361600"/>
            <a:chOff x="2971800" y="3962520"/>
            <a:chExt cx="3809520" cy="2361600"/>
          </a:xfrm>
        </p:grpSpPr>
        <p:sp>
          <p:nvSpPr>
            <p:cNvPr id="245" name=""/>
            <p:cNvSpPr/>
            <p:nvPr/>
          </p:nvSpPr>
          <p:spPr>
            <a:xfrm>
              <a:off x="2971800" y="3962520"/>
              <a:ext cx="3809520" cy="236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161160" y="4181760"/>
              <a:ext cx="883800" cy="77184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161160" y="4082760"/>
              <a:ext cx="1083600" cy="98640"/>
            </a:xfrm>
            <a:custGeom>
              <a:avLst/>
              <a:gdLst/>
              <a:ahLst/>
              <a:rect l="l" t="t" r="r" b="b"/>
              <a:pathLst>
                <a:path w="651" h="59">
                  <a:moveTo>
                    <a:pt x="0" y="59"/>
                  </a:moveTo>
                  <a:lnTo>
                    <a:pt x="167" y="0"/>
                  </a:lnTo>
                  <a:lnTo>
                    <a:pt x="651" y="0"/>
                  </a:lnTo>
                  <a:lnTo>
                    <a:pt x="531" y="59"/>
                  </a:lnTo>
                  <a:lnTo>
                    <a:pt x="0" y="59"/>
                  </a:lnTo>
                  <a:close/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044960" y="4082760"/>
              <a:ext cx="199440" cy="880560"/>
            </a:xfrm>
            <a:custGeom>
              <a:avLst/>
              <a:gdLst/>
              <a:ahLst/>
              <a:rect l="l" t="t" r="r" b="b"/>
              <a:pathLst>
                <a:path w="120" h="525">
                  <a:moveTo>
                    <a:pt x="0" y="59"/>
                  </a:moveTo>
                  <a:lnTo>
                    <a:pt x="120" y="0"/>
                  </a:lnTo>
                  <a:lnTo>
                    <a:pt x="120" y="435"/>
                  </a:lnTo>
                  <a:lnTo>
                    <a:pt x="0" y="525"/>
                  </a:lnTo>
                  <a:lnTo>
                    <a:pt x="0" y="59"/>
                  </a:lnTo>
                  <a:close/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209040" y="4192200"/>
              <a:ext cx="801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rocesador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98280" y="4192200"/>
              <a:ext cx="885240" cy="76140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498280" y="4093200"/>
              <a:ext cx="1083240" cy="98640"/>
            </a:xfrm>
            <a:custGeom>
              <a:avLst/>
              <a:gdLst/>
              <a:ahLst/>
              <a:rect l="l" t="t" r="r" b="b"/>
              <a:pathLst>
                <a:path w="651" h="59">
                  <a:moveTo>
                    <a:pt x="0" y="59"/>
                  </a:moveTo>
                  <a:lnTo>
                    <a:pt x="173" y="0"/>
                  </a:lnTo>
                  <a:lnTo>
                    <a:pt x="651" y="0"/>
                  </a:lnTo>
                  <a:lnTo>
                    <a:pt x="532" y="59"/>
                  </a:lnTo>
                  <a:lnTo>
                    <a:pt x="0" y="59"/>
                  </a:lnTo>
                  <a:close/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383520" y="4093200"/>
              <a:ext cx="197640" cy="860400"/>
            </a:xfrm>
            <a:custGeom>
              <a:avLst/>
              <a:gdLst/>
              <a:ahLst/>
              <a:rect l="l" t="t" r="r" b="b"/>
              <a:pathLst>
                <a:path w="119" h="513">
                  <a:moveTo>
                    <a:pt x="0" y="59"/>
                  </a:moveTo>
                  <a:lnTo>
                    <a:pt x="119" y="0"/>
                  </a:lnTo>
                  <a:lnTo>
                    <a:pt x="119" y="423"/>
                  </a:lnTo>
                  <a:lnTo>
                    <a:pt x="0" y="513"/>
                  </a:lnTo>
                  <a:lnTo>
                    <a:pt x="0" y="59"/>
                  </a:lnTo>
                  <a:close/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37880" y="4201920"/>
              <a:ext cx="801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rocesador 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154760" y="4522680"/>
              <a:ext cx="1343160" cy="14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199680" y="5493960"/>
              <a:ext cx="807120" cy="69948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199680" y="5403240"/>
              <a:ext cx="1004760" cy="90360"/>
            </a:xfrm>
            <a:custGeom>
              <a:avLst/>
              <a:gdLst/>
              <a:ahLst/>
              <a:rect l="l" t="t" r="r" b="b"/>
              <a:pathLst>
                <a:path w="604" h="54">
                  <a:moveTo>
                    <a:pt x="0" y="54"/>
                  </a:moveTo>
                  <a:lnTo>
                    <a:pt x="168" y="0"/>
                  </a:lnTo>
                  <a:lnTo>
                    <a:pt x="604" y="0"/>
                  </a:lnTo>
                  <a:lnTo>
                    <a:pt x="485" y="54"/>
                  </a:lnTo>
                  <a:lnTo>
                    <a:pt x="0" y="54"/>
                  </a:lnTo>
                  <a:close/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006800" y="5403240"/>
              <a:ext cx="197640" cy="789840"/>
            </a:xfrm>
            <a:custGeom>
              <a:avLst/>
              <a:gdLst/>
              <a:ahLst/>
              <a:rect l="l" t="t" r="r" b="b"/>
              <a:pathLst>
                <a:path w="119" h="471">
                  <a:moveTo>
                    <a:pt x="0" y="54"/>
                  </a:moveTo>
                  <a:lnTo>
                    <a:pt x="119" y="0"/>
                  </a:lnTo>
                  <a:lnTo>
                    <a:pt x="119" y="388"/>
                  </a:lnTo>
                  <a:lnTo>
                    <a:pt x="0" y="471"/>
                  </a:lnTo>
                  <a:lnTo>
                    <a:pt x="0" y="54"/>
                  </a:lnTo>
                  <a:close/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278520" y="5514120"/>
              <a:ext cx="683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ispositiv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7312-5884-458A-A7E9-203379C96DBB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pperplate"/>
              </a:rPr>
              <a:t>Diagramas de Despliegue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830592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n especialmente útiles para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bir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stemas empotrado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en los que hay gran cantidad de software interactuado con el hard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ar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stemas distribuido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en los que la asignación de componentes a procesadores puede ser importan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665360" y="3112920"/>
            <a:ext cx="67816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114800" y="3981600"/>
            <a:ext cx="1590840" cy="69048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14800" y="3914640"/>
            <a:ext cx="1882800" cy="66960"/>
          </a:xfrm>
          <a:custGeom>
            <a:avLst/>
            <a:gdLst/>
            <a:ahLst/>
            <a:rect l="l" t="t" r="r" b="b"/>
            <a:pathLst>
              <a:path w="773" h="54">
                <a:moveTo>
                  <a:pt x="0" y="54"/>
                </a:moveTo>
                <a:lnTo>
                  <a:pt x="168" y="0"/>
                </a:lnTo>
                <a:lnTo>
                  <a:pt x="773" y="0"/>
                </a:lnTo>
                <a:lnTo>
                  <a:pt x="653" y="54"/>
                </a:lnTo>
                <a:lnTo>
                  <a:pt x="0" y="54"/>
                </a:lnTo>
                <a:close/>
              </a:path>
            </a:pathLst>
          </a:cu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705640" y="3914640"/>
            <a:ext cx="291960" cy="757440"/>
          </a:xfrm>
          <a:custGeom>
            <a:avLst/>
            <a:gdLst/>
            <a:ahLst/>
            <a:rect l="l" t="t" r="r" b="b"/>
            <a:pathLst>
              <a:path w="120" h="615">
                <a:moveTo>
                  <a:pt x="0" y="54"/>
                </a:moveTo>
                <a:lnTo>
                  <a:pt x="120" y="0"/>
                </a:lnTo>
                <a:lnTo>
                  <a:pt x="120" y="532"/>
                </a:lnTo>
                <a:lnTo>
                  <a:pt x="0" y="615"/>
                </a:lnTo>
                <a:lnTo>
                  <a:pt x="0" y="54"/>
                </a:lnTo>
                <a:close/>
              </a:path>
            </a:pathLst>
          </a:cu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393440" y="3995640"/>
            <a:ext cx="668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ervido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157640" y="4548240"/>
            <a:ext cx="544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preempti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155840" y="4722840"/>
            <a:ext cx="427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dbadm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038120" y="4832280"/>
            <a:ext cx="34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tktmst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001960" y="3325680"/>
            <a:ext cx="742680" cy="35424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001960" y="3252960"/>
            <a:ext cx="1035000" cy="72720"/>
          </a:xfrm>
          <a:custGeom>
            <a:avLst/>
            <a:gdLst/>
            <a:ahLst/>
            <a:rect l="l" t="t" r="r" b="b"/>
            <a:pathLst>
              <a:path w="425" h="60">
                <a:moveTo>
                  <a:pt x="0" y="60"/>
                </a:moveTo>
                <a:lnTo>
                  <a:pt x="173" y="0"/>
                </a:lnTo>
                <a:lnTo>
                  <a:pt x="425" y="0"/>
                </a:lnTo>
                <a:lnTo>
                  <a:pt x="305" y="60"/>
                </a:lnTo>
                <a:lnTo>
                  <a:pt x="0" y="60"/>
                </a:lnTo>
                <a:close/>
              </a:path>
            </a:pathLst>
          </a:cu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744640" y="3252960"/>
            <a:ext cx="292320" cy="426960"/>
          </a:xfrm>
          <a:custGeom>
            <a:avLst/>
            <a:gdLst/>
            <a:ahLst/>
            <a:rect l="l" t="t" r="r" b="b"/>
            <a:pathLst>
              <a:path w="120" h="347">
                <a:moveTo>
                  <a:pt x="0" y="60"/>
                </a:moveTo>
                <a:lnTo>
                  <a:pt x="120" y="0"/>
                </a:lnTo>
                <a:lnTo>
                  <a:pt x="120" y="263"/>
                </a:lnTo>
                <a:lnTo>
                  <a:pt x="0" y="347"/>
                </a:lnTo>
                <a:lnTo>
                  <a:pt x="0" y="60"/>
                </a:lnTo>
                <a:close/>
              </a:path>
            </a:pathLst>
          </a:cu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014920" y="3343320"/>
            <a:ext cx="492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rmi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046240" y="3546360"/>
            <a:ext cx="544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preempti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047320" y="3722760"/>
            <a:ext cx="413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user.ex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001960" y="5583240"/>
            <a:ext cx="742680" cy="35568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001960" y="5511960"/>
            <a:ext cx="1035000" cy="71280"/>
          </a:xfrm>
          <a:custGeom>
            <a:avLst/>
            <a:gdLst/>
            <a:ahLst/>
            <a:rect l="l" t="t" r="r" b="b"/>
            <a:pathLst>
              <a:path w="425" h="59">
                <a:moveTo>
                  <a:pt x="0" y="59"/>
                </a:moveTo>
                <a:lnTo>
                  <a:pt x="173" y="0"/>
                </a:lnTo>
                <a:lnTo>
                  <a:pt x="425" y="0"/>
                </a:lnTo>
                <a:lnTo>
                  <a:pt x="305" y="59"/>
                </a:lnTo>
                <a:lnTo>
                  <a:pt x="0" y="59"/>
                </a:lnTo>
                <a:close/>
              </a:path>
            </a:pathLst>
          </a:cu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744640" y="5511960"/>
            <a:ext cx="292320" cy="426960"/>
          </a:xfrm>
          <a:custGeom>
            <a:avLst/>
            <a:gdLst/>
            <a:ahLst/>
            <a:rect l="l" t="t" r="r" b="b"/>
            <a:pathLst>
              <a:path w="120" h="346">
                <a:moveTo>
                  <a:pt x="0" y="59"/>
                </a:moveTo>
                <a:lnTo>
                  <a:pt x="120" y="0"/>
                </a:lnTo>
                <a:lnTo>
                  <a:pt x="120" y="256"/>
                </a:lnTo>
                <a:lnTo>
                  <a:pt x="0" y="346"/>
                </a:lnTo>
                <a:lnTo>
                  <a:pt x="0" y="59"/>
                </a:lnTo>
                <a:close/>
              </a:path>
            </a:pathLst>
          </a:cu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01600" y="5591160"/>
            <a:ext cx="50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so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892600" y="3465360"/>
            <a:ext cx="1222200" cy="83196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35440" y="3819600"/>
            <a:ext cx="810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10-T Ether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2525760" y="4672080"/>
            <a:ext cx="2536920" cy="87624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73280" y="505476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S-2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075440" y="4076640"/>
            <a:ext cx="746280" cy="35244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075440" y="4010040"/>
            <a:ext cx="1035000" cy="66600"/>
          </a:xfrm>
          <a:custGeom>
            <a:avLst/>
            <a:gdLst/>
            <a:ahLst/>
            <a:rect l="l" t="t" r="r" b="b"/>
            <a:pathLst>
              <a:path w="425" h="54">
                <a:moveTo>
                  <a:pt x="0" y="54"/>
                </a:moveTo>
                <a:lnTo>
                  <a:pt x="168" y="0"/>
                </a:lnTo>
                <a:lnTo>
                  <a:pt x="425" y="0"/>
                </a:lnTo>
                <a:lnTo>
                  <a:pt x="306" y="54"/>
                </a:lnTo>
                <a:lnTo>
                  <a:pt x="0" y="54"/>
                </a:lnTo>
                <a:close/>
              </a:path>
            </a:pathLst>
          </a:cu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821720" y="4010040"/>
            <a:ext cx="288720" cy="419040"/>
          </a:xfrm>
          <a:custGeom>
            <a:avLst/>
            <a:gdLst/>
            <a:ahLst/>
            <a:rect l="l" t="t" r="r" b="b"/>
            <a:pathLst>
              <a:path w="119" h="340">
                <a:moveTo>
                  <a:pt x="0" y="54"/>
                </a:moveTo>
                <a:lnTo>
                  <a:pt x="119" y="0"/>
                </a:lnTo>
                <a:lnTo>
                  <a:pt x="119" y="257"/>
                </a:lnTo>
                <a:lnTo>
                  <a:pt x="0" y="340"/>
                </a:lnTo>
                <a:lnTo>
                  <a:pt x="0" y="54"/>
                </a:lnTo>
                <a:close/>
              </a:path>
            </a:pathLst>
          </a:cu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133400" y="4092480"/>
            <a:ext cx="430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207560" y="4210200"/>
            <a:ext cx="309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A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5865840" y="4215960"/>
            <a:ext cx="1209600" cy="8100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3BF5-490A-42E7-9C0D-E1392243FE9D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pperplate"/>
              </a:rPr>
              <a:t>Diagramas de Despliegue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290" name=""/>
          <p:cNvSpPr/>
          <p:nvPr/>
        </p:nvSpPr>
        <p:spPr>
          <a:xfrm>
            <a:off x="1876320" y="23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despliegue" descr=""/>
          <p:cNvPicPr/>
          <p:nvPr/>
        </p:nvPicPr>
        <p:blipFill>
          <a:blip r:embed="rId1"/>
          <a:stretch/>
        </p:blipFill>
        <p:spPr>
          <a:xfrm>
            <a:off x="1047600" y="2239920"/>
            <a:ext cx="7904160" cy="32544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43570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69F6-3573-4A58-9947-578AA48E2C4B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Contenido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8250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odelado estructur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odelado del comportamient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odelado Arquitectónic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250b0"/>
                </a:solidFill>
                <a:latin typeface="Arial"/>
              </a:rPr>
              <a:t>Componentes y diagramas de componen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250b0"/>
                </a:solidFill>
                <a:latin typeface="Arial"/>
              </a:rPr>
              <a:t>Diagramas de desplieg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Patrones y marcos de trabaj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31DA-0982-4907-929B-66B17D96DCA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Contenido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8250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odelado estructur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odelado del comportamient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odelado Arquitectónic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omponentes y diagramas de componen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250b0"/>
                </a:solidFill>
                <a:latin typeface="Arial"/>
              </a:rPr>
              <a:t>Diagramas de desplieg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250b0"/>
                </a:solidFill>
                <a:latin typeface="Arial"/>
              </a:rPr>
              <a:t>Patrones y marcos de trabaj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F927-9B90-4EB4-BF5A-B264034555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pperplate"/>
              </a:rPr>
              <a:t>Patrones y Marcos de Trabajo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8250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odos los sistemas bien estructurados están llenos de patron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Un patrón proporciona una solución común a un problema en un contexto dad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ecanismo</a:t>
            </a: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 un patrón de diseño que se aplica a una sociedad de clas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arco de trabajo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(framework) es un patrón arquitectónico que proporciona una plantilla extensible para aplicaciones dentro de un domini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187A-327F-4E82-A55E-3D7D04AD1CDC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pperplate"/>
              </a:rPr>
              <a:t>Patrones y Marcos de Trabajo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8250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anto en un sistema nuevo, como en una modificación de un sistema existente no se debe empezar desde cer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Hay que intentar aplicar formas comunes de resolver problem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n sistemas que interactúan con el usuario, una forma probada de organizar las abstracciones es utilizar el patrón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modelo-vista-contr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n sistemas de solución de problemas de forma colaborativa se suele utilizar una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arquitectura de pizarr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n sistemas dirigidos por eventos se utiliza el patrón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adena de responsabilidad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para organizar los manejadores de event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FB80-828F-4EDC-9D8D-EEB8708745F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pperplate"/>
              </a:rPr>
              <a:t>Colaboraciones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69520" y="1390320"/>
            <a:ext cx="8250120" cy="493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n el elemento básico para describir patrones de diseñ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a colaboración permite nombrar a un bloque conceptual que incluye tanto aspectos estáticos como dinámic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nota una sociedad de clases, interfaces y otros elementos que colaboran para proporcionar algún comportamiento cooperativo mayor que la suma de los comportamientos de sus element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5DEA-D65A-4951-BD83-E25C1A8F72CC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pperplate"/>
              </a:rPr>
              <a:t>Colaboraciones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8250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a colaboración tiene dos aspecto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structur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especifica las clases, interfaces o componen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 organizan utilizando las relaciones normales de UML (asociaciones, generalizaciones y dependencia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 contrario que los paquetes o subsistemas,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 contienen a sus elemento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ede hacer referencia o utilizar elementos declarados en distintos siti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 trata de un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loque conceptual de la arquitectura del sistem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mportamient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dinámica de cómo interactúan estos element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 representa mediante diagramas de interacció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be ser consistente con la visión estructur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226D-B79A-4383-9CD9-1C09255A9A51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pperplate"/>
              </a:rPr>
              <a:t>Colaboraciones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303" name=""/>
          <p:cNvSpPr/>
          <p:nvPr/>
        </p:nvSpPr>
        <p:spPr>
          <a:xfrm>
            <a:off x="1219320" y="1495440"/>
            <a:ext cx="74674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559640" y="2092320"/>
            <a:ext cx="303120" cy="185760"/>
          </a:xfrm>
          <a:prstGeom prst="ellipse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174800" y="2384280"/>
            <a:ext cx="704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IDistribui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698920" y="3459240"/>
            <a:ext cx="1935000" cy="99036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456000" y="350352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698920" y="3689280"/>
            <a:ext cx="1935000" cy="76032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698920" y="3776760"/>
            <a:ext cx="1935000" cy="67284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2749680" y="3882960"/>
            <a:ext cx="269640" cy="16524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2749680" y="3882960"/>
            <a:ext cx="269640" cy="16524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2749680" y="3882960"/>
            <a:ext cx="269640" cy="16524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3020040" y="3882960"/>
            <a:ext cx="963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añadirMensaje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4"/>
          <a:stretch/>
        </p:blipFill>
        <p:spPr>
          <a:xfrm>
            <a:off x="2749680" y="4057560"/>
            <a:ext cx="269640" cy="16200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5"/>
          <a:stretch/>
        </p:blipFill>
        <p:spPr>
          <a:xfrm>
            <a:off x="2749680" y="4057560"/>
            <a:ext cx="269640" cy="16200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6"/>
          <a:stretch/>
        </p:blipFill>
        <p:spPr>
          <a:xfrm>
            <a:off x="2749680" y="4057560"/>
            <a:ext cx="269640" cy="1620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3019320" y="4057560"/>
            <a:ext cx="936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quitarMensaje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7"/>
          <a:stretch/>
        </p:blipFill>
        <p:spPr>
          <a:xfrm>
            <a:off x="2749680" y="4230720"/>
            <a:ext cx="269640" cy="16344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8"/>
          <a:stretch/>
        </p:blipFill>
        <p:spPr>
          <a:xfrm>
            <a:off x="2749680" y="4230720"/>
            <a:ext cx="269640" cy="16344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9"/>
          <a:stretch/>
        </p:blipFill>
        <p:spPr>
          <a:xfrm>
            <a:off x="2749680" y="4230720"/>
            <a:ext cx="269640" cy="16344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3019320" y="4230720"/>
            <a:ext cx="473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r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877000" y="3459240"/>
            <a:ext cx="1263600" cy="99036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95880" y="3503520"/>
            <a:ext cx="498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nsa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877000" y="3689280"/>
            <a:ext cx="1263600" cy="76032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877000" y="4297320"/>
            <a:ext cx="1263600" cy="15228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0"/>
          <a:stretch/>
        </p:blipFill>
        <p:spPr>
          <a:xfrm>
            <a:off x="5910120" y="3711600"/>
            <a:ext cx="270000" cy="1620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11"/>
          <a:stretch/>
        </p:blipFill>
        <p:spPr>
          <a:xfrm>
            <a:off x="5910120" y="3711600"/>
            <a:ext cx="270000" cy="16200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12"/>
          <a:stretch/>
        </p:blipFill>
        <p:spPr>
          <a:xfrm>
            <a:off x="5910120" y="3711600"/>
            <a:ext cx="270000" cy="1620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6180120" y="3711600"/>
            <a:ext cx="12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3"/>
          <a:stretch/>
        </p:blipFill>
        <p:spPr>
          <a:xfrm>
            <a:off x="5910120" y="3882960"/>
            <a:ext cx="270000" cy="16524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14"/>
          <a:stretch/>
        </p:blipFill>
        <p:spPr>
          <a:xfrm>
            <a:off x="5910120" y="3882960"/>
            <a:ext cx="270000" cy="16524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15"/>
          <a:stretch/>
        </p:blipFill>
        <p:spPr>
          <a:xfrm>
            <a:off x="5910120" y="3882960"/>
            <a:ext cx="270000" cy="16524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6179400" y="3882960"/>
            <a:ext cx="54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bece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6"/>
          <a:stretch/>
        </p:blipFill>
        <p:spPr>
          <a:xfrm>
            <a:off x="5910120" y="4057560"/>
            <a:ext cx="270000" cy="16200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17"/>
          <a:stretch/>
        </p:blipFill>
        <p:spPr>
          <a:xfrm>
            <a:off x="5910120" y="4057560"/>
            <a:ext cx="270000" cy="16200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18"/>
          <a:stretch/>
        </p:blipFill>
        <p:spPr>
          <a:xfrm>
            <a:off x="5910120" y="4057560"/>
            <a:ext cx="270000" cy="1620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6179760" y="4057560"/>
            <a:ext cx="42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uerp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708360" y="1690560"/>
            <a:ext cx="2506680" cy="98928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911760" y="1722600"/>
            <a:ext cx="1309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ente de Transpor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708360" y="1919160"/>
            <a:ext cx="2506680" cy="76068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708360" y="2354400"/>
            <a:ext cx="2506680" cy="32544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9"/>
          <a:stretch/>
        </p:blipFill>
        <p:spPr>
          <a:xfrm>
            <a:off x="3741840" y="1941480"/>
            <a:ext cx="269640" cy="16200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20"/>
          <a:stretch/>
        </p:blipFill>
        <p:spPr>
          <a:xfrm>
            <a:off x="3741840" y="1941480"/>
            <a:ext cx="269640" cy="16200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21"/>
          <a:stretch/>
        </p:blipFill>
        <p:spPr>
          <a:xfrm>
            <a:off x="3741840" y="1941480"/>
            <a:ext cx="269640" cy="16200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4011120" y="1941480"/>
            <a:ext cx="41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mis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22"/>
          <a:stretch/>
        </p:blipFill>
        <p:spPr>
          <a:xfrm>
            <a:off x="3741840" y="2114640"/>
            <a:ext cx="269640" cy="16344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3"/>
          <a:stretch/>
        </p:blipFill>
        <p:spPr>
          <a:xfrm>
            <a:off x="3741840" y="2114640"/>
            <a:ext cx="269640" cy="16344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4"/>
          <a:stretch/>
        </p:blipFill>
        <p:spPr>
          <a:xfrm>
            <a:off x="3741840" y="2114640"/>
            <a:ext cx="269640" cy="16344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4011120" y="2114640"/>
            <a:ext cx="492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cibi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5"/>
          <a:stretch/>
        </p:blipFill>
        <p:spPr>
          <a:xfrm>
            <a:off x="3741840" y="2460600"/>
            <a:ext cx="269640" cy="154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26"/>
          <a:stretch/>
        </p:blipFill>
        <p:spPr>
          <a:xfrm>
            <a:off x="3741840" y="2460600"/>
            <a:ext cx="269640" cy="15408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27"/>
          <a:stretch/>
        </p:blipFill>
        <p:spPr>
          <a:xfrm>
            <a:off x="3741840" y="2460600"/>
            <a:ext cx="269640" cy="15408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4011840" y="2460600"/>
            <a:ext cx="956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enviarMensaje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86440" y="2179800"/>
            <a:ext cx="673200" cy="53640"/>
          </a:xfrm>
          <a:custGeom>
            <a:avLst/>
            <a:gdLst/>
            <a:ahLst/>
            <a:rect l="l" t="t" r="r" b="b"/>
            <a:pathLst>
              <a:path w="40" h="5">
                <a:moveTo>
                  <a:pt x="0" y="0"/>
                </a:moveTo>
                <a:lnTo>
                  <a:pt x="40" y="0"/>
                </a:lnTo>
                <a:lnTo>
                  <a:pt x="28" y="5"/>
                </a:lnTo>
              </a:path>
            </a:pathLst>
          </a:cu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 flipV="1">
            <a:off x="7359480" y="2123640"/>
            <a:ext cx="200160" cy="5580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6214680" y="2179800"/>
            <a:ext cx="671400" cy="144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4313160" y="2679840"/>
            <a:ext cx="287280" cy="39024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667040" y="27226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4028760" y="3070080"/>
            <a:ext cx="284040" cy="38916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160520" y="3232080"/>
            <a:ext cx="18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.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667040" y="27226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121560" y="3254400"/>
            <a:ext cx="46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Buz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60520" y="3232080"/>
            <a:ext cx="18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.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 flipV="1">
            <a:off x="5390640" y="2679840"/>
            <a:ext cx="336600" cy="39024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727600" y="3070080"/>
            <a:ext cx="335160" cy="38916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113160" y="3232080"/>
            <a:ext cx="18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.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661360" y="2797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13160" y="3232080"/>
            <a:ext cx="18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.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633920" y="3960720"/>
            <a:ext cx="1225440" cy="1800"/>
          </a:xfrm>
          <a:prstGeom prst="line">
            <a:avLst/>
          </a:prstGeom>
          <a:ln w="0">
            <a:solidFill>
              <a:srgbClr val="990033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5676480" y="3960720"/>
            <a:ext cx="182520" cy="4284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 flipV="1">
            <a:off x="5676480" y="3905280"/>
            <a:ext cx="182520" cy="5544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73200" y="5122800"/>
            <a:ext cx="1781280" cy="43488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756080" y="5165640"/>
            <a:ext cx="88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colaDeEntr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573200" y="5361120"/>
            <a:ext cx="1781280" cy="19656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73200" y="5448240"/>
            <a:ext cx="1781280" cy="10944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647800" y="4449600"/>
            <a:ext cx="590760" cy="67320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968560" y="4449600"/>
            <a:ext cx="270000" cy="216000"/>
          </a:xfrm>
          <a:custGeom>
            <a:avLst/>
            <a:gdLst/>
            <a:ahLst/>
            <a:rect l="l" t="t" r="r" b="b"/>
            <a:pathLst>
              <a:path w="96" h="119">
                <a:moveTo>
                  <a:pt x="96" y="0"/>
                </a:moveTo>
                <a:lnTo>
                  <a:pt x="78" y="119"/>
                </a:lnTo>
                <a:lnTo>
                  <a:pt x="0" y="77"/>
                </a:lnTo>
                <a:lnTo>
                  <a:pt x="96" y="0"/>
                </a:lnTo>
                <a:close/>
              </a:path>
            </a:pathLst>
          </a:cu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1760" y="5122800"/>
            <a:ext cx="1579320" cy="43488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061880" y="5165640"/>
            <a:ext cx="786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colaDeSali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911760" y="5361120"/>
            <a:ext cx="1579320" cy="19656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911760" y="5448240"/>
            <a:ext cx="1579320" cy="10944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 flipV="1">
            <a:off x="4046400" y="4449600"/>
            <a:ext cx="486000" cy="67320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46400" y="4449600"/>
            <a:ext cx="233640" cy="216000"/>
          </a:xfrm>
          <a:custGeom>
            <a:avLst/>
            <a:gdLst/>
            <a:ahLst/>
            <a:rect l="l" t="t" r="r" b="b"/>
            <a:pathLst>
              <a:path w="83" h="119">
                <a:moveTo>
                  <a:pt x="0" y="0"/>
                </a:moveTo>
                <a:lnTo>
                  <a:pt x="83" y="89"/>
                </a:lnTo>
                <a:lnTo>
                  <a:pt x="12" y="119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DEA8-BD98-4E05-9FD9-AA98F4287AAD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pperplate"/>
              </a:rPr>
              <a:t>Colaboraciones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1295280" y="1371600"/>
            <a:ext cx="7010280" cy="4723920"/>
            <a:chOff x="1295280" y="1371600"/>
            <a:chExt cx="7010280" cy="4723920"/>
          </a:xfrm>
        </p:grpSpPr>
        <p:sp>
          <p:nvSpPr>
            <p:cNvPr id="386" name=""/>
            <p:cNvSpPr/>
            <p:nvPr/>
          </p:nvSpPr>
          <p:spPr>
            <a:xfrm>
              <a:off x="1295280" y="1371600"/>
              <a:ext cx="7010280" cy="47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139840" y="1613880"/>
              <a:ext cx="189720" cy="226440"/>
            </a:xfrm>
            <a:prstGeom prst="ellipse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216880" y="1827000"/>
              <a:ext cx="1800" cy="20196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072160" y="1881000"/>
              <a:ext cx="280080" cy="18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026800" y="2029320"/>
              <a:ext cx="381600" cy="22896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17"/>
                  </a:moveTo>
                  <a:lnTo>
                    <a:pt x="17" y="0"/>
                  </a:lnTo>
                  <a:lnTo>
                    <a:pt x="34" y="17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970280" y="2390760"/>
              <a:ext cx="444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: Act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216880" y="2927520"/>
              <a:ext cx="1800" cy="295200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162520" y="3183120"/>
              <a:ext cx="110880" cy="50940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162520" y="3935520"/>
              <a:ext cx="110880" cy="52272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881080" y="2244600"/>
              <a:ext cx="1079640" cy="50940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084120" y="2282760"/>
              <a:ext cx="611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: Mensaj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421440" y="2927520"/>
              <a:ext cx="1440" cy="295200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376080" y="3183120"/>
              <a:ext cx="101520" cy="25596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096800" y="2244600"/>
              <a:ext cx="1079640" cy="50940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141080" y="2282760"/>
              <a:ext cx="899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1" lang="es-ES_tradnl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: colaDeSalid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636440" y="2927520"/>
              <a:ext cx="1800" cy="295200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580280" y="3935520"/>
              <a:ext cx="113040" cy="25344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580280" y="4552920"/>
              <a:ext cx="113040" cy="25380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01000" y="2244600"/>
              <a:ext cx="1079640" cy="50940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24840" y="2282760"/>
              <a:ext cx="761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: Agente d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04040" y="2498400"/>
              <a:ext cx="662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Transpor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841000" y="2927520"/>
              <a:ext cx="1440" cy="295200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796000" y="4552920"/>
              <a:ext cx="101520" cy="52308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010200" y="3331080"/>
              <a:ext cx="1958760" cy="1596600"/>
            </a:xfrm>
            <a:custGeom>
              <a:avLst/>
              <a:gdLst/>
              <a:ahLst/>
              <a:rect l="l" t="t" r="r" b="b"/>
              <a:pathLst>
                <a:path w="1041" h="711">
                  <a:moveTo>
                    <a:pt x="0" y="0"/>
                  </a:moveTo>
                  <a:lnTo>
                    <a:pt x="969" y="0"/>
                  </a:lnTo>
                  <a:lnTo>
                    <a:pt x="1041" y="65"/>
                  </a:lnTo>
                  <a:lnTo>
                    <a:pt x="1041" y="711"/>
                  </a:lnTo>
                  <a:lnTo>
                    <a:pt x="0" y="71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010200" y="3331080"/>
              <a:ext cx="1958760" cy="1596600"/>
            </a:xfrm>
            <a:custGeom>
              <a:avLst/>
              <a:gdLst/>
              <a:ahLst/>
              <a:rect l="l" t="t" r="r" b="b"/>
              <a:pathLst>
                <a:path w="174" h="119">
                  <a:moveTo>
                    <a:pt x="0" y="0"/>
                  </a:moveTo>
                  <a:lnTo>
                    <a:pt x="162" y="0"/>
                  </a:lnTo>
                  <a:lnTo>
                    <a:pt x="174" y="11"/>
                  </a:lnTo>
                  <a:lnTo>
                    <a:pt x="174" y="119"/>
                  </a:lnTo>
                  <a:lnTo>
                    <a:pt x="0" y="11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833240" y="3331080"/>
              <a:ext cx="135360" cy="14580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0" y="0"/>
                  </a:moveTo>
                  <a:lnTo>
                    <a:pt x="0" y="11"/>
                  </a:lnTo>
                  <a:lnTo>
                    <a:pt x="12" y="11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054480" y="3358080"/>
              <a:ext cx="157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os agentes de transport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054840" y="3571560"/>
              <a:ext cx="1387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eriódicamente quitan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053760" y="3787560"/>
              <a:ext cx="1363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mensjaes de las cola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054120" y="4002840"/>
              <a:ext cx="1351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signadas, según su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053760" y="4216320"/>
              <a:ext cx="1506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politicas de planifica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273400" y="3183120"/>
              <a:ext cx="1090800" cy="252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3242520" y="3183120"/>
              <a:ext cx="121680" cy="67680"/>
            </a:xfrm>
            <a:prstGeom prst="line">
              <a:avLst/>
            </a:prstGeom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 flipV="1">
              <a:off x="3242520" y="3115800"/>
              <a:ext cx="121680" cy="66960"/>
            </a:xfrm>
            <a:prstGeom prst="line">
              <a:avLst/>
            </a:prstGeom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566440" y="288684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: cre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273400" y="3935520"/>
              <a:ext cx="2306520" cy="18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4446720" y="3935520"/>
              <a:ext cx="133200" cy="66960"/>
            </a:xfrm>
            <a:prstGeom prst="line">
              <a:avLst/>
            </a:prstGeom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 flipV="1">
              <a:off x="4446720" y="3867840"/>
              <a:ext cx="133200" cy="67680"/>
            </a:xfrm>
            <a:prstGeom prst="line">
              <a:avLst/>
            </a:prstGeom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869560" y="3638880"/>
              <a:ext cx="1026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2: añadirMensaj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4693320" y="4552920"/>
              <a:ext cx="1090800" cy="252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693320" y="4552920"/>
              <a:ext cx="135000" cy="67680"/>
            </a:xfrm>
            <a:prstGeom prst="line">
              <a:avLst/>
            </a:prstGeom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4693320" y="4485600"/>
              <a:ext cx="135000" cy="66960"/>
            </a:xfrm>
            <a:prstGeom prst="line">
              <a:avLst/>
            </a:prstGeom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704480" y="4256280"/>
              <a:ext cx="999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3: quitarMensaj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9768-08EB-42C3-B9D7-7DC79AA6B280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3809880" y="4454640"/>
            <a:ext cx="2519640" cy="1412640"/>
          </a:xfrm>
          <a:prstGeom prst="ellipse">
            <a:avLst/>
          </a:prstGeom>
          <a:noFill/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so de Mensaj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pperplate"/>
              </a:rPr>
              <a:t>Colaboraciones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69520" y="1219320"/>
            <a:ext cx="8250120" cy="380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bos diagramas deben ser consisten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s objetos deben ser instancias de cla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s mensajes deben ser operaciones visi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ede haber más de un diagrama de interacción por colaboración, mostrando distintos aspectos de una colaboració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resentació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8D28-CFF6-48A7-98A1-39235DDB2042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pperplate"/>
              </a:rPr>
              <a:t>Colaboraciones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8250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emás de para mostrar patrones de diseño, las colaboraciones pueden utilizarse para mostrar l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alización de los casos de us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implementación de un caso de uso vendrá dada por una o más colaboraciones de los objetos de implementación del sistem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pueden representar en diagramas de casos de uso, utilizando relaciones d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alizació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finamient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9963-69EF-4872-86DE-EBC33D8691BF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pperplate"/>
              </a:rPr>
              <a:t>Colaboraciones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1666800" y="1469880"/>
            <a:ext cx="6702480" cy="4724640"/>
          </a:xfrm>
          <a:prstGeom prst="rect">
            <a:avLst/>
          </a:prstGeom>
          <a:ln cap="sq" w="9360">
            <a:solidFill>
              <a:srgbClr val="000000"/>
            </a:solidFill>
            <a:miter/>
          </a:ln>
          <a:effectLst>
            <a:outerShdw dist="143570" dir="2700000" blurRad="0" rotWithShape="0">
              <a:srgbClr val="868686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E6C4-9A41-4E15-A094-6FADAE423883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pperplate"/>
              </a:rPr>
              <a:t>Mecanismos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8250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Un mecanismo o patrón de diseño se modela como una colaboración parametriza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e representan en UML de forma parecida a como se representan las clases plantill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403880" y="4400640"/>
            <a:ext cx="1904760" cy="838080"/>
          </a:xfrm>
          <a:prstGeom prst="ellipse">
            <a:avLst/>
          </a:prstGeom>
          <a:solidFill>
            <a:srgbClr val="99ccff"/>
          </a:solidFill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serv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394240" y="4019400"/>
            <a:ext cx="1143000" cy="685800"/>
          </a:xfrm>
          <a:prstGeom prst="rect">
            <a:avLst/>
          </a:prstGeom>
          <a:solidFill>
            <a:srgbClr val="99ccff"/>
          </a:solidFill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j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serva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812960" y="3486240"/>
            <a:ext cx="17524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a Tar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432080" y="4705200"/>
            <a:ext cx="243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BarraDesplaz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565440" y="3638520"/>
            <a:ext cx="144792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870360" y="4933800"/>
            <a:ext cx="9144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269240" y="379260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j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645720" y="51912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serva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5AB8-6DAA-46DB-AB35-0111F88DEAEC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pperplate"/>
              </a:rPr>
              <a:t>Componentes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8250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utilizan para modelar los elementos 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físicos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que pueden hallarse en un 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nod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jecu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ibliotec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abl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rchiv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ocument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ben definir abstracciones precisas con interfaces bien definidos y que permitan la 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reemplazabilid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A919-DAF6-4797-8630-6654660BC803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pperplate"/>
              </a:rPr>
              <a:t>Marcos de Trabajo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8250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 un patrón arquitectónico que proporciona una plantilla extensible para aplicaciones dentro de un domini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r ejemplo, para desarrollar un sistema en tiempo real podemos utilizar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 ejecutivo cíclic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a arquitectura orientada a event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 conjunto de tareas con un planificador concret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s tres alternativas pueden estar definidas como marcos de trabajo 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sólo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abrá que instanciarl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6162-F233-4B51-813D-FBFACC8C57D8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pperplate"/>
              </a:rPr>
              <a:t>Marcos de Trabajo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69520" y="1219320"/>
            <a:ext cx="8250120" cy="50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Un marco de trabajo es algo más grande que un mecanism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e puede concebir como una microarquitectura que incluye un conjunto de mecanismos que colaboran para resolver un problema en un dominio comú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Un marco de trabajo se especifica como un paquete estereotipad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ntro del paquete se pueden ver mecanismos existentes en cualquiera de las vistas del siste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o sólo hay mecanismos, también pueden incluirse casos de uso, colaboraciones simples,.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B72B-7B65-4972-B3F5-09C55F2EC511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pperplate"/>
              </a:rPr>
              <a:t>Marcos de Trabajo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2895480" y="1741320"/>
            <a:ext cx="4647960" cy="3505320"/>
            <a:chOff x="2895480" y="1741320"/>
            <a:chExt cx="4647960" cy="3505320"/>
          </a:xfrm>
        </p:grpSpPr>
        <p:sp>
          <p:nvSpPr>
            <p:cNvPr id="452" name=""/>
            <p:cNvSpPr/>
            <p:nvPr/>
          </p:nvSpPr>
          <p:spPr>
            <a:xfrm>
              <a:off x="2895480" y="2274840"/>
              <a:ext cx="4647960" cy="29718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898360" y="1788840"/>
              <a:ext cx="2130480" cy="5270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898360" y="1741320"/>
              <a:ext cx="2130480" cy="57456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969640" y="2046240"/>
              <a:ext cx="1869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jecutivo Cícli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964600" y="1817640"/>
              <a:ext cx="1788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&lt;&lt;framework&gt;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047760" y="3036600"/>
              <a:ext cx="1905120" cy="838440"/>
            </a:xfrm>
            <a:prstGeom prst="ellipse">
              <a:avLst/>
            </a:prstGeom>
            <a:noFill/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estor de Event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038480" y="2655720"/>
              <a:ext cx="1143000" cy="685800"/>
            </a:xfrm>
            <a:prstGeom prst="rect">
              <a:avLst/>
            </a:prstGeom>
            <a:noFill/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lien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Ges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105160" y="4103640"/>
              <a:ext cx="1905120" cy="838080"/>
            </a:xfrm>
            <a:prstGeom prst="ellipse">
              <a:avLst/>
            </a:prstGeom>
            <a:noFill/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ventos Comu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85FB-FDAB-40C5-A2E2-5373629ED044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pperplate"/>
              </a:rPr>
              <a:t>Marcos de Trabajo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8250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os Marcos de Trabajo son diferentes de las bibliotecas de cl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na biblioteca de clases contiene abstracciones que las abstracciones del desarrollador pueden instanciar o invoca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n marco de trabajo contiene abstracciones que pueden instanciar o invocar a las abstracciones del desarrollad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E1D1-C8AB-49C0-BC47-67C3EB03BC68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Resumen Patrones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463" name=""/>
          <p:cNvSpPr/>
          <p:nvPr/>
        </p:nvSpPr>
        <p:spPr>
          <a:xfrm>
            <a:off x="1357200" y="1519200"/>
            <a:ext cx="7299360" cy="3119400"/>
          </a:xfrm>
          <a:prstGeom prst="rect">
            <a:avLst/>
          </a:prstGeom>
          <a:solidFill>
            <a:srgbClr val="cc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tr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1438200" y="2138400"/>
            <a:ext cx="3428640" cy="2189160"/>
            <a:chOff x="1438200" y="2138400"/>
            <a:chExt cx="3428640" cy="2189160"/>
          </a:xfrm>
        </p:grpSpPr>
        <p:sp>
          <p:nvSpPr>
            <p:cNvPr id="465" name=""/>
            <p:cNvSpPr/>
            <p:nvPr/>
          </p:nvSpPr>
          <p:spPr>
            <a:xfrm>
              <a:off x="1686600" y="2138400"/>
              <a:ext cx="3036600" cy="218916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438200" y="2181960"/>
              <a:ext cx="342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Arquitectónic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4873680" y="2144880"/>
            <a:ext cx="3623760" cy="2155680"/>
            <a:chOff x="4873680" y="2144880"/>
            <a:chExt cx="3623760" cy="2155680"/>
          </a:xfrm>
        </p:grpSpPr>
        <p:sp>
          <p:nvSpPr>
            <p:cNvPr id="468" name=""/>
            <p:cNvSpPr/>
            <p:nvPr/>
          </p:nvSpPr>
          <p:spPr>
            <a:xfrm>
              <a:off x="5136480" y="2144880"/>
              <a:ext cx="3209400" cy="21556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873680" y="2189160"/>
              <a:ext cx="362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De diseñ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0" name=""/>
          <p:cNvSpPr/>
          <p:nvPr/>
        </p:nvSpPr>
        <p:spPr>
          <a:xfrm>
            <a:off x="5227560" y="3446640"/>
            <a:ext cx="2287800" cy="6537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lab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5788080" y="2629080"/>
            <a:ext cx="2491920" cy="741240"/>
            <a:chOff x="5788080" y="2629080"/>
            <a:chExt cx="2491920" cy="741240"/>
          </a:xfrm>
        </p:grpSpPr>
        <p:sp>
          <p:nvSpPr>
            <p:cNvPr id="472" name=""/>
            <p:cNvSpPr/>
            <p:nvPr/>
          </p:nvSpPr>
          <p:spPr>
            <a:xfrm>
              <a:off x="5788080" y="2823480"/>
              <a:ext cx="2194200" cy="5468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Mecanism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199280" y="2629080"/>
              <a:ext cx="1080720" cy="412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1860480" y="2743200"/>
            <a:ext cx="1891800" cy="1358280"/>
            <a:chOff x="1860480" y="2743200"/>
            <a:chExt cx="1891800" cy="1358280"/>
          </a:xfrm>
        </p:grpSpPr>
        <p:grpSp>
          <p:nvGrpSpPr>
            <p:cNvPr id="475" name=""/>
            <p:cNvGrpSpPr/>
            <p:nvPr/>
          </p:nvGrpSpPr>
          <p:grpSpPr>
            <a:xfrm>
              <a:off x="1860480" y="2743200"/>
              <a:ext cx="1891800" cy="1358280"/>
              <a:chOff x="1860480" y="2743200"/>
              <a:chExt cx="1891800" cy="1358280"/>
            </a:xfrm>
          </p:grpSpPr>
          <p:sp>
            <p:nvSpPr>
              <p:cNvPr id="476" name=""/>
              <p:cNvSpPr/>
              <p:nvPr/>
            </p:nvSpPr>
            <p:spPr>
              <a:xfrm>
                <a:off x="1860480" y="3047040"/>
                <a:ext cx="1891800" cy="1054440"/>
              </a:xfrm>
              <a:prstGeom prst="rect">
                <a:avLst/>
              </a:prstGeom>
              <a:solidFill>
                <a:srgbClr val="ffcc00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860480" y="2743200"/>
                <a:ext cx="882000" cy="300600"/>
              </a:xfrm>
              <a:prstGeom prst="rect">
                <a:avLst/>
              </a:prstGeom>
              <a:solidFill>
                <a:srgbClr val="ffcc00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8" name=""/>
            <p:cNvSpPr/>
            <p:nvPr/>
          </p:nvSpPr>
          <p:spPr>
            <a:xfrm>
              <a:off x="1976400" y="3168720"/>
              <a:ext cx="164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Marco de Trabaj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3755880" y="3395520"/>
            <a:ext cx="1698840" cy="181080"/>
          </a:xfrm>
          <a:prstGeom prst="line">
            <a:avLst/>
          </a:prstGeom>
          <a:ln cap="sq" w="57240">
            <a:solidFill>
              <a:srgbClr val="5250b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3755880" y="3119040"/>
            <a:ext cx="2025720" cy="228600"/>
          </a:xfrm>
          <a:prstGeom prst="line">
            <a:avLst/>
          </a:prstGeom>
          <a:ln cap="sq" w="57240">
            <a:solidFill>
              <a:srgbClr val="5250b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704120" y="3219480"/>
            <a:ext cx="11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5250b0"/>
                </a:solidFill>
                <a:latin typeface="Times New Roman"/>
              </a:rPr>
              <a:t>INCLUY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377040" y="5524560"/>
            <a:ext cx="2287440" cy="6541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so de u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711840" y="4081320"/>
            <a:ext cx="228600" cy="1486080"/>
          </a:xfrm>
          <a:prstGeom prst="line">
            <a:avLst/>
          </a:prstGeom>
          <a:ln cap="sq" w="57240">
            <a:solidFill>
              <a:srgbClr val="5250b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864480" y="483552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5250b0"/>
                </a:solidFill>
                <a:latin typeface="Times New Roman"/>
              </a:rPr>
              <a:t>REALI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1047600" y="5537160"/>
            <a:ext cx="2235240" cy="836640"/>
            <a:chOff x="1047600" y="5537160"/>
            <a:chExt cx="2235240" cy="836640"/>
          </a:xfrm>
        </p:grpSpPr>
        <p:sp>
          <p:nvSpPr>
            <p:cNvPr id="486" name=""/>
            <p:cNvSpPr/>
            <p:nvPr/>
          </p:nvSpPr>
          <p:spPr>
            <a:xfrm>
              <a:off x="1047600" y="5537160"/>
              <a:ext cx="2235240" cy="836640"/>
            </a:xfrm>
            <a:custGeom>
              <a:avLst/>
              <a:gdLst/>
              <a:ahLst/>
              <a:rect l="l" t="t" r="r" b="b"/>
              <a:pathLst>
                <a:path w="1562" h="631">
                  <a:moveTo>
                    <a:pt x="782" y="614"/>
                  </a:moveTo>
                  <a:cubicBezTo>
                    <a:pt x="908" y="631"/>
                    <a:pt x="1054" y="519"/>
                    <a:pt x="1181" y="535"/>
                  </a:cubicBezTo>
                  <a:cubicBezTo>
                    <a:pt x="1327" y="527"/>
                    <a:pt x="1256" y="546"/>
                    <a:pt x="1346" y="493"/>
                  </a:cubicBezTo>
                  <a:cubicBezTo>
                    <a:pt x="1357" y="478"/>
                    <a:pt x="1562" y="507"/>
                    <a:pt x="1471" y="394"/>
                  </a:cubicBezTo>
                  <a:cubicBezTo>
                    <a:pt x="1327" y="334"/>
                    <a:pt x="1373" y="342"/>
                    <a:pt x="1353" y="266"/>
                  </a:cubicBezTo>
                  <a:cubicBezTo>
                    <a:pt x="1368" y="239"/>
                    <a:pt x="1394" y="239"/>
                    <a:pt x="1421" y="214"/>
                  </a:cubicBezTo>
                  <a:cubicBezTo>
                    <a:pt x="1456" y="183"/>
                    <a:pt x="1446" y="208"/>
                    <a:pt x="1503" y="192"/>
                  </a:cubicBezTo>
                  <a:cubicBezTo>
                    <a:pt x="1535" y="154"/>
                    <a:pt x="1559" y="142"/>
                    <a:pt x="1518" y="92"/>
                  </a:cubicBezTo>
                  <a:cubicBezTo>
                    <a:pt x="1510" y="83"/>
                    <a:pt x="1486" y="86"/>
                    <a:pt x="1471" y="82"/>
                  </a:cubicBezTo>
                  <a:cubicBezTo>
                    <a:pt x="1353" y="48"/>
                    <a:pt x="1501" y="77"/>
                    <a:pt x="1361" y="55"/>
                  </a:cubicBezTo>
                  <a:cubicBezTo>
                    <a:pt x="1256" y="38"/>
                    <a:pt x="1151" y="20"/>
                    <a:pt x="1047" y="0"/>
                  </a:cubicBezTo>
                  <a:cubicBezTo>
                    <a:pt x="952" y="3"/>
                    <a:pt x="858" y="2"/>
                    <a:pt x="765" y="9"/>
                  </a:cubicBezTo>
                  <a:cubicBezTo>
                    <a:pt x="742" y="11"/>
                    <a:pt x="724" y="22"/>
                    <a:pt x="703" y="28"/>
                  </a:cubicBezTo>
                  <a:cubicBezTo>
                    <a:pt x="672" y="35"/>
                    <a:pt x="608" y="45"/>
                    <a:pt x="608" y="45"/>
                  </a:cubicBezTo>
                  <a:cubicBezTo>
                    <a:pt x="553" y="68"/>
                    <a:pt x="473" y="71"/>
                    <a:pt x="411" y="86"/>
                  </a:cubicBezTo>
                  <a:cubicBezTo>
                    <a:pt x="305" y="102"/>
                    <a:pt x="240" y="110"/>
                    <a:pt x="183" y="146"/>
                  </a:cubicBezTo>
                  <a:cubicBezTo>
                    <a:pt x="109" y="194"/>
                    <a:pt x="67" y="232"/>
                    <a:pt x="44" y="302"/>
                  </a:cubicBezTo>
                  <a:cubicBezTo>
                    <a:pt x="26" y="367"/>
                    <a:pt x="0" y="408"/>
                    <a:pt x="29" y="476"/>
                  </a:cubicBezTo>
                  <a:cubicBezTo>
                    <a:pt x="41" y="506"/>
                    <a:pt x="99" y="519"/>
                    <a:pt x="139" y="531"/>
                  </a:cubicBezTo>
                  <a:cubicBezTo>
                    <a:pt x="230" y="557"/>
                    <a:pt x="383" y="572"/>
                    <a:pt x="483" y="577"/>
                  </a:cubicBezTo>
                  <a:cubicBezTo>
                    <a:pt x="567" y="581"/>
                    <a:pt x="651" y="583"/>
                    <a:pt x="735" y="586"/>
                  </a:cubicBezTo>
                  <a:cubicBezTo>
                    <a:pt x="786" y="606"/>
                    <a:pt x="782" y="594"/>
                    <a:pt x="782" y="614"/>
                  </a:cubicBezTo>
                  <a:close/>
                </a:path>
              </a:pathLst>
            </a:custGeom>
            <a:solidFill>
              <a:srgbClr val="ffcc00"/>
            </a:solidFill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181160" y="5611680"/>
              <a:ext cx="1866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Abstrac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del desarrolla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 flipV="1">
            <a:off x="2940120" y="5094360"/>
            <a:ext cx="1322280" cy="490320"/>
          </a:xfrm>
          <a:prstGeom prst="line">
            <a:avLst/>
          </a:prstGeom>
          <a:ln cap="sq" w="57240">
            <a:solidFill>
              <a:srgbClr val="5250b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630520" y="4114800"/>
            <a:ext cx="0" cy="1420920"/>
          </a:xfrm>
          <a:prstGeom prst="line">
            <a:avLst/>
          </a:prstGeom>
          <a:ln cap="sq" w="57240">
            <a:solidFill>
              <a:srgbClr val="5250b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596320" y="4900680"/>
            <a:ext cx="131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5250b0"/>
                </a:solidFill>
                <a:latin typeface="Times New Roman"/>
              </a:rPr>
              <a:t>INSTA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278240" y="4865760"/>
            <a:ext cx="1746360" cy="865080"/>
          </a:xfrm>
          <a:prstGeom prst="flowChartMultidocument">
            <a:avLst/>
          </a:prstGeom>
          <a:solidFill>
            <a:srgbClr val="ffcc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Bibliote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 cl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D44D-AE78-4058-A2CE-CCA83C4D14A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pperplate"/>
              </a:rPr>
              <a:t>Componentes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8250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mponente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 una parte física y reemplazable de un sistema que implementa un conjunto de interfac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áficamente se representa p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3492360" y="3886200"/>
            <a:ext cx="2036520" cy="1747440"/>
            <a:chOff x="3492360" y="3886200"/>
            <a:chExt cx="2036520" cy="1747440"/>
          </a:xfrm>
        </p:grpSpPr>
        <p:sp>
          <p:nvSpPr>
            <p:cNvPr id="97" name=""/>
            <p:cNvSpPr/>
            <p:nvPr/>
          </p:nvSpPr>
          <p:spPr>
            <a:xfrm>
              <a:off x="3781800" y="3886200"/>
              <a:ext cx="1747080" cy="17474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92360" y="4235400"/>
              <a:ext cx="567720" cy="3492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92360" y="4952880"/>
              <a:ext cx="567720" cy="3308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193640" y="4226400"/>
              <a:ext cx="1305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pon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33FC-8034-461B-ADF1-248F942046D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pperplate"/>
              </a:rPr>
              <a:t>Componentes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8250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 muchos sentidos los componentes son como las clas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bos tienen nomb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bos pueden realizar un conjunto de interfa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bos pueden participar en relaciones de dependencia, generalización y asociació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bos pueden anidar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bos pueden participar en interaccio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 embargo, hay diferencias significativ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173F-6BE7-4BBE-8362-8E5C804473E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pperplate"/>
              </a:rPr>
              <a:t>Componentes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8250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erencias entre componentes y clas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s clases representa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bstracciones lógica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y los componente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lementos físico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secuencias de bit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s componentes residen directamente en un nod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s componentes representan el empaquetamiento físico de elementos lógicos (de un distinto nivel de abstracció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s clases tienen atributos y operaciones directamente accesibles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os componentes sólo tienen operaciones alcanzables a través de sus interfa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7AB9-F00E-4FE8-8604-2D4216A4221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pperplate"/>
              </a:rPr>
              <a:t>Componentes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8250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relación entre un componente y las clases que representa puede especificarse explícitamen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523880" y="3124080"/>
            <a:ext cx="1447560" cy="1066320"/>
            <a:chOff x="1523880" y="3124080"/>
            <a:chExt cx="1447560" cy="1066320"/>
          </a:xfrm>
        </p:grpSpPr>
        <p:sp>
          <p:nvSpPr>
            <p:cNvPr id="108" name=""/>
            <p:cNvSpPr/>
            <p:nvPr/>
          </p:nvSpPr>
          <p:spPr>
            <a:xfrm>
              <a:off x="1729080" y="3124080"/>
              <a:ext cx="1242360" cy="1066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23880" y="3336120"/>
              <a:ext cx="410760" cy="2127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23880" y="3786120"/>
              <a:ext cx="410760" cy="2127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23200" y="3177000"/>
              <a:ext cx="555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ien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22840" y="3495960"/>
              <a:ext cx="87228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Simula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(.ex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5638680" y="2666880"/>
            <a:ext cx="1377720" cy="1037520"/>
            <a:chOff x="5638680" y="2666880"/>
            <a:chExt cx="1377720" cy="1037520"/>
          </a:xfrm>
        </p:grpSpPr>
        <p:sp>
          <p:nvSpPr>
            <p:cNvPr id="114" name=""/>
            <p:cNvSpPr/>
            <p:nvPr/>
          </p:nvSpPr>
          <p:spPr>
            <a:xfrm>
              <a:off x="5638680" y="2666880"/>
              <a:ext cx="1377720" cy="103752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759640" y="2770560"/>
              <a:ext cx="907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terfaz CORB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638680" y="3211920"/>
              <a:ext cx="1377720" cy="49212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638680" y="3418920"/>
              <a:ext cx="1377720" cy="28512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5638680" y="4419720"/>
            <a:ext cx="1377720" cy="1037520"/>
            <a:chOff x="5638680" y="4419720"/>
            <a:chExt cx="1377720" cy="1037520"/>
          </a:xfrm>
        </p:grpSpPr>
        <p:sp>
          <p:nvSpPr>
            <p:cNvPr id="119" name=""/>
            <p:cNvSpPr/>
            <p:nvPr/>
          </p:nvSpPr>
          <p:spPr>
            <a:xfrm>
              <a:off x="5638680" y="4419720"/>
              <a:ext cx="1377720" cy="103752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761080" y="4523400"/>
              <a:ext cx="1024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jecutivo Lamin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Datavie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638680" y="4964760"/>
              <a:ext cx="1377720" cy="49212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638680" y="5171760"/>
              <a:ext cx="1377720" cy="28512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 flipH="1">
            <a:off x="2971800" y="2971800"/>
            <a:ext cx="2666880" cy="6094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2971800" y="3733560"/>
            <a:ext cx="2666880" cy="11430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94FE-7794-43E3-AB80-07EB791097E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pperplate"/>
              </a:rPr>
              <a:t>Componentes e Interfaces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8250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Un interfaz es una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colección de operaciones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que se utiliza para especificar un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servicio</a:t>
            </a: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 una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clase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componen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te concepto a dado lugar a los sistemas basados en componentes (COM, CORBA, Java Bean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presentación standard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5410080" y="4648320"/>
            <a:ext cx="1447560" cy="1065960"/>
            <a:chOff x="5410080" y="4648320"/>
            <a:chExt cx="1447560" cy="1065960"/>
          </a:xfrm>
        </p:grpSpPr>
        <p:sp>
          <p:nvSpPr>
            <p:cNvPr id="128" name=""/>
            <p:cNvSpPr/>
            <p:nvPr/>
          </p:nvSpPr>
          <p:spPr>
            <a:xfrm>
              <a:off x="5615280" y="4648320"/>
              <a:ext cx="1242360" cy="10659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410080" y="4860360"/>
              <a:ext cx="410760" cy="2127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410080" y="5310360"/>
              <a:ext cx="410760" cy="2127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907600" y="4701240"/>
              <a:ext cx="943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isualizad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911200" y="5020200"/>
              <a:ext cx="36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115520" y="5029200"/>
            <a:ext cx="677520" cy="668880"/>
            <a:chOff x="4115520" y="5029200"/>
            <a:chExt cx="677520" cy="668880"/>
          </a:xfrm>
        </p:grpSpPr>
        <p:sp>
          <p:nvSpPr>
            <p:cNvPr id="134" name=""/>
            <p:cNvSpPr/>
            <p:nvPr/>
          </p:nvSpPr>
          <p:spPr>
            <a:xfrm>
              <a:off x="4312080" y="5029200"/>
              <a:ext cx="300960" cy="272880"/>
            </a:xfrm>
            <a:prstGeom prst="ellipse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115520" y="5454360"/>
              <a:ext cx="67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terfa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4572000" y="518148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1905120" y="4648320"/>
            <a:ext cx="1242720" cy="1066680"/>
          </a:xfrm>
          <a:prstGeom prst="rect">
            <a:avLst/>
          </a:prstGeom>
          <a:solidFill>
            <a:srgbClr val="ffffcc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941560" y="4861080"/>
            <a:ext cx="411120" cy="212400"/>
          </a:xfrm>
          <a:prstGeom prst="rect">
            <a:avLst/>
          </a:prstGeom>
          <a:solidFill>
            <a:srgbClr val="ffffcc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941560" y="5310360"/>
            <a:ext cx="411120" cy="212400"/>
          </a:xfrm>
          <a:prstGeom prst="rect">
            <a:avLst/>
          </a:prstGeom>
          <a:solidFill>
            <a:srgbClr val="ffffcc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3342600" y="47005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210760" y="50292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352680" y="5181480"/>
            <a:ext cx="9144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95480" y="601992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depend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581280" y="5333760"/>
            <a:ext cx="7632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518080" y="40845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realiz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5105160" y="4343400"/>
            <a:ext cx="53316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4D3D-63AC-4AE9-B820-2F849FAB7FB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pperplate"/>
              </a:rPr>
              <a:t>Componentes e Interfaces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8250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existencia de los interfaces rompe la dependencia entre los componen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 componente que utiliza una interfaz determinada funcionará adecuadamente independientemente del componente que realice la interfaz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 componente que realiza la interfaz es siempre sustituible por un componente o conjunto de componentes que implementen dicha interfaz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 componente puede utilizarse en un contexto determinado si y sólo si todas sus interfaces de importación son suministradas por otros componen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82FA-D1DA-4257-8F3F-2D10EB8001F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6:36Z</dcterms:created>
  <dc:creator>Antonio Maña</dc:creator>
  <dc:description/>
  <dc:language>en-US</dc:language>
  <cp:lastModifiedBy>AMG</cp:lastModifiedBy>
  <cp:lastPrinted>1999-11-25T17:14:44Z</cp:lastPrinted>
  <dcterms:modified xsi:type="dcterms:W3CDTF">2004-11-14T19:23:48Z</dcterms:modified>
  <cp:revision>501</cp:revision>
  <dc:subject/>
  <dc:title>Capacitación</dc:title>
</cp:coreProperties>
</file>