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12C-0722-4725-90E0-823A429092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BB7B-FAD8-4476-ACBC-641CE4FB8B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EFE-6D22-4B3D-BD1A-7D17CC7E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6B6-5A0D-4445-96C3-9C4603C1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A20-1292-4A36-9BBF-2CD38BB2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AF8-AB95-41DC-B5E6-9797D4EA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C550-6B54-4DB8-B5E7-851A2B6B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29F2-68C1-40AB-A76B-BF38403B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79DE-9C7F-4892-9E51-A2D2262B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A4E-65C3-4CBC-952C-2C3F5D59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8EDE-D597-47F0-B3BB-DEE6C658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731E-8B18-4D63-8517-7BB39C6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C6F-DA27-4607-B7A6-4B0D37E7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0D0-64EB-4B4B-95D3-77F57FA8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ACF-6EB6-4736-A4F8-B861E86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26BF-3A2D-4AC2-81EF-428711D3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73E-7BDE-4CC6-B5A0-2371143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7D6-DE46-4727-8D74-C4E4F442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3C25-95E2-4CA6-A3F6-6EAD7091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054D-18C5-4D88-8B51-88D77261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BEAF-0C70-4AB3-97A1-890E9B7F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49C3-72F5-41B9-8B41-68634EB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FDCF-998E-436D-AD17-7BCA2D5E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109A-89DD-4A7B-A620-48E67426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EAD-CA7B-4FD3-85D1-0404DD30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0E67-64E6-45A0-B52E-6E62ADB2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3FF5-0E2D-4DF3-9B39-E0D1F2C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68ED-58FB-4F1B-9B41-9C16C5C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FAE8-3056-46DA-847D-0320625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D038-56DB-43FF-AC85-27AC8652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FEE4-9205-480D-AE60-A7356BBB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A00B-F964-427F-A6DE-622EAFF2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4C996-3A91-405B-8BAC-F8E671BD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C2B7-4DCE-4F09-BBB8-52CB77E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73702-7686-4AA8-AF0C-7B97FA17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49F-5892-493A-86AE-ADE1E169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ECD4-9478-49FA-8F64-6F8D937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84A6-9E45-42AC-BC9B-E3138D3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9DBC-FE3F-4F8D-86DA-D8E12DE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FD8D-0814-4209-93F7-C9457550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B573-567A-4312-AF40-CEF3EEC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F9C1-B653-4544-AF67-5D33E07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60DF-56AE-4836-BBED-DF4BD1CB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CF10-ED61-45B2-A715-02B853CB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2D7A-0DBD-4BB8-AEF8-DF1A1239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776E-2BD8-47D9-A891-F6D71304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F0C-E7E1-402A-BF1E-25453C2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BB75-170F-406D-9D04-087620F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0152-1BD8-477A-A92F-F17A9BD0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F3E1C-EC61-40FD-B992-56B6BAE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3DB1-34E8-481C-9B54-E1BDC85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7553-3D62-45F3-98C4-0ED6480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71E1-7DE5-44C3-B3B8-F60E694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DCF2-0E12-4C90-BCA0-D2D13A5A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5254-19CA-41D6-8B94-C9FD470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2BC4-7333-404C-8A62-44656D75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4392-A3AF-4A61-A5DD-05CA553F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08C-E571-4F30-9E9A-BC205276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5E1A-769C-466C-A9E6-24839470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47CF9-F26F-45D6-A361-8FF00FD0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4508A-7020-4226-87D9-3F1E508B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3E0E-E678-4E31-824D-93766A04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A7B6-4480-410C-B990-547CF0E3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5096-51DA-4E46-B353-A57CD0D5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00B9-B4A9-4716-837A-736903A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96222-D5FB-4A7D-AA5B-2CDEA50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155C6-EEC8-4524-BA8C-56065DE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A776-8EEE-4A8C-9894-D8CE07A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B4C-979C-4D24-8887-E0FFC3EB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5A6A-29F6-43FC-BB4D-A4403C2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17B69-77B8-465F-BAF0-3DC5F6E1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176C7-2E53-48D8-831F-ACB87297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7778-4630-48DA-AFD9-71428D07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34F0C-5B44-4951-8F4D-917EFB1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0FF29-0FE7-446E-AD20-B14BAB47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D83B-0580-4034-ACEE-BB3DE44C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FA035-1F53-4737-A388-3168B5C1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D1195-B470-4A6C-A509-CE47F470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AEF6-F591-4AD2-9DED-5C1E7FC6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BEE-C416-4BDC-A5B1-499108E0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0D39-AD9D-4270-88DD-F565995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94483-2610-4F7D-8633-6B235815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413CF-1FE3-449D-89FA-77D6DD5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3C9F-7B99-4F3B-A5B3-F47D1BF2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C995E-665F-4FD2-B24C-F3041413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9CA-B15E-46E5-B368-9EC77052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9AC5-1A18-419E-911B-7B58996607AE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D2AC-31EF-4736-BB6E-F6C000EF2765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453-9C65-4AAE-811D-CD8A517CD1DA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CF4D-D4EB-4ED0-B12F-F1B3F7BEC774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169-5569-4815-9ACF-B1B3EEA44566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A379-5890-4AF5-BF00-4C32C60F483E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FB7-C21B-427F-9E40-4983F8EF3A5F}" type="slidenum">
              <a:rPr b="0" lang="es-E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3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376" name="Rectangle 2" descr=""/>
          <p:cNvPicPr/>
          <p:nvPr/>
        </p:nvPicPr>
        <p:blipFill>
          <a:blip r:embed="rId2"/>
          <a:stretch/>
        </p:blipFill>
        <p:spPr>
          <a:xfrm>
            <a:off x="212760" y="1547640"/>
            <a:ext cx="8839080" cy="27324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928520" y="4724280"/>
            <a:ext cx="7062840" cy="17272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rbel"/>
              </a:rPr>
              <a:t>Manchón López, Javi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rbel"/>
              </a:rPr>
              <a:t>Gutiérrez Ortega, Juan José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rbel"/>
              </a:rPr>
              <a:t>Sánchez Matas, Manuel Jesú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7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Ejemplo práctico medi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784520"/>
            <a:ext cx="380052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2"/>
          <a:stretch/>
        </p:blipFill>
        <p:spPr>
          <a:xfrm>
            <a:off x="1000080" y="1928880"/>
            <a:ext cx="3289320" cy="3286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"/>
          <p:cNvPicPr/>
          <p:nvPr/>
        </p:nvPicPr>
        <p:blipFill>
          <a:blip r:embed="rId3"/>
          <a:stretch/>
        </p:blipFill>
        <p:spPr>
          <a:xfrm>
            <a:off x="5286240" y="3000240"/>
            <a:ext cx="3302280" cy="3357720"/>
          </a:xfrm>
          <a:prstGeom prst="rect">
            <a:avLst/>
          </a:prstGeom>
          <a:ln w="0">
            <a:noFill/>
          </a:ln>
        </p:spPr>
      </p:pic>
      <p:sp>
        <p:nvSpPr>
          <p:cNvPr id="429" name="7 Rectángulo"/>
          <p:cNvSpPr/>
          <p:nvPr/>
        </p:nvSpPr>
        <p:spPr>
          <a:xfrm>
            <a:off x="5718600" y="2357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ablero solución, 7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8 Rectángulo"/>
          <p:cNvSpPr/>
          <p:nvPr/>
        </p:nvSpPr>
        <p:spPr>
          <a:xfrm>
            <a:off x="1290960" y="53578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ablero de partida, 7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6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Ejemplo práctico difíci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5143680" y="3071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3"/>
          <a:stretch/>
        </p:blipFill>
        <p:spPr>
          <a:xfrm>
            <a:off x="1071720" y="1857240"/>
            <a:ext cx="3214440" cy="3214800"/>
          </a:xfrm>
          <a:prstGeom prst="rect">
            <a:avLst/>
          </a:prstGeom>
          <a:ln w="0">
            <a:noFill/>
          </a:ln>
        </p:spPr>
      </p:pic>
      <p:sp>
        <p:nvSpPr>
          <p:cNvPr id="435" name="9 Rectángulo"/>
          <p:cNvSpPr/>
          <p:nvPr/>
        </p:nvSpPr>
        <p:spPr>
          <a:xfrm>
            <a:off x="1362240" y="535788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ablero de partida, 9x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10 Rectángulo"/>
          <p:cNvSpPr/>
          <p:nvPr/>
        </p:nvSpPr>
        <p:spPr>
          <a:xfrm>
            <a:off x="5432760" y="242892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Tablero solución, 9x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3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1eeff"/>
                </a:solidFill>
                <a:latin typeface="Consolas"/>
              </a:rPr>
              <a:t>Referencias Bibliográficas/We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0040" y="20718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(Wikipedia, 2009) http://es.wikipedia.org/wiki/Hashiwokakero. Acceso, 25 de noviembre de 200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(Microsiervos) http://www.microsiervos.com/archivo/juegos-y-diversion/hashiwokakero.ht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4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71320" y="642960"/>
            <a:ext cx="8143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rbel"/>
              </a:rPr>
              <a:t>Hashiwokakero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rbe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orbel"/>
              </a:rPr>
              <a:t>es un puzzle lógico de origen japonés. Se juega en un tablero rectangular de tamaño no normalizado, dispuesto en celdas como una rejilla. Algunas celdas contienen números con valores del 1 al 8, normalmente marcadas con un círculo, y representan las islas. Las celdas restantes están vacías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Corbel"/>
              </a:rPr>
              <a:t>Objetivo: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Corbe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orbel"/>
              </a:rPr>
              <a:t>conectar todas las islas entre si mediante la creación de puentes entre isla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2"/>
          <a:stretch/>
        </p:blipFill>
        <p:spPr>
          <a:xfrm>
            <a:off x="2928960" y="3643200"/>
            <a:ext cx="3643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3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Reglas del jueg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rbel"/>
              </a:rPr>
              <a:t>Cada puente debe comenzar y finalizar en islas distintas, uniéndolas mediante una línea recta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rbel"/>
              </a:rPr>
              <a:t>Ningún puente puede cruzarse con otro puente o con otra isla distinta de las que un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rbel"/>
              </a:rPr>
              <a:t>Las trayectorias deben ser perpendiculares. Es decir solo pueden ser horizontales o verticales.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Corbel"/>
              </a:rPr>
              <a:t>Entre dos islas sólo puede haber como máxima dos puentes que las conecte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rbel"/>
              </a:rPr>
              <a:t>El número total de puentes conectados a cada isla debe coincidir con el número en esa isl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3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lanteamiento del jueg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Para resolver el juego, buscamos en la matriz aquellos números adyacentes por filas y columnas (horizontal y verticalmente) que sean distintos d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,para crear todos los posibles puentes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Numeramos las islas desde 1 hasta N*M, siendo N el número de filas y M de columnas, utilizando la siguiente fórmula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Corbel"/>
              </a:rPr>
              <a:t>isla = M * (i-1) + j  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siendo i el nº de fila y j el nº de la columna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Un ejemplo de una matriz de 3x3 seria: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21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[1 2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4 5 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Corbel"/>
              </a:rPr>
              <a:t>7 8 9]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3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Planteamiento del jueg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lamamos a Xi_j a la línea(puente) que va desde la isla i hasta las isla j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Ej: Si el puente que va de la isla 2 a la isla 10 esta activo el valor de X2_10=1,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en caso de no estar activo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También tenemos que tener  en cuenta que existe un puente opuesto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41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Restricciones del jueg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28760" y="2071440"/>
            <a:ext cx="8229600" cy="37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Solo existe un tipo de restricción, que es aquella en la que los puentes que unen dos islas no se crucen con los puentes de otras dos isl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4 Elipse"/>
          <p:cNvSpPr/>
          <p:nvPr/>
        </p:nvSpPr>
        <p:spPr>
          <a:xfrm>
            <a:off x="928800" y="500076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5 Elipse"/>
          <p:cNvSpPr/>
          <p:nvPr/>
        </p:nvSpPr>
        <p:spPr>
          <a:xfrm>
            <a:off x="1714680" y="5643720"/>
            <a:ext cx="64260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6 Elipse"/>
          <p:cNvSpPr/>
          <p:nvPr/>
        </p:nvSpPr>
        <p:spPr>
          <a:xfrm>
            <a:off x="2428920" y="500076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7 Elipse"/>
          <p:cNvSpPr/>
          <p:nvPr/>
        </p:nvSpPr>
        <p:spPr>
          <a:xfrm>
            <a:off x="1714680" y="4357800"/>
            <a:ext cx="64260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10 Conector recto"/>
          <p:cNvSpPr/>
          <p:nvPr/>
        </p:nvSpPr>
        <p:spPr>
          <a:xfrm>
            <a:off x="1571760" y="5214960"/>
            <a:ext cx="857160" cy="0"/>
          </a:xfrm>
          <a:prstGeom prst="line">
            <a:avLst/>
          </a:prstGeom>
          <a:ln w="11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15 Conector recto"/>
          <p:cNvSpPr/>
          <p:nvPr/>
        </p:nvSpPr>
        <p:spPr>
          <a:xfrm flipV="1">
            <a:off x="2035080" y="4786200"/>
            <a:ext cx="0" cy="85752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25 Elipse"/>
          <p:cNvSpPr/>
          <p:nvPr/>
        </p:nvSpPr>
        <p:spPr>
          <a:xfrm>
            <a:off x="3214800" y="564372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26 Elipse"/>
          <p:cNvSpPr/>
          <p:nvPr/>
        </p:nvSpPr>
        <p:spPr>
          <a:xfrm>
            <a:off x="3214800" y="435780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27 Conector recto"/>
          <p:cNvSpPr/>
          <p:nvPr/>
        </p:nvSpPr>
        <p:spPr>
          <a:xfrm flipV="1">
            <a:off x="3571920" y="4786200"/>
            <a:ext cx="0" cy="85752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28 Elipse"/>
          <p:cNvSpPr/>
          <p:nvPr/>
        </p:nvSpPr>
        <p:spPr>
          <a:xfrm>
            <a:off x="5286240" y="500076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29 Elipse"/>
          <p:cNvSpPr/>
          <p:nvPr/>
        </p:nvSpPr>
        <p:spPr>
          <a:xfrm>
            <a:off x="6072120" y="564372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30 Elipse"/>
          <p:cNvSpPr/>
          <p:nvPr/>
        </p:nvSpPr>
        <p:spPr>
          <a:xfrm>
            <a:off x="6786720" y="500076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31 Elipse"/>
          <p:cNvSpPr/>
          <p:nvPr/>
        </p:nvSpPr>
        <p:spPr>
          <a:xfrm>
            <a:off x="6072120" y="435780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32 Conector recto"/>
          <p:cNvSpPr/>
          <p:nvPr/>
        </p:nvSpPr>
        <p:spPr>
          <a:xfrm>
            <a:off x="5929200" y="5214960"/>
            <a:ext cx="857520" cy="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33 Conector recto"/>
          <p:cNvSpPr/>
          <p:nvPr/>
        </p:nvSpPr>
        <p:spPr>
          <a:xfrm>
            <a:off x="6500160" y="4572000"/>
            <a:ext cx="1322280" cy="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34 Elipse"/>
          <p:cNvSpPr/>
          <p:nvPr/>
        </p:nvSpPr>
        <p:spPr>
          <a:xfrm>
            <a:off x="7572240" y="564372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35 Elipse"/>
          <p:cNvSpPr/>
          <p:nvPr/>
        </p:nvSpPr>
        <p:spPr>
          <a:xfrm>
            <a:off x="7572240" y="4357800"/>
            <a:ext cx="642960" cy="428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ab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36 Conector recto"/>
          <p:cNvSpPr/>
          <p:nvPr/>
        </p:nvSpPr>
        <p:spPr>
          <a:xfrm flipH="1">
            <a:off x="6429240" y="5857920"/>
            <a:ext cx="1214640" cy="0"/>
          </a:xfrm>
          <a:prstGeom prst="line">
            <a:avLst/>
          </a:prstGeom>
          <a:ln w="118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40 CuadroTexto"/>
          <p:cNvSpPr/>
          <p:nvPr/>
        </p:nvSpPr>
        <p:spPr>
          <a:xfrm>
            <a:off x="1000080" y="3714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92d050"/>
                </a:solidFill>
                <a:latin typeface="Arial"/>
              </a:rPr>
              <a:t>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22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1eeff"/>
                </a:solidFill>
                <a:latin typeface="Consolas"/>
              </a:rPr>
              <a:t>Restricciones del jueg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876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Para que se cumpla esta restricción la suma de los puentes activos que se cruzan debe ser &lt;=1, ya que sólo uno de los puentes puede estar activo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Ej: Si se cruzan las islas 2 y 10 con la 5 y 7 tendríamo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X2_10 + X5_7 &lt;=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X10_2 + x5_7 &lt;=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X2_10 + X7_5 &lt;=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X10_2 + X7_5 &lt;=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199520" indent="-169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1199520" indent="-169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3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1eeff"/>
                </a:solidFill>
                <a:latin typeface="Consolas"/>
              </a:rPr>
              <a:t>Modelado de un ejemplo si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207180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La Matriz introducida en Matlab y la matriz de islas correspondiente serí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[1 2 0             [1 2 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0 6 4    =&gt;     4 5 6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3 4 2]              7 8 9]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5 Imagen" descr="009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42960" y="1643040"/>
            <a:ext cx="337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Corbel"/>
              </a:rPr>
              <a:t>Minimizar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Corbel"/>
              </a:rPr>
              <a:t>+x1_2 +x2_1 +x1_3 +x3_1 +x1_4 +x4_1 +x1_7 +x7_1 +x2_3 +x3_2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Corbel"/>
              </a:rPr>
              <a:t>+x2_5 +x5_2 +x2_8 +x8_2 +x3_6 +x6_3 +x3_9 +x9_3 +x4_5 +x5_4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Corbel"/>
              </a:rPr>
              <a:t>+x4_6 +x6_4 +x4_7 +x7_4 +x5_6 +x6_5 +x5_8 +x8_5 +x6_9 +x9_6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00"/>
                </a:solidFill>
                <a:latin typeface="Corbel"/>
              </a:rPr>
              <a:t>+x7_8 +x8_7 +x7_9 +x9_7 +x8_9 +x9_8 ;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7 Rectángulo"/>
          <p:cNvSpPr/>
          <p:nvPr/>
        </p:nvSpPr>
        <p:spPr>
          <a:xfrm>
            <a:off x="4714920" y="2143080"/>
            <a:ext cx="4143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1_2 + x2_1 + x1_7 + x7_1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2_1 + x1_2 + x2_5 + x5_2 = 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5_6 + x6_5 + x5_2 + x2_5 + x5_8 + x8_5 = 6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6_5 + x5_6 + x6_9 + x9_6 = 4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7_8 + x8_7 + x7_1 + x1_7 = 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8_7 + x7_8 + x8_9 + x9_8 + x8_5 + x5_8 = 4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9_8 + x8_9 + x9_6 + x6_9 = 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2_8 + x4_6 &lt;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2_8 + x6_4 &lt;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8_2 + x4_6 &lt;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8_2 + x6_4 &lt;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∀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xi_j </a:t>
            </a:r>
            <a:r>
              <a:rPr b="0" lang="az-Cyrl-AZ" sz="1800" spc="-1" strike="noStrike">
                <a:solidFill>
                  <a:srgbClr val="ffff00"/>
                </a:solidFill>
                <a:latin typeface="Arial"/>
              </a:rPr>
              <a:t>є {0, 1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8 Rectángulo"/>
          <p:cNvSpPr/>
          <p:nvPr/>
        </p:nvSpPr>
        <p:spPr>
          <a:xfrm>
            <a:off x="785880" y="8571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odelado del problema seria el siguient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7:21:28Z</dcterms:created>
  <dc:creator>Manuel </dc:creator>
  <dc:description/>
  <dc:language>en-US</dc:language>
  <cp:lastModifiedBy>Usuario de Windows</cp:lastModifiedBy>
  <dcterms:modified xsi:type="dcterms:W3CDTF">2010-01-19T19:18:45Z</dcterms:modified>
  <cp:revision>67</cp:revision>
  <dc:subject/>
  <dc:title>Slither Link </dc:title>
</cp:coreProperties>
</file>